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38F9-808D-41A8-BDD2-2BD59CF25C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34CE-63DF-4412-BCD5-D50014DA18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E558-459C-44AF-BD03-E1D19ABDB8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ABBC-A0F8-44C7-9D9E-A32F1C076D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716A-2437-44DE-96CE-7A7917ACF0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DEB0-5FE4-4206-BA64-7C8F0638E7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058D-4EC1-42C7-8709-6A4D5CC8BE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3F3A-3AF4-4069-8047-8EE945335F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57FB-9DA1-4207-A0B2-7181035281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C259-4857-47EB-87AF-70E5BB06A8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FFC7-2462-4FCC-B85E-C0FC3823A7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5670-9BCC-47D3-8B84-5428C353A6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90CA-AEC6-4949-9EB3-46E71EB5B6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0161-0663-4EC4-8348-ADB737CE3A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A34E-1A65-40D2-882D-EA5723CA7F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A0AA-D392-4A77-BCF1-7D95D2D927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E9BB-0A37-43E6-8853-E2A7A85211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D1DA-DA8C-41B9-942C-AC5C55856E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4369-0972-425F-BF45-020F6A2F87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1B28-D15E-4E18-B14C-539060842B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0166-8A87-42DC-8711-66EAB00F91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9F33-F363-4824-8069-5444D998E9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7179-9EA9-45C0-984D-FE4C08FB48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0D0A-82D8-4162-8176-B8C1ADC804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D570-F9AF-43F9-9981-22507C5A71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7EBB-BC1B-4BC4-93E9-21E51456FF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2F2C-B870-4559-83CF-1B18E22DC4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DF6D9-B9A0-457D-B3A8-7452789C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D597C-4ADB-47BC-A4C3-A41F31DB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AFA87-A6FF-49A8-AB0A-DF62FED2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81E1C-1465-4896-84BA-8095CF0C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6455A-D75E-4113-8661-78C39A9E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8AF54-8F80-4F0C-9921-9309891A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C08D9-FC99-417D-B154-405EA58A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0299C-2D3B-49CC-8699-FCBBA7A0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05E91-B62F-4F9C-8A36-39393CA4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8DCFE-D155-41F5-BD91-51B1B180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47C77-88A0-4A85-894F-D4D98323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E27C0-1A9D-43D0-8A7F-5D417F65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3836E-FB0F-4DF3-A643-814D077C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BAA15-B3CA-4AFB-811D-7155A380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C01FC-11A1-4B3B-B9D6-27643B42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2BB67-320E-4A18-8E18-0A686969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F34FF-0004-401B-89B3-7EACFD11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D5949-69D8-439E-A67B-08484D71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4A072-02F6-4BA0-8839-BEC343DF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5EFEC-7EA1-4CA2-B9FD-ACB270D8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59615-3A64-48D6-ACD7-1DD7D2DA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40F03-A223-43E7-9B90-670B2361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570E7-F620-44BA-A5EC-4FD860BD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4F7FE-B463-4F25-8A4A-A8D3BCC3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332000" y="1500120"/>
            <a:ext cx="7812000" cy="1073160"/>
          </a:xfrm>
          <a:prstGeom prst="rect">
            <a:avLst/>
          </a:prstGeom>
          <a:gradFill rotWithShape="0">
            <a:gsLst>
              <a:gs pos="0">
                <a:srgbClr val="0055a1">
                  <a:alpha val="89019"/>
                </a:srgbClr>
              </a:gs>
              <a:gs pos="100000">
                <a:srgbClr val="0055a1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7308720" y="6308640"/>
            <a:ext cx="16560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Oval 49"/>
          <p:cNvSpPr/>
          <p:nvPr/>
        </p:nvSpPr>
        <p:spPr>
          <a:xfrm>
            <a:off x="900000" y="44280"/>
            <a:ext cx="1079640" cy="1484640"/>
          </a:xfrm>
          <a:prstGeom prst="ellipse">
            <a:avLst/>
          </a:prstGeom>
          <a:solidFill>
            <a:srgbClr val="004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46"/>
          <p:cNvSpPr/>
          <p:nvPr/>
        </p:nvSpPr>
        <p:spPr>
          <a:xfrm>
            <a:off x="826920" y="0"/>
            <a:ext cx="1079640" cy="1484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47"/>
          <p:cNvSpPr/>
          <p:nvPr/>
        </p:nvSpPr>
        <p:spPr>
          <a:xfrm>
            <a:off x="755640" y="0"/>
            <a:ext cx="1079640" cy="141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8"/>
          <p:cNvSpPr/>
          <p:nvPr/>
        </p:nvSpPr>
        <p:spPr>
          <a:xfrm>
            <a:off x="0" y="73080"/>
            <a:ext cx="1332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0"/>
          <p:cNvSpPr/>
          <p:nvPr/>
        </p:nvSpPr>
        <p:spPr>
          <a:xfrm>
            <a:off x="684360" y="1357200"/>
            <a:ext cx="84596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1"/>
          <p:cNvSpPr/>
          <p:nvPr/>
        </p:nvSpPr>
        <p:spPr>
          <a:xfrm>
            <a:off x="0" y="189000"/>
            <a:ext cx="684360" cy="666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8" descr="marque UNIT rvb 6cm"/>
          <p:cNvPicPr/>
          <p:nvPr/>
        </p:nvPicPr>
        <p:blipFill>
          <a:blip r:embed="rId2"/>
          <a:stretch/>
        </p:blipFill>
        <p:spPr>
          <a:xfrm>
            <a:off x="250920" y="189000"/>
            <a:ext cx="1441440" cy="557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35"/>
          <p:cNvSpPr/>
          <p:nvPr/>
        </p:nvSpPr>
        <p:spPr>
          <a:xfrm>
            <a:off x="611280" y="907920"/>
            <a:ext cx="73080" cy="5950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55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8"/>
          <p:cNvSpPr/>
          <p:nvPr/>
        </p:nvSpPr>
        <p:spPr>
          <a:xfrm>
            <a:off x="0" y="1285920"/>
            <a:ext cx="914400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6"/>
          <p:cNvSpPr/>
          <p:nvPr/>
        </p:nvSpPr>
        <p:spPr>
          <a:xfrm>
            <a:off x="0" y="1357200"/>
            <a:ext cx="9144000" cy="73080"/>
          </a:xfrm>
          <a:prstGeom prst="rect">
            <a:avLst/>
          </a:prstGeom>
          <a:solidFill>
            <a:srgbClr val="005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logo section 3 72dpi"/>
          <p:cNvPicPr/>
          <p:nvPr/>
        </p:nvPicPr>
        <p:blipFill>
          <a:blip r:embed="rId2"/>
          <a:srcRect l="10404" t="0" r="0" b="19251"/>
          <a:stretch/>
        </p:blipFill>
        <p:spPr>
          <a:xfrm>
            <a:off x="-189000" y="2781360"/>
            <a:ext cx="6201000" cy="4152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d8">
                  <a:alpha val="0"/>
                </a:srgbClr>
              </a:gs>
              <a:gs pos="100000">
                <a:srgbClr val="0055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logo 4"/>
          <p:cNvPicPr/>
          <p:nvPr/>
        </p:nvPicPr>
        <p:blipFill>
          <a:blip r:embed="rId3"/>
          <a:stretch/>
        </p:blipFill>
        <p:spPr>
          <a:xfrm>
            <a:off x="324000" y="233280"/>
            <a:ext cx="2016000" cy="96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ftr" idx="2"/>
          </p:nvPr>
        </p:nvSpPr>
        <p:spPr>
          <a:xfrm>
            <a:off x="7009920" y="6324480"/>
            <a:ext cx="18781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99d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99d8"/>
                </a:solidFill>
                <a:latin typeface="Times New Roman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1332000" y="1500120"/>
            <a:ext cx="7812000" cy="1073160"/>
          </a:xfrm>
          <a:prstGeom prst="rect">
            <a:avLst/>
          </a:prstGeom>
          <a:gradFill rotWithShape="0">
            <a:gsLst>
              <a:gs pos="0">
                <a:srgbClr val="0055a1">
                  <a:alpha val="89019"/>
                </a:srgbClr>
              </a:gs>
              <a:gs pos="100000">
                <a:srgbClr val="0055a1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900000" y="44280"/>
            <a:ext cx="1079640" cy="1484640"/>
          </a:xfrm>
          <a:prstGeom prst="ellipse">
            <a:avLst/>
          </a:prstGeom>
          <a:solidFill>
            <a:srgbClr val="004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6"/>
          <p:cNvSpPr/>
          <p:nvPr/>
        </p:nvSpPr>
        <p:spPr>
          <a:xfrm>
            <a:off x="826920" y="0"/>
            <a:ext cx="1079640" cy="1484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7"/>
          <p:cNvSpPr/>
          <p:nvPr/>
        </p:nvSpPr>
        <p:spPr>
          <a:xfrm>
            <a:off x="755640" y="0"/>
            <a:ext cx="1079640" cy="141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0" y="73080"/>
            <a:ext cx="1332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0"/>
          <p:cNvSpPr/>
          <p:nvPr/>
        </p:nvSpPr>
        <p:spPr>
          <a:xfrm>
            <a:off x="684360" y="1357200"/>
            <a:ext cx="84596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1"/>
          <p:cNvSpPr/>
          <p:nvPr/>
        </p:nvSpPr>
        <p:spPr>
          <a:xfrm>
            <a:off x="0" y="189000"/>
            <a:ext cx="684360" cy="666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marque UNIT rvb 6cm"/>
          <p:cNvPicPr/>
          <p:nvPr/>
        </p:nvPicPr>
        <p:blipFill>
          <a:blip r:embed="rId2"/>
          <a:stretch/>
        </p:blipFill>
        <p:spPr>
          <a:xfrm>
            <a:off x="250920" y="189000"/>
            <a:ext cx="1441440" cy="557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5"/>
          <p:cNvSpPr/>
          <p:nvPr/>
        </p:nvSpPr>
        <p:spPr>
          <a:xfrm>
            <a:off x="611280" y="907920"/>
            <a:ext cx="73080" cy="5950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55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8"/>
          <p:cNvSpPr/>
          <p:nvPr/>
        </p:nvSpPr>
        <p:spPr>
          <a:xfrm>
            <a:off x="0" y="1285920"/>
            <a:ext cx="914400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6"/>
          <p:cNvSpPr/>
          <p:nvPr/>
        </p:nvSpPr>
        <p:spPr>
          <a:xfrm>
            <a:off x="0" y="1357200"/>
            <a:ext cx="9144000" cy="73080"/>
          </a:xfrm>
          <a:prstGeom prst="rect">
            <a:avLst/>
          </a:prstGeom>
          <a:solidFill>
            <a:srgbClr val="005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ftr" idx="3"/>
          </p:nvPr>
        </p:nvSpPr>
        <p:spPr>
          <a:xfrm>
            <a:off x="785880" y="6451200"/>
            <a:ext cx="31068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3c8c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Times New Roman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3c8c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Times New Roman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5"/>
          </p:nvPr>
        </p:nvSpPr>
        <p:spPr>
          <a:xfrm>
            <a:off x="800064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3c8c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9E24-68CD-42BC-8A7A-2CFDC2D73605}" type="slidenum">
              <a:rPr b="0" lang="fr-FR" sz="1200" spc="-1" strike="noStrike">
                <a:solidFill>
                  <a:srgbClr val="3c8c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1332000" y="1500120"/>
            <a:ext cx="7812000" cy="1073160"/>
          </a:xfrm>
          <a:prstGeom prst="rect">
            <a:avLst/>
          </a:prstGeom>
          <a:gradFill rotWithShape="0">
            <a:gsLst>
              <a:gs pos="0">
                <a:srgbClr val="0055a1">
                  <a:alpha val="89019"/>
                </a:srgbClr>
              </a:gs>
              <a:gs pos="100000">
                <a:srgbClr val="0055a1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9"/>
          <p:cNvSpPr/>
          <p:nvPr/>
        </p:nvSpPr>
        <p:spPr>
          <a:xfrm>
            <a:off x="900000" y="44280"/>
            <a:ext cx="1079640" cy="1484640"/>
          </a:xfrm>
          <a:prstGeom prst="ellipse">
            <a:avLst/>
          </a:prstGeom>
          <a:solidFill>
            <a:srgbClr val="004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6"/>
          <p:cNvSpPr/>
          <p:nvPr/>
        </p:nvSpPr>
        <p:spPr>
          <a:xfrm>
            <a:off x="826920" y="0"/>
            <a:ext cx="1079640" cy="1484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7"/>
          <p:cNvSpPr/>
          <p:nvPr/>
        </p:nvSpPr>
        <p:spPr>
          <a:xfrm>
            <a:off x="755640" y="0"/>
            <a:ext cx="1079640" cy="141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8"/>
          <p:cNvSpPr/>
          <p:nvPr/>
        </p:nvSpPr>
        <p:spPr>
          <a:xfrm>
            <a:off x="0" y="73080"/>
            <a:ext cx="1332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0"/>
          <p:cNvSpPr/>
          <p:nvPr/>
        </p:nvSpPr>
        <p:spPr>
          <a:xfrm>
            <a:off x="684360" y="1357200"/>
            <a:ext cx="845964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0" y="189000"/>
            <a:ext cx="684360" cy="666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marque UNIT rvb 6cm"/>
          <p:cNvPicPr/>
          <p:nvPr/>
        </p:nvPicPr>
        <p:blipFill>
          <a:blip r:embed="rId2"/>
          <a:stretch/>
        </p:blipFill>
        <p:spPr>
          <a:xfrm>
            <a:off x="250920" y="189000"/>
            <a:ext cx="1441440" cy="5572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5"/>
          <p:cNvSpPr/>
          <p:nvPr/>
        </p:nvSpPr>
        <p:spPr>
          <a:xfrm>
            <a:off x="611280" y="907920"/>
            <a:ext cx="73080" cy="5950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55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8"/>
          <p:cNvSpPr/>
          <p:nvPr/>
        </p:nvSpPr>
        <p:spPr>
          <a:xfrm>
            <a:off x="0" y="1285920"/>
            <a:ext cx="914400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0" y="1357200"/>
            <a:ext cx="9144000" cy="73080"/>
          </a:xfrm>
          <a:prstGeom prst="rect">
            <a:avLst/>
          </a:prstGeom>
          <a:solidFill>
            <a:srgbClr val="005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dt" idx="6"/>
          </p:nvPr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ftr" idx="7"/>
          </p:nvPr>
        </p:nvSpPr>
        <p:spPr>
          <a:xfrm>
            <a:off x="713880" y="6451200"/>
            <a:ext cx="34513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8"/>
          </p:nvPr>
        </p:nvSpPr>
        <p:spPr>
          <a:xfrm>
            <a:off x="800064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4553-1418-435B-9354-F0F668B999F8}" type="slidenum"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Communauté Info-MathApp</a:t>
            </a:r>
            <a:br>
              <a:rPr sz="4400"/>
            </a:b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Bilan 2007-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Arial"/>
              </a:rPr>
              <a:t>INSA Rouen – Jean-Pierre Pécuc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Arial"/>
              </a:rPr>
              <a:t>INRIA – Patrick Ram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e la date 3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i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numéro de diapositive 4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C180-7D27-433B-BFE0-71E65B9C1C08}" type="slidenum">
              <a:rPr b="0" lang="fr-B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pied de page 5"/>
          <p:cNvSpPr/>
          <p:nvPr/>
        </p:nvSpPr>
        <p:spPr>
          <a:xfrm flipH="1">
            <a:off x="713520" y="6451560"/>
            <a:ext cx="3451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Répartition des cont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Automatique 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Modélisation-Simulation 4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Informatique 24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Systèmes d'information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Signal et image 7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Télécommunications 7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Réseaux et Transports de données 5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Outils et méthodes de l'ingénieur 8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Sciences du vivant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Mathématiques 19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  </a:t>
            </a:r>
            <a:r>
              <a:rPr b="0" lang="fr-FR" sz="1300" spc="-1" strike="noStrike">
                <a:solidFill>
                  <a:srgbClr val="2d2d8a"/>
                </a:solidFill>
                <a:latin typeface="Arial"/>
              </a:rPr>
              <a:t>Sciences humaines et Sociales pour l'ingénieur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A079-3A36-49EA-B4D6-2FB2489DFEBE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Recensement des 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e pas se limiter aux auteurs officiellement inscrits sur le site d'UNIT pour mener l'enquête d'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tuer les usages % aux enseignements ré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lliciter des contenus c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1800 cours recens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info-math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travers les sites Internet des 46 établissements partenaires d'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500 enseignants répertori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sceptibles de participer à l'enquête d'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/ou de fournir ou signaler de nouveaux cont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http://fuscia.info/ressources/coursList.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gin : fusciadata  / Mot de passe : edelw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5E6A-FD61-46CE-B404-55887E8758DA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5600" y="0"/>
            <a:ext cx="73580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d2d8a"/>
                </a:solidFill>
                <a:latin typeface="Arial"/>
              </a:rPr>
              <a:t>http://fuscia.info/ressources</a:t>
            </a:r>
            <a:br>
              <a:rPr sz="4000"/>
            </a:br>
            <a:r>
              <a:rPr b="1" lang="fr-FR" sz="4000" spc="-1" strike="noStrike">
                <a:solidFill>
                  <a:srgbClr val="2d2d8a"/>
                </a:solidFill>
                <a:latin typeface="Arial"/>
              </a:rPr>
              <a:t>liste des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e la date 4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pied de page 6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numéro de diapositive 8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673B-DCD9-455D-AFB6-4C501468C584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857160" y="1500120"/>
            <a:ext cx="79297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Recherche de contenus cach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190 enseignants contac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raits des 500 responsables de 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actés par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1% de réponse, dont 65%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6 nouveaux contenus identif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Sur ces 26 auteurs, seuls 2 connaissaien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és par le comité éditorial Fua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Grille d'évaluation fus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Quelle connaissance/compétence ce cours permet il d'acquérir ?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 quel public s'adresse-t-il et/ou quel(s) pré-requis permettent de l'aborder ?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i tu devais l'utiliser dans un de tes enseignements, quelle(s) partie(s) sélectionnerais-tu et à quelle(s) fin(s) ?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s-tu des suggestions pour compléter, mieux structurer ou mettre en valeur ce cours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005B-1C8B-48D9-A6CF-47465CED921B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Le site d'enquête sur les u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2d2d8a"/>
                </a:solidFill>
                <a:latin typeface="Arial"/>
              </a:rPr>
              <a:t>Technolog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HP/My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ar Patrick Rambert puis stagiaires IN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2d2d8a"/>
                </a:solidFill>
                <a:latin typeface="Arial"/>
              </a:rPr>
              <a:t>Princi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 enseignant déclare les usages réels ou potentiels de contenus dans le cadre de l'un de ses c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on cours doit avoir été décla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euls les contenus relevant du domaine de son cours lui sont propos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l peut déclarer de nouvelles res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0225-4327-4558-AB00-774BEA9B3018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Déclaration d'un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Evaluation positive et légè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tivité de l'UE couverte par la res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urs; TP/TD ; Projet ; Devoir ; Evaluation ; Autr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J'utilise déjà cette ressour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Je ne la connaissais pas et je vais l'utiliser, au moins en part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Je souhaiterais l'utiliser, mais sous réserve des modification de formats ou des évolutions décrites ci-desso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Elle est mal adaptée à ce cours ou fait double emploi avec des ressources que j'utilise déjà et que je cite ci-desso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entaires sur l'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pitres de la ressources réellement utilisés, dans quel contexte,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méliorations suggér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http://fuscia.info/ressources/ressourcesList.php?u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gin : fusciadata  / Mot de passe : edelw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0457-7F3F-419D-BF33-A482E54734A4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85600" y="0"/>
            <a:ext cx="73580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d2d8a"/>
                </a:solidFill>
                <a:latin typeface="Arial"/>
              </a:rPr>
              <a:t>http://fuscia.info/ressources</a:t>
            </a:r>
            <a:br>
              <a:rPr sz="4000"/>
            </a:br>
            <a:r>
              <a:rPr b="1" lang="fr-FR" sz="4000" spc="-1" strike="noStrike">
                <a:solidFill>
                  <a:srgbClr val="2d2d8a"/>
                </a:solidFill>
                <a:latin typeface="Arial"/>
              </a:rPr>
              <a:t>liste des u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e la date 4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pied de page 6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Espace réservé du numéro de diapositive 8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CC87-8DC3-4687-9A39-AB5F3AF8C6EE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82152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85600" y="0"/>
            <a:ext cx="73580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d2d8a"/>
                </a:solidFill>
                <a:latin typeface="Arial"/>
              </a:rPr>
              <a:t>http://fuscia.info/ressources</a:t>
            </a:r>
            <a:br>
              <a:rPr sz="4000"/>
            </a:br>
            <a:r>
              <a:rPr b="1" lang="fr-FR" sz="4000" spc="-1" strike="noStrike">
                <a:solidFill>
                  <a:srgbClr val="2d2d8a"/>
                </a:solidFill>
                <a:latin typeface="Arial"/>
              </a:rPr>
              <a:t>un exemple d'u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e la date 4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pied de page 6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8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DCE7-36BE-477A-A358-C506CA2F5529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835812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Déroulement de l'enquê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2d2d8a"/>
                </a:solidFill>
                <a:latin typeface="Arial"/>
              </a:rPr>
              <a:t>Demandes par e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correspondants UN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380 enseignants parmi les 500 responsables de c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80 correspondants Spéc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aux de réponse extrêmement faibl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30 usages saisi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2d2d8a"/>
                </a:solidFill>
                <a:latin typeface="Arial"/>
              </a:rPr>
              <a:t>Contact téléphon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4 enseignants finalement accessibles (sur 10 préselectionné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0000"/>
                </a:solidFill>
                <a:latin typeface="Arial"/>
              </a:rPr>
              <a:t>Aucun ne connaissait UNIT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0E3E-6C16-4855-954F-37932016A4C1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Retour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Notoriét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plupart des enseignants ne connaissaient pas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Mais tous ont ensuite exprimé un avis très positif sur UNIT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ôté pratique d'un por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assement thématique qui permet de trouver aisément des res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pression générale de qualité des contenus propo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Causes proba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te mal référenc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nque de communication vers les enseig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F215-21E3-48F0-B096-4C42CE0BB031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Bilan de 2 ann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Campagn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unauté Informatique - projet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Campagn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unauté Info-MathAppli – projet Y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e la date 3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3D68-5B9F-4431-AA27-7A02F28A5ADA}" type="slidenum">
              <a:rPr b="0" lang="fr-BE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Retour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Qualité de l'offr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s en général estimés d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s en nombre nettement insuffi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80% des ressources potentielles non indexées pa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Qualité de la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herche thématique est jugée très intéres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s beaucoup trop de classifications curie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8D01-CA8B-4C5C-BF22-D303206F84C6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Audit du mapping UNIT-Dew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2 visions contradic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cumental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quels rayons sont habituellement distribués les ouvrages de la disciplin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général correspondance 1-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formatic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ec quel indice je vais étiqueté tous les contenus de la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 d'une correspondance 1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2380-83BA-4335-8768-8095464BB5E5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Exemple de difficulté</a:t>
            </a:r>
            <a:br>
              <a:rPr sz="4400"/>
            </a:b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La géo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Dewey 52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éographie mathématique - Géodésie - Cartographie - Levés topograp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Utilisé pour 2 catégories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7.9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éomatique, topogra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AS 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5.8 Images fixes : analyse et traitement d'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rce que la géomatique fait appel au traitement d'im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et donc des ouvrages de traitement d'image (appliqués à la géomatique) se trouvent dans le rayon 526 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Conséqu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UT contenu étiqueté UNIT 7.9 Géomatique, topogra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retrouve aussi (en recherche ORI-OAI) en UNIT 15.8 analyse et traitement d'images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8a"/>
                </a:solidFill>
                <a:latin typeface="Arial"/>
              </a:rPr>
              <a:t>Exe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http://www.unit.eu/ori-oai-search/notice/view/unit-ori-wf-1-2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0842-8832-40D2-83BD-06FEA0A1DFF2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Exemple problématique Dew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30ED-6141-4FDE-BAF8-664EC13EA9A2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8001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Audit du mapping UNIT-Dew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Problème des *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xx* signifie "toute la sous-arborescence xxx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Exe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2.7 Probabilités et statistiques &gt; 519* Probabilités et mathématiques appliquées, théorie des j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2.4 Analyse numérique appliquée et résolution &gt; 519.4* Analyse numérique appliqu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Moralit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 contenu en analyse numérique appliquée remonte également dans une recherche de contenus en probabilités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9881-D21E-48BC-8EAD-9E266C3B9E40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Révision du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Assurer une correspondance 1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Valider toutes les entrées étoil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50% du mapping à revoir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9BC0-DA71-49B0-89C6-F12C1395B54B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La su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Indexer indexer indexer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Revoir l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Intégrer l'enquête au site UNI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c pour toutes les discip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d2d8a"/>
                </a:solidFill>
                <a:latin typeface="Arial"/>
              </a:rPr>
              <a:t>Petites mains pour l'enquêt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s déborde la communauté Info-MathApp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7E16-861F-47E5-84FF-1AFBC875149A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Rappel des objec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définir les besoins en contenus pour les cycles Licence et Master à dominante informatique, y compris pour le C2i niveau 2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compléter la nomenclature UNI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répertorier les contenus existants et les capitaliser dans le serveur UNI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organiser un concours pour les meilleurs contenus existants à valoriser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dresser la liste des contenus qui resteraient à développer et lancer un appel à projet ciblé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ce réservé de la dat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pied de pag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7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85B1-F4B8-4390-98D7-2382977F0DD2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Actions réalis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Campagne 2007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ntage de la communauté et du pilotage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ertion dans la communauté INRIA/Fu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ventaire pha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ventaire des enseign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mière collecte de contenus exi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lément à la nomenclature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ommandations pour la campagn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position de la communauté UNIT/Fuscia de 3 projets de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gic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u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e la dat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pied de pag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7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1172-A45B-43C0-BFA6-D9544E88547D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Actions réalis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Campagne 2008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ventaire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n collecte de contenus exi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place d'un comité éditorial UNIT-Fuscia pour l'évaluation des cont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veloppement d'un site d'enquê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mpagne d'enquê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but d'indexation de nouveaux contenus dans le site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dit du mapping Unit-Dew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ommandations pour la campagn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position de la communauté UNIT/Fuscia de 2 projets de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e la dat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pied de pag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7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96AA-8555-462F-A6C8-CD5FB7083965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Partenar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2d2d8a"/>
                </a:solidFill>
                <a:latin typeface="Arial"/>
              </a:rPr>
              <a:t>INRIA Fuscia : parcours pour la formation en informatique et mathématiques appliqué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Valorisation des résultats de recherche de l'IN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2d2d8a"/>
                </a:solidFill>
                <a:latin typeface="Arial"/>
              </a:rPr>
              <a:t>Connexion Unit /INRIA/Unisci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ité éditorial de 20 person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nimation T. Viéville (INRIA),  P. Jarraud (Unisciel), J.P. Pécuchet (Un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éunion mensuelle en visioconfér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Wiki collaboratif animé par P. Rambert (INRI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2d2d8a"/>
                </a:solidFill>
                <a:latin typeface="Arial"/>
              </a:rPr>
              <a:t>Autres partenai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Via comité éditorial : SUPELEC, UTC, Nancy 1, UPMC, Lille 1, INT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ur l'enquête :INSA, Lyon, INSA Toulouse, ENSEI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e la dat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pied de page 5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7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CEBA-F7C4-4D5F-95ED-37A190DE3ECD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Recensement de cont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d2d8a"/>
                </a:solidFill>
                <a:latin typeface="Arial"/>
              </a:rPr>
              <a:t>1500 contenus répertorié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 HM par une stagiaire INSA et Isabelle Gilles-Ga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ac+1 à Bac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langue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 type, du site au contenu élé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dexation allég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tre, Auteurs,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ype et niveau d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assification UNIT, Mots 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ype de ressource, Type phys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itulés des chapitres princip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format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0938-FA4F-46FE-BF7E-68BEFC25FD94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68295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d2d8a"/>
                </a:solidFill>
                <a:latin typeface="Arial"/>
              </a:rPr>
              <a:t>Filtrage du cont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85520" y="1600200"/>
            <a:ext cx="7900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2d2d8a"/>
                </a:solidFill>
                <a:latin typeface="Arial"/>
              </a:rPr>
              <a:t>673 contenus filtr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ur la qualité externe (accessibilité du vrai contenu, validation du nivea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ar Isabelle Gilles-Gal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uis importés dans le site d'enquê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http://fuscia.info/ressources/ressourcesList.ph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ogin : fusciadata  / Mot de passe : edelwei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2d2d8a"/>
                </a:solidFill>
                <a:latin typeface="Arial"/>
              </a:rPr>
              <a:t>200 contenus ajoutés à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n complétant la fiche LOM sous ORI-O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ar Isabelle Gilles-Gal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pied de page 3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e la date 4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5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C28F-243E-43E1-B5EB-03DA679EAEAC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5600" y="0"/>
            <a:ext cx="73580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d2d8a"/>
                </a:solidFill>
                <a:latin typeface="Arial"/>
              </a:rPr>
              <a:t>http://fuscia.info/ressources</a:t>
            </a:r>
            <a:br>
              <a:rPr sz="4000"/>
            </a:br>
            <a:r>
              <a:rPr b="1" lang="fr-FR" sz="4000" spc="-1" strike="noStrike">
                <a:solidFill>
                  <a:srgbClr val="2d2d8a"/>
                </a:solidFill>
                <a:latin typeface="Arial"/>
              </a:rPr>
              <a:t>liste des conten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e la date 4"/>
          <p:cNvSpPr/>
          <p:nvPr/>
        </p:nvSpPr>
        <p:spPr>
          <a:xfrm>
            <a:off x="785880" y="6451560"/>
            <a:ext cx="3106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mai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6"/>
          <p:cNvSpPr/>
          <p:nvPr/>
        </p:nvSpPr>
        <p:spPr>
          <a:xfrm>
            <a:off x="43578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Printemps UNIT - Comm Info-Math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8"/>
          <p:cNvSpPr/>
          <p:nvPr/>
        </p:nvSpPr>
        <p:spPr>
          <a:xfrm>
            <a:off x="8001000" y="6492960"/>
            <a:ext cx="11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BD5A-083A-4222-AAB7-B523072ABC33}" type="slidenum">
              <a:rPr b="0" lang="fr-FR" sz="1200" spc="-1" strike="noStrike">
                <a:solidFill>
                  <a:srgbClr val="3c8c93"/>
                </a:solidFill>
                <a:latin typeface="Arial"/>
              </a:rPr>
              <a:t>&lt;number&gt;</a:t>
            </a:fld>
            <a:r>
              <a:rPr b="0" lang="fr-FR" sz="1200" spc="-1" strike="noStrike">
                <a:solidFill>
                  <a:srgbClr val="3c8c93"/>
                </a:solidFill>
                <a:latin typeface="Arial"/>
              </a:rPr>
              <a:t>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80722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7:21:56Z</dcterms:created>
  <dc:creator>jppecuchet</dc:creator>
  <dc:description/>
  <dc:language>en-US</dc:language>
  <cp:lastModifiedBy>Jean-Pierre PECUCHET</cp:lastModifiedBy>
  <dcterms:modified xsi:type="dcterms:W3CDTF">2009-05-13T12:57:38Z</dcterms:modified>
  <cp:revision>51</cp:revision>
  <dc:subject/>
  <dc:title>Catalogue ouvert Info-MathApp</dc:title>
</cp:coreProperties>
</file>