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7.png" ContentType="image/png"/>
  <Override PartName="/ppt/media/image27.jpeg" ContentType="image/jpeg"/>
  <Override PartName="/ppt/media/image10.png" ContentType="image/png"/>
  <Override PartName="/ppt/media/image33.jpeg" ContentType="image/jpeg"/>
  <Override PartName="/ppt/media/image5.wmf" ContentType="image/x-wmf"/>
  <Override PartName="/ppt/media/image30.png" ContentType="image/png"/>
  <Override PartName="/ppt/media/image37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5.png" ContentType="image/png"/>
  <Override PartName="/ppt/media/image17.png" ContentType="image/png"/>
  <Override PartName="/ppt/media/image32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1.wmf" ContentType="image/x-wmf"/>
  <Override PartName="/ppt/media/image14.png" ContentType="image/png"/>
  <Override PartName="/ppt/media/image24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EC53-13D9-4AAF-948B-6383EE965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8070-6344-41C6-8A61-43EB13833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3240-0B34-4716-BE9C-8BE257CE0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B67B-A3F3-4CB3-B9D7-C735FFF142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19E6-4EA4-49F3-8BE4-3F24955D83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3D74-40FF-45BB-93CC-B2C6CE4D9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7C2C-5C85-43EC-AD50-CEB05E851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6088-AE2F-4615-BA89-44ABB8DCA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416E-BD6F-46E4-BB51-E390FCCED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05A2-DBD1-4717-BB2F-3766A2CCE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E0BC-C492-4807-9583-B23F55C73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175E-F1D8-4735-B3B9-37E82E5AE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23984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23984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Freeform 9"/>
          <p:cNvSpPr/>
          <p:nvPr/>
        </p:nvSpPr>
        <p:spPr>
          <a:xfrm>
            <a:off x="838080" y="765000"/>
            <a:ext cx="133560" cy="7257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Freeform 10"/>
          <p:cNvSpPr/>
          <p:nvPr/>
        </p:nvSpPr>
        <p:spPr>
          <a:xfrm>
            <a:off x="8263080" y="836640"/>
            <a:ext cx="196560" cy="79848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tretch/>
        </p:blipFill>
        <p:spPr>
          <a:xfrm>
            <a:off x="7772400" y="87480"/>
            <a:ext cx="1219320" cy="598320"/>
          </a:xfrm>
          <a:prstGeom prst="rect">
            <a:avLst/>
          </a:prstGeom>
          <a:ln w="0">
            <a:noFill/>
          </a:ln>
        </p:spPr>
      </p:pic>
      <p:sp>
        <p:nvSpPr>
          <p:cNvPr id="5" name="Text Box 15"/>
          <p:cNvSpPr/>
          <p:nvPr/>
        </p:nvSpPr>
        <p:spPr>
          <a:xfrm>
            <a:off x="838080" y="6497640"/>
            <a:ext cx="73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92929"/>
                </a:solidFill>
                <a:latin typeface="Arial"/>
              </a:rPr>
              <a:t>Printemps UNIT,  </a:t>
            </a:r>
            <a:r>
              <a:rPr b="1" i="1" lang="fr-FR" sz="1000" spc="-1" strike="noStrike">
                <a:solidFill>
                  <a:srgbClr val="808080"/>
                </a:solidFill>
                <a:latin typeface="Arial"/>
              </a:rPr>
              <a:t>12-14 mai 2009 – St Etienn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D13-5F3C-447B-B37F-58505495FB47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.wmf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004-A3E6-44A1-A414-63625CC1CD7F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838080" y="4038480"/>
            <a:ext cx="7467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292929"/>
                </a:solidFill>
                <a:uFillTx/>
                <a:latin typeface="Arial"/>
              </a:rPr>
              <a:t>Nicolas POSTE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Pôle Ressources Numériques (PRN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72085 LE MANS cedex 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mail : </a:t>
            </a:r>
            <a:r>
              <a:rPr b="1" lang="fr-FR" sz="2000" spc="-1" strike="noStrike">
                <a:solidFill>
                  <a:srgbClr val="cccc99"/>
                </a:solidFill>
                <a:latin typeface="Arial"/>
              </a:rPr>
              <a:t>nicolas.postec@univ-lemans.f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838080" y="1828800"/>
            <a:ext cx="7467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292929"/>
                </a:solidFill>
                <a:uFillTx/>
                <a:latin typeface="Arial"/>
              </a:rPr>
              <a:t>Pascal PICAR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École Nationale Supérieure d’Ingénieurs du Ma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72085 LE MANS cedex 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mail : </a:t>
            </a:r>
            <a:r>
              <a:rPr b="1" lang="fr-FR" sz="2000" spc="-1" strike="noStrike">
                <a:solidFill>
                  <a:srgbClr val="cccc99"/>
                </a:solidFill>
                <a:latin typeface="Arial"/>
              </a:rPr>
              <a:t>pascal.picart@univ-lemans.fr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914400" y="5335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Optique pour l’ingénieur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(OPI)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7411-CCF1-431A-8990-E2F2BB78FF3B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152280" y="1066680"/>
            <a:ext cx="8893440" cy="5567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225360" y="1571760"/>
            <a:ext cx="7056360" cy="424800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1017720" y="1859040"/>
            <a:ext cx="4103640" cy="3240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1665360" y="2435400"/>
            <a:ext cx="2520720" cy="15840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Noyau init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882800" y="41814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onsortium étend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(13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419720" y="44956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Utilisateurs francophon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172200" y="53341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ternat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4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E5B6-5F57-4CA0-8969-1CF760A730D2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in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116000" y="3754440"/>
            <a:ext cx="2448000" cy="70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1116000" y="2563920"/>
            <a:ext cx="1943280" cy="95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 5"/>
          <p:cNvGraphicFramePr/>
          <p:nvPr/>
        </p:nvGraphicFramePr>
        <p:xfrm>
          <a:off x="5580000" y="2708280"/>
          <a:ext cx="1498680" cy="28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708280"/>
                    <a:ext cx="149868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6"/>
          <p:cNvSpPr/>
          <p:nvPr/>
        </p:nvSpPr>
        <p:spPr>
          <a:xfrm>
            <a:off x="971640" y="465300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Arial"/>
              </a:rPr>
              <a:t>Établissements du consorti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293F-C7BD-4D5D-B730-CD0EAC4DD657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duite du pro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Élargissement progressif des partenaria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Structuration de la conduite de proj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Développement du proj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Structuration de la base et production des cou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Développement des usa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Diffusion et Internationalis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Pérennisation du proj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B6D1-B47F-4EB7-BE24-A1579CA44AC0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2057400" y="3429000"/>
            <a:ext cx="5029200" cy="9907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1984320" y="1523880"/>
            <a:ext cx="5153040" cy="15242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tructure du pro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78160" y="17175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Comité de pilota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276720" y="2286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Comité de lectu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743200" y="371628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Auteu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722840" y="3716280"/>
            <a:ext cx="18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Traducteu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2362320" y="4724280"/>
            <a:ext cx="4419360" cy="167652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76720" y="4876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Ingénieur pédagogiq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276720" y="560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Cellule de production centralisé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4267080" y="3048120"/>
            <a:ext cx="53352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4267080" y="4419720"/>
            <a:ext cx="53352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562A-AA17-4C4F-911E-B8120003DA36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duite et straté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Un objectif opérationnel concret : créer les cours ! (</a:t>
            </a:r>
            <a:r>
              <a:rPr b="1" lang="fr-FR" sz="3200" spc="-1" strike="noStrike">
                <a:solidFill>
                  <a:srgbClr val="292929"/>
                </a:solidFill>
                <a:latin typeface="Arial"/>
              </a:rPr>
              <a:t>32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Une prise de conscience de l’importance des usag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Un intérêt qui dépasse le cadre des « producteurs 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Une volonté de poursuivre à l’internation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Des questions sur la pérennité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A50B-04E6-470A-9BD7-F58AE0A8DA68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spects pédagogiqu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u proj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55E9-CB92-4845-AC36-8E96D3B33BEA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0400" y="630000"/>
            <a:ext cx="60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t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Lasers et optique non linéaire - 11 -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Interférences et Diffraction - 13 -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Optique instrumentale, microscopie - 7 -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Imagerie - 8 -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Capteurs à semi-conducteurs et applications - 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Optique guidée et fibres optiques - 5 -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étrologie optique - 8 -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Optique des rayons X - 3 -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icro-Optique - 2 -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54AE-73B2-4423-8F70-0420C940AF7E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tructure d’un c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2276640"/>
          <a:ext cx="8147160" cy="2089080"/>
        </p:xfrm>
        <a:graphic>
          <a:graphicData uri="http://schemas.openxmlformats.org/drawingml/2006/table">
            <a:tbl>
              <a:tblPr/>
              <a:tblGrid>
                <a:gridCol w="1998720"/>
                <a:gridCol w="614520"/>
                <a:gridCol w="5533920"/>
              </a:tblGrid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artie cour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 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pports théoriqu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Étude de ca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 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llustration du contenu théorique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Exercice(s) d’application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 h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uestions de compréhension sur un concept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Text Box 37"/>
          <p:cNvSpPr/>
          <p:nvPr/>
        </p:nvSpPr>
        <p:spPr>
          <a:xfrm>
            <a:off x="755640" y="4579920"/>
            <a:ext cx="7777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Conten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Un cours correspond à un polycopié </a:t>
            </a:r>
            <a:r>
              <a:rPr b="0" lang="fr-FR" sz="1800" spc="-1" strike="noStrike" u="sng">
                <a:solidFill>
                  <a:srgbClr val="292929"/>
                </a:solidFill>
                <a:uFillTx/>
                <a:latin typeface="Arial"/>
              </a:rPr>
              <a:t>d’environ 60 pag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Validation scientifiq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omité de lectu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alidation scientifique des cours après leur produc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02AC-1403-4B9C-82ED-184115D09D5A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Picture 3" descr="page1"/>
          <p:cNvPicPr/>
          <p:nvPr/>
        </p:nvPicPr>
        <p:blipFill>
          <a:blip r:embed="rId1"/>
          <a:stretch/>
        </p:blipFill>
        <p:spPr>
          <a:xfrm>
            <a:off x="76320" y="1728720"/>
            <a:ext cx="4359240" cy="30225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74" name="Rectangle 4"/>
          <p:cNvSpPr/>
          <p:nvPr/>
        </p:nvSpPr>
        <p:spPr>
          <a:xfrm>
            <a:off x="533520" y="53463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292929"/>
                </a:solidFill>
                <a:latin typeface="Georgia"/>
                <a:ea typeface="Times New Roman"/>
              </a:rPr>
              <a:t>Illustration de la charte graphique : page d’accueil pour chaque cou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5" name="Picture 5" descr="page-2"/>
          <p:cNvPicPr/>
          <p:nvPr/>
        </p:nvPicPr>
        <p:blipFill>
          <a:blip r:embed="rId2"/>
          <a:stretch/>
        </p:blipFill>
        <p:spPr>
          <a:xfrm>
            <a:off x="4648320" y="1752480"/>
            <a:ext cx="4486320" cy="28940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76" name="Rectangle 6"/>
          <p:cNvSpPr/>
          <p:nvPr/>
        </p:nvSpPr>
        <p:spPr>
          <a:xfrm>
            <a:off x="4572000" y="5256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292929"/>
                </a:solidFill>
                <a:latin typeface="Georgia"/>
                <a:ea typeface="Times New Roman"/>
              </a:rPr>
              <a:t>Illustration de la charte graphique : page de présentation du cours</a:t>
            </a:r>
            <a:r>
              <a:rPr b="1" lang="fr-FR" sz="1800" spc="-1" strike="noStrike">
                <a:solidFill>
                  <a:srgbClr val="292929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076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ésentation d’un c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7812-0146-48CA-871B-F19059A09ADC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Picture 2" descr="site-opi-08-modulefrançais-courslaser"/>
          <p:cNvPicPr/>
          <p:nvPr/>
        </p:nvPicPr>
        <p:blipFill>
          <a:blip r:embed="rId1"/>
          <a:srcRect l="0" t="13266" r="0" b="0"/>
          <a:stretch/>
        </p:blipFill>
        <p:spPr>
          <a:xfrm>
            <a:off x="304920" y="1143000"/>
            <a:ext cx="8458200" cy="5684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990720" y="83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292929"/>
                </a:solidFill>
                <a:latin typeface="Georgia"/>
                <a:ea typeface="Times New Roman"/>
              </a:rPr>
              <a:t>Illustration : Cou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1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9A27-8697-441B-AC7F-86E41924DD22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32040" y="404640"/>
            <a:ext cx="71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11280" y="2224080"/>
            <a:ext cx="8172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État de l’art - soutien d’UNIT dans le doma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« SFO pédago »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Présentation générale de « OPI »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Aspects pédagogiqu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Aspects Gestion &amp; Produc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A796-94F1-40EF-9707-C81EB17465C4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2" name="Picture 5" descr="Exo2ModuleOPI"/>
          <p:cNvPicPr/>
          <p:nvPr/>
        </p:nvPicPr>
        <p:blipFill>
          <a:blip r:embed="rId1"/>
          <a:stretch/>
        </p:blipFill>
        <p:spPr>
          <a:xfrm>
            <a:off x="76320" y="1447920"/>
            <a:ext cx="9067680" cy="4908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990720" y="83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292929"/>
                </a:solidFill>
                <a:latin typeface="Georgia"/>
                <a:ea typeface="Times New Roman"/>
              </a:rPr>
              <a:t>Illustration : Exerci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0A33-3F34-492A-AEE2-C3010FEC2958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tégration d’animation multimé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33" descr="AnimationOPI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17C7-A731-4C42-867D-593064A7D84F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44280" y="609120"/>
            <a:ext cx="7589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22"/>
          <p:cNvSpPr/>
          <p:nvPr/>
        </p:nvSpPr>
        <p:spPr>
          <a:xfrm>
            <a:off x="533520" y="1600200"/>
            <a:ext cx="816444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En accès libre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« autoformation », « complément d’information »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En cours présenti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ur donner aux étudiants un cours de haut nivea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ur proposer des accès aux plus grands experts du domain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En mixte (présentiel / distance)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ur proposer aux étudiants des activités diversifié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A dista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ur les master europée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ur la maintenance des compétences professionnel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409-2C8F-472A-90E2-A35B1309CF6A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stion, Productio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veloppement des o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logo_prn"/>
          <p:cNvPicPr/>
          <p:nvPr/>
        </p:nvPicPr>
        <p:blipFill>
          <a:blip r:embed="rId1"/>
          <a:stretch/>
        </p:blipFill>
        <p:spPr>
          <a:xfrm>
            <a:off x="5257800" y="4648320"/>
            <a:ext cx="29718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631-F0B5-44ED-8EF3-808816E1F148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stion de la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Choix d’un système de production centralisé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Respect d’une charte graphique commu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Recherche &amp; Développement des supports de production (modèle et sit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ise en place d’une ingénierie pédagogiq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ontact auteu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uivi des contra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Rationalisation de la produc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Organisation de la production avec une chaîne éditoria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1128-AC17-4C78-85F0-116EDF236B42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uivi des au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72260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Guide Auteur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Suivi de la produ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Recueil des contenu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Production par la cellu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Relecture auteur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ise à jou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Relecture comité scientifiq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ise en ligne fina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Contrats (Gnu </a:t>
            </a:r>
            <a:r>
              <a:rPr b="0" lang="fr-FR" sz="32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 CC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2A7F-E398-4780-AC72-B9AF97C41D84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dexation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722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Indexation UNI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Récupération des métadonnées dans Scenar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Indexation UNIT en SUP LOM-F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oissonnage et mise à disposi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Indexation SFO pédag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Choix des images par les auteu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Validation Commission Pédagogique SF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Indexation dans la ba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7866-8A1C-450C-A9BC-D19CBC5E0F65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42480" y="685440"/>
            <a:ext cx="7589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Étapes de production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155736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nnée 2006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éveloppement des ressources via l’éditeur XML « SCENARI 3 »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réation d’une charte graphique et d’un modèle pédagogique spécifiqu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duction de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15 cours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soit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150HE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dexation en LOM-Fr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Mise en place d’un site Web pour le proje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ttp://www.optique-instrumentation.f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nnée 200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énovation de la chart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duction de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15 cou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Traduction en Anglais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de 6 cou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onception d’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nalyse sur les usages (enquê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ECC4-899E-418D-B1C1-2A9DBB7CD846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42480" y="685440"/>
            <a:ext cx="7589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Étapes de production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66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nnée 2008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utomatisation des mises en lign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tégration d’un intranet de suiv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terfaçage Français-Angla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Année 200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énovation complète du site web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http://www.optique-ingenieur.org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848E-C0FE-4880-A3FB-0CB842A92409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9" name="Picture 9" descr="site-opi-05-BDD"/>
          <p:cNvPicPr/>
          <p:nvPr/>
        </p:nvPicPr>
        <p:blipFill>
          <a:blip r:embed="rId1"/>
          <a:srcRect l="0" t="9989" r="0" b="0"/>
          <a:stretch/>
        </p:blipFill>
        <p:spPr>
          <a:xfrm>
            <a:off x="76320" y="372960"/>
            <a:ext cx="9067680" cy="63327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7"/>
          <p:cNvSpPr/>
          <p:nvPr/>
        </p:nvSpPr>
        <p:spPr>
          <a:xfrm>
            <a:off x="6172200" y="2463840"/>
            <a:ext cx="2198520" cy="193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26 cours disponib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7 en produc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13 en prépar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62200" y="685800"/>
            <a:ext cx="2257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stion de l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A5EC-1069-4570-B9AE-F071488C4139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État de l’art e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305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Les ressources en </a:t>
            </a: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optique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 sur le Web francophone sont peu nombreus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UNIT décide de soutenir 3 projets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rojet SFO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déposé en juin 2005  : Constituer une base de données regroupant différents types de ressources (figures, photographies, graphiques, animations, etc..)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rojet TIM-UNIT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soutenu par la communauté du club EEA et du GDR ISIS : spécifique au traitement de l’imag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rojet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 « 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Optique pour l’instrumentation 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» : contribution ciblée dans le domaine de l’instrumentation optique - cours de niveau Mas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AD0-AA3C-448A-9CFD-CA6657819B58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SiteOPI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F5F3-848F-48BA-B64A-92BC74D287DB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site-opi-02-modules"/>
          <p:cNvPicPr/>
          <p:nvPr/>
        </p:nvPicPr>
        <p:blipFill>
          <a:blip r:embed="rId1"/>
          <a:srcRect l="0" t="9645" r="0" b="0"/>
          <a:stretch/>
        </p:blipFill>
        <p:spPr>
          <a:xfrm>
            <a:off x="0" y="216000"/>
            <a:ext cx="914400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D211-6A04-410B-A405-9F86FFAF2441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udget et pérenn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Problématique du « Libre 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Libre </a:t>
            </a:r>
            <a:r>
              <a:rPr b="0" lang="fr-FR" sz="2800" spc="-1" strike="noStrike">
                <a:solidFill>
                  <a:srgbClr val="292929"/>
                </a:solidFill>
                <a:latin typeface="Symbol"/>
                <a:ea typeface="Symbol"/>
              </a:rPr>
              <a:t>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 gratu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Trouver un modèle de financement pour la création, la maintenance, le suivi de proj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Pistes envisagé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odèle libre subventionné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odèle « retour sur investissement »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1CBA-853C-47C3-9BA3-6735AC0FFB73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998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Consulter les cour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Contac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Inform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Rectangle 1028"/>
          <p:cNvSpPr/>
          <p:nvPr/>
        </p:nvSpPr>
        <p:spPr>
          <a:xfrm>
            <a:off x="513000" y="4005360"/>
            <a:ext cx="81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92929"/>
                </a:solidFill>
                <a:latin typeface="Arial"/>
              </a:rPr>
              <a:t>http://www.optique-ingenieur.org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1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253D-C8C6-4B4C-A32B-7C86E822F8C1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68440" y="5143680"/>
            <a:ext cx="54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es documents textes :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cours</a:t>
            </a: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TD</a:t>
            </a: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TP</a:t>
            </a: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exame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1240" y="3071880"/>
            <a:ext cx="84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es documents iconographiques : images, schémas, courtes séquences vidé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24000" y="28774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1622520" y="2280600"/>
            <a:ext cx="5241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Outil pédagogique </a:t>
            </a:r>
            <a:r>
              <a:rPr b="1" lang="fr-FR" sz="1400" spc="-1" strike="noStrike">
                <a:solidFill>
                  <a:srgbClr val="003399"/>
                </a:solidFill>
                <a:latin typeface="Arial"/>
              </a:rPr>
              <a:t>libre d'accè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99"/>
                </a:solidFill>
                <a:latin typeface="Arial"/>
              </a:rPr>
              <a:t>Mutualisation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des travaux des enseignants (déjà existants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3399"/>
                </a:solidFill>
                <a:latin typeface="Arial"/>
              </a:rPr>
              <a:t>Visibilité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des productions pédagogiques </a:t>
            </a:r>
            <a:r>
              <a:rPr b="1" lang="fr-FR" sz="1400" spc="-1" strike="noStrike">
                <a:solidFill>
                  <a:srgbClr val="003399"/>
                </a:solidFill>
                <a:latin typeface="Arial"/>
              </a:rPr>
              <a:t>à l'échelle nationa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770200" y="556416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http://hal-sfo.ccsd.cnrs.fr/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0" name="Picture 16" descr="http://hal-sfo.ccsd.cnrs.fr/docs/00/36/73/71/IMG/0114mr.jpg"/>
          <p:cNvPicPr/>
          <p:nvPr/>
        </p:nvPicPr>
        <p:blipFill>
          <a:blip r:embed="rId1"/>
          <a:stretch/>
        </p:blipFill>
        <p:spPr>
          <a:xfrm>
            <a:off x="1071720" y="3643200"/>
            <a:ext cx="2871720" cy="130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747960" y="4172040"/>
          <a:ext cx="5000760" cy="365040"/>
        </p:xfrm>
        <a:graphic>
          <a:graphicData uri="http://schemas.openxmlformats.org/drawingml/2006/table">
            <a:tbl>
              <a:tblPr/>
              <a:tblGrid>
                <a:gridCol w="5000760"/>
              </a:tblGrid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ranges d'égale épaisseur à l'interféromètre de Michelson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(Lame couvre-objet pour microscope)</a:t>
                      </a:r>
                      <a:endParaRPr b="0" lang="en-US" sz="1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17" descr="http://static.archives-ouvertes.fr/images/vide.gif"/>
          <p:cNvPicPr/>
          <p:nvPr/>
        </p:nvPicPr>
        <p:blipFill>
          <a:blip r:embed="rId2"/>
          <a:stretch/>
        </p:blipFill>
        <p:spPr>
          <a:xfrm>
            <a:off x="0" y="0"/>
            <a:ext cx="9360" cy="47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9"/>
          <p:cNvSpPr/>
          <p:nvPr/>
        </p:nvSpPr>
        <p:spPr>
          <a:xfrm>
            <a:off x="4821120" y="4510080"/>
            <a:ext cx="276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Gérard Rebmann, SFO enseigne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ZoneTexte 20"/>
          <p:cNvSpPr/>
          <p:nvPr/>
        </p:nvSpPr>
        <p:spPr>
          <a:xfrm>
            <a:off x="4289760" y="363852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92929"/>
                </a:solidFill>
                <a:latin typeface="Arial"/>
              </a:rPr>
              <a:t>Documents légendés et libres de droi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ZoneTexte 21"/>
          <p:cNvSpPr/>
          <p:nvPr/>
        </p:nvSpPr>
        <p:spPr>
          <a:xfrm>
            <a:off x="139320" y="6045120"/>
            <a:ext cx="86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Documents hébergés sur un serveur d’archives national (Hal-CCSD) moissonné par Uni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3"/>
          <a:stretch/>
        </p:blipFill>
        <p:spPr>
          <a:xfrm>
            <a:off x="7451640" y="2060640"/>
            <a:ext cx="129708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4"/>
          <p:cNvGraphicFramePr/>
          <p:nvPr/>
        </p:nvGraphicFramePr>
        <p:xfrm>
          <a:off x="6877080" y="5213520"/>
          <a:ext cx="205092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77080" y="5213520"/>
                    <a:ext cx="20509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20"/>
          <p:cNvSpPr/>
          <p:nvPr/>
        </p:nvSpPr>
        <p:spPr>
          <a:xfrm>
            <a:off x="10666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ojet SFO « Pédago »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179280" y="1627200"/>
            <a:ext cx="83059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Objectif : Base de données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nationale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permettant de mettre en commun les ressources pédagogiques dédiées à l’enseignement de l’optiq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numéro de diapositive 1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589A-670C-4DEF-B3F8-E6AF48C30F42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10715" t="10288" r="12945" b="10859"/>
          <a:stretch/>
        </p:blipFill>
        <p:spPr>
          <a:xfrm>
            <a:off x="297000" y="2997360"/>
            <a:ext cx="4130640" cy="333360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14"/>
          <p:cNvSpPr/>
          <p:nvPr/>
        </p:nvSpPr>
        <p:spPr>
          <a:xfrm>
            <a:off x="4863600" y="310824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92929"/>
                </a:solidFill>
                <a:latin typeface="Arial"/>
              </a:rPr>
              <a:t>Laboratoires de rattache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292929"/>
                </a:solidFill>
                <a:latin typeface="Arial"/>
              </a:rPr>
              <a:t>des contributeurs (national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5148360" y="4149720"/>
            <a:ext cx="32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Nécessité du dépôt des ressources sur un hébergeur nat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ZoneTexte 17"/>
          <p:cNvSpPr/>
          <p:nvPr/>
        </p:nvSpPr>
        <p:spPr>
          <a:xfrm>
            <a:off x="5296680" y="559584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Hal-CCS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archives ouvertes du CN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0666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FO « Pédago »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395280" y="1627200"/>
            <a:ext cx="83059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orté par la Commission Enseignement de la SF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tructuration de la communauté des enseignants en optique autour d’un outil fédérateu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659640" y="5084640"/>
            <a:ext cx="217440" cy="432000"/>
          </a:xfrm>
          <a:prstGeom prst="downArrow">
            <a:avLst>
              <a:gd name="adj1" fmla="val 50000"/>
              <a:gd name="adj2" fmla="val 4966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5076720" y="4005360"/>
            <a:ext cx="3598920" cy="2376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Espace réservé du numéro de diapositive 1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5543-1C12-4822-AC09-8F01AA28A6AD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0" t="0" r="3955" b="25894"/>
          <a:stretch/>
        </p:blipFill>
        <p:spPr>
          <a:xfrm>
            <a:off x="5643720" y="2913120"/>
            <a:ext cx="2168280" cy="130788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2"/>
          <p:cNvSpPr/>
          <p:nvPr/>
        </p:nvSpPr>
        <p:spPr>
          <a:xfrm>
            <a:off x="786240" y="2637000"/>
            <a:ext cx="37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Optique pour l’Ingénieur (Images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83" name="Group 17"/>
          <p:cNvGrpSpPr/>
          <p:nvPr/>
        </p:nvGrpSpPr>
        <p:grpSpPr>
          <a:xfrm>
            <a:off x="1365120" y="3141720"/>
            <a:ext cx="4214880" cy="673200"/>
            <a:chOff x="1365120" y="3141720"/>
            <a:chExt cx="4214880" cy="673200"/>
          </a:xfrm>
        </p:grpSpPr>
        <p:sp>
          <p:nvSpPr>
            <p:cNvPr id="84" name="Rectangle 13"/>
            <p:cNvSpPr/>
            <p:nvPr/>
          </p:nvSpPr>
          <p:spPr>
            <a:xfrm>
              <a:off x="1365120" y="3141720"/>
              <a:ext cx="421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292929"/>
                  </a:solidFill>
                  <a:latin typeface="Arial"/>
                </a:rPr>
                <a:t>Structure spatiale des modes de Hermite-Gauss d'un laser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5" name="ZoneTexte 14"/>
            <p:cNvSpPr/>
            <p:nvPr/>
          </p:nvSpPr>
          <p:spPr>
            <a:xfrm>
              <a:off x="1365120" y="3355920"/>
              <a:ext cx="4071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292929"/>
                  </a:solidFill>
                  <a:latin typeface="Arial"/>
                </a:rPr>
                <a:t>Sébastien Forget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292929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292929"/>
                  </a:solidFill>
                  <a:latin typeface="Arial"/>
                </a:rPr>
                <a:t>Laboratoire de Physique des Lasers, Consortium OPI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86" name="ZoneTexte 15"/>
          <p:cNvSpPr/>
          <p:nvPr/>
        </p:nvSpPr>
        <p:spPr>
          <a:xfrm>
            <a:off x="785880" y="385452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École de Physique des Houch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71720" y="4270320"/>
            <a:ext cx="2793960" cy="2183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rcRect l="0" t="21215" r="0" b="4532"/>
          <a:stretch/>
        </p:blipFill>
        <p:spPr>
          <a:xfrm>
            <a:off x="5214960" y="4363920"/>
            <a:ext cx="3357720" cy="194796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18"/>
          <p:cNvSpPr/>
          <p:nvPr/>
        </p:nvSpPr>
        <p:spPr>
          <a:xfrm>
            <a:off x="5780160" y="629280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Collection : consortium OP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0666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FO « Pédago »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4920" y="1627200"/>
            <a:ext cx="910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Réseau de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correspondants locaux</a:t>
            </a:r>
            <a:r>
              <a:rPr b="0" lang="fr-FR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(au moins 1 par établissement en optique)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92929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292929"/>
                </a:solidFill>
                <a:latin typeface="Arial"/>
              </a:rPr>
              <a:t>susciter les dépôts, faire connaître Hal SFO, …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Une mise en commun en respectant l’identité des contributeurs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collec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1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26FC-444A-4142-A112-E4260BC58B54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12342" t="10545" r="11604" b="10545"/>
          <a:stretch/>
        </p:blipFill>
        <p:spPr>
          <a:xfrm>
            <a:off x="108000" y="2390760"/>
            <a:ext cx="4392720" cy="35593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94" name="ZoneTexte 6"/>
          <p:cNvSpPr/>
          <p:nvPr/>
        </p:nvSpPr>
        <p:spPr>
          <a:xfrm>
            <a:off x="1351800" y="616572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Visibilité nationale par le portail Unit et par le serveur H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0666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FO « Pédago »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287280" y="1557360"/>
            <a:ext cx="8388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Fonctionne sur un système similaire à Hal (recherche, consultation, ….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ZoneTexte 5"/>
          <p:cNvSpPr/>
          <p:nvPr/>
        </p:nvSpPr>
        <p:spPr>
          <a:xfrm>
            <a:off x="6999480" y="1925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Dépô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rcRect l="11220" t="11490" r="12520" b="13871"/>
          <a:stretch/>
        </p:blipFill>
        <p:spPr>
          <a:xfrm>
            <a:off x="3492360" y="3470400"/>
            <a:ext cx="3494160" cy="2673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99" name="ZoneTexte 7"/>
          <p:cNvSpPr/>
          <p:nvPr/>
        </p:nvSpPr>
        <p:spPr>
          <a:xfrm>
            <a:off x="4448880" y="313380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Consult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rcRect l="12018" t="10248" r="11868" b="2572"/>
          <a:stretch/>
        </p:blipFill>
        <p:spPr>
          <a:xfrm>
            <a:off x="6222960" y="2354400"/>
            <a:ext cx="2741760" cy="24526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101" name="ZoneTexte 7"/>
          <p:cNvSpPr/>
          <p:nvPr/>
        </p:nvSpPr>
        <p:spPr>
          <a:xfrm>
            <a:off x="1333800" y="1989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Base de donné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0F14-9CF9-4C5E-9AA6-C2E1945A16AD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11" descr="logo_opi_fr"/>
          <p:cNvPicPr/>
          <p:nvPr/>
        </p:nvPicPr>
        <p:blipFill>
          <a:blip r:embed="rId1"/>
          <a:stretch/>
        </p:blipFill>
        <p:spPr>
          <a:xfrm>
            <a:off x="2268360" y="1752480"/>
            <a:ext cx="4353120" cy="2324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ptique pour l’Ingéni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42840" y="3941640"/>
            <a:ext cx="766152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99"/>
                </a:solidFill>
                <a:latin typeface="Arial"/>
              </a:rPr>
              <a:t>Créer une banque de ressources numériques dans le domaine de </a:t>
            </a: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l’Instrumentation Optique pour l’ingénieur</a:t>
            </a:r>
            <a:r>
              <a:rPr b="1" lang="fr-FR" sz="2000" spc="-1" strike="noStrike">
                <a:solidFill>
                  <a:srgbClr val="003399"/>
                </a:solidFill>
                <a:latin typeface="Arial"/>
              </a:rPr>
              <a:t> de haute qualité scientifique et entièrement libre de dro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Utilisation des ressources en formation initiale, à distance, professionnelle  - environ1600 étudian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But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1" lang="fr-FR" sz="2000" spc="-1" strike="noStrike">
                <a:solidFill>
                  <a:srgbClr val="003399"/>
                </a:solidFill>
                <a:latin typeface="Arial"/>
              </a:rPr>
              <a:t>Valorisation du savoir faire des établissements partenaires au niveau national et internation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3"/>
          <p:cNvSpPr/>
          <p:nvPr/>
        </p:nvSpPr>
        <p:spPr>
          <a:xfrm>
            <a:off x="713088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F889-7A4F-4A5B-9462-0BA5E18B1E64}" type="slidenum"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r>
              <a:rPr b="0" lang="fr-FR" sz="1200" spc="-1" strike="noStrike">
                <a:solidFill>
                  <a:srgbClr val="292929"/>
                </a:solidFill>
                <a:latin typeface="Times New Roman"/>
              </a:rPr>
              <a:t>/3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0240" y="644040"/>
            <a:ext cx="7589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52280" y="208116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7 Écoles d’Ingénieu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151560" y="30337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5 Université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153360" y="407664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1 IU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Picture 28" descr="em"/>
          <p:cNvPicPr/>
          <p:nvPr/>
        </p:nvPicPr>
        <p:blipFill>
          <a:blip r:embed="rId1"/>
          <a:stretch/>
        </p:blipFill>
        <p:spPr>
          <a:xfrm>
            <a:off x="4809960" y="2421000"/>
            <a:ext cx="120024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ensim"/>
          <p:cNvPicPr/>
          <p:nvPr/>
        </p:nvPicPr>
        <p:blipFill>
          <a:blip r:embed="rId2"/>
          <a:stretch/>
        </p:blipFill>
        <p:spPr>
          <a:xfrm>
            <a:off x="685800" y="2494080"/>
            <a:ext cx="1165320" cy="43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0" descr="epf"/>
          <p:cNvPicPr/>
          <p:nvPr/>
        </p:nvPicPr>
        <p:blipFill>
          <a:blip r:embed="rId3"/>
          <a:stretch/>
        </p:blipFill>
        <p:spPr>
          <a:xfrm>
            <a:off x="8344080" y="2494080"/>
            <a:ext cx="79992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1" descr="inst-optique"/>
          <p:cNvPicPr/>
          <p:nvPr/>
        </p:nvPicPr>
        <p:blipFill>
          <a:blip r:embed="rId4"/>
          <a:stretch/>
        </p:blipFill>
        <p:spPr>
          <a:xfrm>
            <a:off x="1905120" y="2421000"/>
            <a:ext cx="108576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2" descr="EnstimA2"/>
          <p:cNvPicPr/>
          <p:nvPr/>
        </p:nvPicPr>
        <p:blipFill>
          <a:blip r:embed="rId5"/>
          <a:stretch/>
        </p:blipFill>
        <p:spPr>
          <a:xfrm>
            <a:off x="6033960" y="2421000"/>
            <a:ext cx="86364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Object 33"/>
          <p:cNvGraphicFramePr/>
          <p:nvPr/>
        </p:nvGraphicFramePr>
        <p:xfrm>
          <a:off x="2022480" y="3429000"/>
          <a:ext cx="1212840" cy="557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7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22480" y="3429000"/>
                    <a:ext cx="12128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34" descr="ua"/>
          <p:cNvPicPr/>
          <p:nvPr/>
        </p:nvPicPr>
        <p:blipFill>
          <a:blip r:embed="rId8"/>
          <a:stretch/>
        </p:blipFill>
        <p:spPr>
          <a:xfrm>
            <a:off x="3462480" y="3429000"/>
            <a:ext cx="628560" cy="800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5" descr="univJM"/>
          <p:cNvPicPr/>
          <p:nvPr/>
        </p:nvPicPr>
        <p:blipFill>
          <a:blip r:embed="rId9"/>
          <a:stretch/>
        </p:blipFill>
        <p:spPr>
          <a:xfrm>
            <a:off x="654120" y="3429000"/>
            <a:ext cx="1076400" cy="628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6" descr="UnivParis13"/>
          <p:cNvPicPr/>
          <p:nvPr/>
        </p:nvPicPr>
        <p:blipFill>
          <a:blip r:embed="rId10"/>
          <a:stretch/>
        </p:blipFill>
        <p:spPr>
          <a:xfrm>
            <a:off x="4254480" y="3429000"/>
            <a:ext cx="1944720" cy="547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7"/>
          <p:cNvSpPr/>
          <p:nvPr/>
        </p:nvSpPr>
        <p:spPr>
          <a:xfrm>
            <a:off x="168480" y="508464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2 institutionnel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Picture 38" descr="image"/>
          <p:cNvPicPr/>
          <p:nvPr/>
        </p:nvPicPr>
        <p:blipFill>
          <a:blip r:embed="rId11"/>
          <a:stretch/>
        </p:blipFill>
        <p:spPr>
          <a:xfrm>
            <a:off x="762120" y="4508640"/>
            <a:ext cx="792000" cy="461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0" descr="Logo-CMOI"/>
          <p:cNvPicPr/>
          <p:nvPr/>
        </p:nvPicPr>
        <p:blipFill>
          <a:blip r:embed="rId12"/>
          <a:stretch/>
        </p:blipFill>
        <p:spPr>
          <a:xfrm>
            <a:off x="1843200" y="5445000"/>
            <a:ext cx="1380960" cy="514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1" descr="logoSFO"/>
          <p:cNvPicPr/>
          <p:nvPr/>
        </p:nvPicPr>
        <p:blipFill>
          <a:blip r:embed="rId13"/>
          <a:stretch/>
        </p:blipFill>
        <p:spPr>
          <a:xfrm>
            <a:off x="762120" y="5445000"/>
            <a:ext cx="792000" cy="452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2" descr="LogoEMA06"/>
          <p:cNvPicPr/>
          <p:nvPr/>
        </p:nvPicPr>
        <p:blipFill>
          <a:blip r:embed="rId14"/>
          <a:stretch/>
        </p:blipFill>
        <p:spPr>
          <a:xfrm>
            <a:off x="7124760" y="2438280"/>
            <a:ext cx="990720" cy="555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3" descr="UniversiteRouen"/>
          <p:cNvPicPr/>
          <p:nvPr/>
        </p:nvPicPr>
        <p:blipFill>
          <a:blip r:embed="rId15"/>
          <a:stretch/>
        </p:blipFill>
        <p:spPr>
          <a:xfrm>
            <a:off x="6400800" y="3463920"/>
            <a:ext cx="1447920" cy="49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4" descr="LogoTelecom(ISTASE)"/>
          <p:cNvPicPr/>
          <p:nvPr/>
        </p:nvPicPr>
        <p:blipFill>
          <a:blip r:embed="rId16"/>
          <a:stretch/>
        </p:blipFill>
        <p:spPr>
          <a:xfrm>
            <a:off x="3048120" y="2438280"/>
            <a:ext cx="167616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2:41:40Z</dcterms:created>
  <dc:creator>npostec</dc:creator>
  <dc:description/>
  <dc:language>en-US</dc:language>
  <cp:lastModifiedBy>public</cp:lastModifiedBy>
  <dcterms:modified xsi:type="dcterms:W3CDTF">2009-05-13T14:02:36Z</dcterms:modified>
  <cp:revision>163</cp:revision>
  <dc:subject/>
  <dc:title>COPILE OPI 20 dec.</dc:title>
</cp:coreProperties>
</file>