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39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ftr" idx="40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 type="sldNum" idx="41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11F5-9201-4A96-83E4-C40AFEFFC0F1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0D74-2D98-4292-99FD-6F5301BBBD7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75E2-55D6-40C2-BFF7-0C637D1E95D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67B7-F89B-4EF0-BF51-B5FAD403AA2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6645-1E2D-4907-8EBC-D36CD31C839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C704-7F71-4D87-BC5C-E282E91F252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7567-1300-4F9B-AF84-98688F8A55C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5D91-5DB3-4812-B025-04CCD9B8E1CA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FA73-5681-4DCA-AB06-75FAC48D007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86230-BAB7-4808-8D0A-CB2640C31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AB19-62BF-41E2-B133-52FD91DF563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E71F17-2AE6-4BA5-911C-AC99659F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10F843-D01A-45F9-B3E3-7132BA00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83EA95-64B0-4DCC-84EB-FDF44C62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DEC3B5-22E0-40F5-AE4B-36FBDB20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415F21-C581-4409-9767-FB652446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02CDC9-D883-490E-B4D7-0C97C3B9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A4300E-A549-48AD-B948-21116117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0E96A9-E232-414E-818F-4586FADA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836D57-B6CC-413A-981C-02BA76C6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C26A90-1AA7-4C5D-947D-E86E14A7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95B42-0CC6-474B-ABA5-5085B268E53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162E79-F569-4C9F-850A-DCC94A5B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E1399D-ED9C-4C6B-82A5-59C96BD6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168BC4-0376-4EDD-B408-1B35A636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D4989C-F41D-4449-AFCE-7CB4D82C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94E2D6-58D5-4EF9-9027-6FC9C8EA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0EF39A-4977-445C-A226-7A3E63B8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271914-C1F7-47FB-8272-AFBA9CB2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899355-F192-4861-A642-B0C3F6B8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290B0B-5A63-4674-958C-995F1950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154505-74FC-4BB4-B8DE-EBEBDC11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0EBB5-D09D-4E72-A6E5-8896D038F4F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99A35C-008F-4790-831E-98E486E1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662A4C-91B9-46AA-8E27-E0061CCC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2F7E08-6C72-45B8-974E-B47E2D89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9A6BDB-0EA4-4283-BF09-DCDFFAB4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F500B3-873B-467D-A92D-6FB2B55A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23DC0E-CB96-4177-BDF7-200DE878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C9E34A-1022-4460-AC2B-623EFCEE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17D264-97E5-4B7F-B568-607CBBB0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4C332E-3F3A-473F-959B-AF3FC0FC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A6B230-9336-4C1A-8E69-F4ED5861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AF816-B220-4F40-9BA3-3E0C93B1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E0CC84-13AD-4E85-B733-ABDF4C08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F011EC-7EE2-4B99-AC7E-1EEA361C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D935D0-2594-4345-87F3-F9155128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C688FE-AE45-4B57-AFAD-0ECC3244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414616-74E5-4842-AF55-A7D670A8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67D368-C410-4DEC-A5F8-3D674DD1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BC0A6B-4C85-4FE8-9642-79FFE2B9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226860-C7BC-4BF3-B3EB-8409A6F2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FE12EE-849E-4305-BD31-12E67DFC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431E4E-0FBF-4108-AF11-223EF577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3DB28-85A2-4DBA-8473-A37A172F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581549-5CE6-472D-B2BC-F46382AE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B79E4A-9FFE-4F97-BF1D-6D4DFB38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4BD2EA-A7A3-471C-B23B-03ECF5F3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48CC3F-36F6-4AFB-8052-7DFF8C37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7D166F-95CF-4E6A-B114-6BE27973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25DA57-25D2-4733-BDDD-AAB34B6E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FE6A64-F236-4F57-AF93-881BE4E3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702679-90B5-48FF-B069-DFAB61C1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35C8F3-EC3E-426D-BDE2-2BD9357E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BA2FF5-3DE9-4C2F-8746-F380691D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C2BD5-D5BA-4021-BD41-6255711D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D28CD7-D545-4EDE-8142-3AEB9FAA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A45A75-CE1F-41B8-94FF-19747B1A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053EE9-11CD-4FFB-9A90-F183CC14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1453C6-F2A7-4621-82E0-EDC93095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F3DE4B-D5E4-4C47-8F9C-1F39F192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CC8DAF-73E5-4661-AD22-A8567728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FA42B2-0C2A-41EB-88C8-9F12EC6F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9D136-B05D-45B3-A992-97FDB8A0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CF758-3AED-46A3-A719-20F5D08B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F481B-75A3-4D4B-B34E-681ED034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A1505-8C10-4C4B-8768-E2A78F75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BB0D-64DA-417B-B68B-96F3C1D63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E980D-4CFF-4291-BF19-2D8D54CB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EA12B-D71F-47B8-9381-D5E38592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23408-F8D9-479D-B6DB-81CFA358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6E3D4-AD93-4AA0-9659-0912545A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07624-DC8B-4B34-BBED-F98A561A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8E2E7-3133-48E9-916F-4F73E8C6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957C7-3392-4324-BCEA-66D7D929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C6A61-C6D4-4AEE-851B-0388C029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99E69-85B8-4F53-9674-3001BFEE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73100-D07A-4ACE-B405-417B1D14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8268A-8F95-49CB-9DE9-21B9C2851A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3D2B2-5A1E-4D16-9BA1-BF33427D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351E2-D2FB-4743-8FC3-1FF143B2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ADB76-AFC0-4365-984B-DCF94555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4095D-03CB-4EBA-ADD0-C483E9A6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8107C-69F1-4185-B73E-FECB0432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C5E42-3FB4-4827-870D-1EF753EE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C1D84-D6D8-4322-88EB-7CA0EF02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4F50BF-4823-41D5-858D-141B6DBF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26D06-BB97-4E68-A4A0-7F064040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38974A-5BE8-4E54-9D4B-CED1AEA9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78B0A-9960-4B7C-B4F2-5E11DCE3EF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DB703-C8EE-43D7-899B-C0A05B19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442B76-8A64-4E27-8253-FDA39700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377BFD-EBB9-4A75-B905-55E81F63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E1CE1F-9E61-4749-BA8F-90BC988E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A480F3-0634-49EC-AB20-144BD727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117D99-5A5F-4913-B15D-30D8CEDE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B19495-CFF5-4B9D-9DDA-4D3955CC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2EE9A3-684A-4A4C-B98F-7BE3011B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AC6E58-3D97-4493-B751-4054227F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C34CB-6A79-4F27-B6D2-03E49954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65EA8-A4BA-4DA3-816D-1914530347A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CD43C-65A1-4B67-A8C8-9ABD371E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F7D230-BE8E-4F60-AE98-55F4B8D0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48611A-2FFE-4748-8375-11492B87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6CAA6-E4A5-4615-A84B-7F1A40A5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D4FAF-04FC-4560-9321-27135999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E0CB2-F958-4F3E-8092-444E88AF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1DB103-5E88-4D09-BF90-100A90B1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7C696-7DE8-4A91-B689-DA35381D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50CC8-0173-4EE2-836D-FB3CE006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27B42-DE0D-440B-8242-D22D0F7B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681DC-7DCB-4E67-ABCE-472B3CAFCA3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59930B-6A10-46D7-AD7F-427C98A5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651FF-1547-474A-B9C4-D02831A3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31A79D-835F-44CC-9E30-E525561C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EB469-6B87-44F2-BFC8-826C3651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FA576E-BA8A-4F6A-9A8D-B219310B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C0CDD3-15CF-4453-8F99-351921A5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49BAE5-291E-4AEC-8E2F-F4A98FAE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4B736B-9C86-4A33-877D-FC94E5D6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C25D53-8BBA-4C72-BD26-7B9C6714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4C53A-178A-4D3F-875E-4732A764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FA6F2-7D97-4BC0-92F7-3DE514AA24E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93B6FA-CD75-44FB-A6C7-4CBE7705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7FD18-4858-4AF3-B42D-C9F08728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747F0A-6AF0-4B8B-9941-2F641D79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F7287E-E001-4BB5-8C08-ACEFB306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09CEB-6B43-4F71-A7E1-D7B68696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511E60-B67F-4475-A15D-2A93256C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3CE5C2-19B2-4EF4-A74B-D9C11192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83ECE6-22C3-48FD-864E-38AD382A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B9BDDA-4E4D-4730-855A-90B8BD57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FFE5C-1DF9-42E3-AB4F-3359E122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A7E6B-7EEB-4D4C-8371-51758DB8811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B50F38-0EB6-4273-ADD4-65CE65DF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FFF22D-0F74-4B30-9724-2B70B7F4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87224D-6B6F-43CF-B4FC-C06D10A6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F3D26A-3027-48A0-BA90-4C29C049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2127B7-1929-4F85-9D17-E697C7B0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8FD65F-FF71-4AA4-B2C4-73751389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CB771B-C722-49DC-8A7A-DD2FA7A6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CB54AD-E87E-4851-BA5F-5637E582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DCAB0D-5F8E-4E2F-9105-B47BC361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3DF1CB-9E21-4C8A-BCC8-EFE1BCCC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36808-5F46-4814-AB54-FEF2FCA4A19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7128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B7F189-6797-4A59-8EFE-E84C34B3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BDD94F-0586-449C-8CD0-17181457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116484-53E2-4BB7-8096-47FC187B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59557E-9B31-4859-9347-E31C9C7A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14240" y="3791880"/>
            <a:ext cx="797256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D44B6E-1D2C-487F-8EF2-9FF28B1D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9520" y="114264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1424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99520" y="3791880"/>
            <a:ext cx="389052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B4ABF8-5334-47DD-8D92-FDA92489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40992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714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40992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05240" y="3791880"/>
            <a:ext cx="25668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D435E7-8DE9-49FE-9E27-FBC75248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E455DA-BB03-4E1B-84D9-E9B21296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35B584-4BC7-4742-BC50-E9FCB491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223BEB-DA2A-4BDD-8D57-0C10206C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E750-D463-49BC-8BF8-C758140A94C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259A-7838-4014-B73B-831F02DA4026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8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9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D612-2DFA-43F0-AAE5-12518C1A12F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8EC6-B028-4FC4-B3E5-8D43413A2631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1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2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C16E-EFC3-4932-B7D6-60493FBDEC7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AF9F-8028-494F-9181-D9F13CB1B86B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4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5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5442-B186-4EE0-AD6A-8B1EC790146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E3D2-ADF7-4EE4-9A1D-321E982C3BD7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7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8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ED9A-CB47-40CA-8E71-90EC99B78CA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191E-D3B6-4009-BEF4-2A88B46D0619}" type="datetime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33E6-614F-417C-9E85-4E31305AE08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AB65-1292-4797-B724-F1B74C76046C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477F-A7D3-474B-AF6D-DA48651D935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F07E-3995-40E1-AD07-906977E1332D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0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1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D007-7F4F-4D07-A6A2-55F1B677D0F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DA42-441E-49C9-8DCA-5DEB73CE70E2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3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4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F582-1C81-44BB-A7A8-D1415A20130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293D-DF62-4A34-B1D7-49198D5074E8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7900-AF5C-4821-92A6-456A3124003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D038-9D11-4408-85A4-5EE524676893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3DFD-C84D-4CCE-9834-89987E59310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853D-4CFA-43FA-BA42-FBCE933BC328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2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3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ADE5-EA02-4CB2-9556-7CA9A07B8DF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Image 6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6001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F760-748C-4BF2-BBBC-75CFAEFEAFAF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5"/>
          </p:nvPr>
        </p:nvSpPr>
        <p:spPr>
          <a:xfrm>
            <a:off x="428760" y="6500520"/>
            <a:ext cx="4643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6"/>
          </p:nvPr>
        </p:nvSpPr>
        <p:spPr>
          <a:xfrm>
            <a:off x="6552720" y="6500520"/>
            <a:ext cx="21337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8CE3-3965-4382-89EA-1AD92911190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uscia.info/accueil" TargetMode="External"/><Relationship Id="rId2" Type="http://schemas.openxmlformats.org/officeDocument/2006/relationships/hyperlink" Target="mailto:fuscia-accueil@inria.fr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:/wamp/www/fuscia/projets/Fiche_projets_UNIT_2008_Riveill.pdf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214200" y="5429160"/>
            <a:ext cx="878688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Patrick.Rambert@inria.fr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98989"/>
                </a:solidFill>
                <a:latin typeface="Calibri"/>
              </a:rPr>
              <a:t>UNIT  Saint-Étienne 12-13 mai 2009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552" name="Image 4" descr="fuscia_titre.png"/>
          <p:cNvPicPr/>
          <p:nvPr/>
        </p:nvPicPr>
        <p:blipFill>
          <a:blip r:embed="rId1"/>
          <a:stretch/>
        </p:blipFill>
        <p:spPr>
          <a:xfrm>
            <a:off x="2048040" y="2143080"/>
            <a:ext cx="5047920" cy="257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produire des cours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nous réalisons des cours en ligne couvrant un thème novateur et stratégique pour l'Inria </a:t>
            </a:r>
            <a:br>
              <a:rPr sz="2400"/>
            </a:br>
            <a:r>
              <a:rPr b="1" lang="fr-FR" sz="2400" spc="-1" strike="noStrike">
                <a:solidFill>
                  <a:srgbClr val="666666"/>
                </a:solidFill>
                <a:latin typeface="Calibri"/>
              </a:rPr>
              <a:t>Programmation fonctionnelle sûre à l'aide du système Coq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	</a:t>
            </a:r>
            <a:r>
              <a:rPr b="1" lang="fr-FR" sz="2400" spc="-1" strike="noStrike">
                <a:solidFill>
                  <a:srgbClr val="666666"/>
                </a:solidFill>
                <a:latin typeface="Calibri"/>
              </a:rPr>
              <a:t>avec Yves Bertot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, Inria Sophia-Antipolis Méditerranée ; 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ENS Cachan ; Ecoles des Mines, Paris ; univ. Bordeaux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cours multimédia web (30h cours + 30h TD équiv.)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moyens etp :1/3DR, 1.5 ingénieur, collaborateurs ext., </a:t>
            </a:r>
            <a:br>
              <a:rPr sz="2400"/>
            </a:b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10j. de tournage plateau, postproduction, édition web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très forte motivation et implication des chercheurs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action de transfert prioritaire à un moment donné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79" name="Espace réservé du numéro de diapositive 4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D600-E0D0-44A1-A720-2F7C2291893D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contacts &amp; infos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571680" y="714240"/>
            <a:ext cx="8572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articles :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6666"/>
                </a:solidFill>
                <a:latin typeface="Calibri"/>
              </a:rPr>
              <a:t>Lettre d’Unit 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n°16 mars 2009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6666"/>
                </a:solidFill>
                <a:latin typeface="Calibri"/>
              </a:rPr>
              <a:t>INédit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 , Inria n°69  mai 2009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wiki fuscia : http://fuscia.info/fuscia/ (visiteur/fut,si,ya)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site web : http://fuscia.info/ (sept.2009)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bureau d’accueil : </a:t>
            </a:r>
            <a:r>
              <a:rPr b="0" i="1" lang="fr-FR" sz="2800" spc="-1" strike="noStrike">
                <a:solidFill>
                  <a:srgbClr val="666666"/>
                </a:solidFill>
                <a:latin typeface="Calibri"/>
              </a:rPr>
              <a:t>http://fuscia.info/accuei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Principaux intervenants :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Comité éditorial &amp; Intergiciel : Thierry.Vieville@inria.fr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IST : Marie-Helene.Comte@inria.fr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Preuves en coq, international… : Patrick.Rambert@inria.fr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82" name="Espace réservé du numéro de diapositive 3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10BA-25DF-4D5D-9A66-20E03FDFD0C2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objectifs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71680" y="999720"/>
            <a:ext cx="85723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initiative lancée fin 2007 par l’Inria en partenariat avec Unit &amp; Unisciel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objectifs :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améliorer la </a:t>
            </a:r>
            <a:r>
              <a:rPr b="1" lang="fr-FR" sz="2800" spc="-1" strike="noStrike">
                <a:solidFill>
                  <a:srgbClr val="666666"/>
                </a:solidFill>
                <a:latin typeface="Calibri"/>
              </a:rPr>
              <a:t>visibilité et l’accessibilité </a:t>
            </a: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des ressources pédagogiques</a:t>
            </a:r>
            <a:r>
              <a:rPr b="1" lang="fr-FR" sz="2800" spc="-1" strike="noStrike">
                <a:solidFill>
                  <a:srgbClr val="666666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en informatique et mathématiques appliquées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&amp; en </a:t>
            </a:r>
            <a:r>
              <a:rPr b="1" lang="fr-FR" sz="2800" spc="-1" strike="noStrike">
                <a:solidFill>
                  <a:srgbClr val="666666"/>
                </a:solidFill>
                <a:latin typeface="Calibri"/>
              </a:rPr>
              <a:t>produire</a:t>
            </a: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 de nouvelles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ressources :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libres d’accès &amp; principalement francophones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large public visé (étudiants, ingénieurs &amp; chercheurs)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2C69-B157-4AA4-9BB7-9FD62ABD1835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pourquoi l’Inria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713880" y="114264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666666"/>
                </a:solidFill>
                <a:latin typeface="Calibri"/>
              </a:rPr>
              <a:t>les étudiants font leur marché sur le web : </a:t>
            </a: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être </a:t>
            </a:r>
            <a:r>
              <a:rPr b="1" lang="fr-FR" sz="2800" spc="-1" strike="noStrike">
                <a:solidFill>
                  <a:srgbClr val="666666"/>
                </a:solidFill>
                <a:latin typeface="Calibri"/>
              </a:rPr>
              <a:t>visible sur le web</a:t>
            </a: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, contribuer à la diffusion scientifique, occuper la place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diffuser ainsi ses principaux résultats de recherche (</a:t>
            </a:r>
            <a:r>
              <a:rPr b="1" lang="fr-FR" sz="2800" spc="-1" strike="noStrike">
                <a:solidFill>
                  <a:srgbClr val="666666"/>
                </a:solidFill>
                <a:latin typeface="Calibri"/>
              </a:rPr>
              <a:t>valorisation</a:t>
            </a: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 &amp; transfert)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répondre à la demande sociale, promouvoir les vocations,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développer les échanges internationaux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légitimité : formation par la recherche &amp; partenariat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58" name="Espace réservé du numéro de diapositive 5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90C7-419A-4A1B-B3E1-3E3FB743025C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organisation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571680" y="999720"/>
            <a:ext cx="85723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organisation :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666666"/>
                </a:solidFill>
                <a:latin typeface="Calibri"/>
              </a:rPr>
              <a:t>comité éditorial 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mensuel qui regroupe 20 enseignants-chercheurs des principales institutions partenaires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un</a:t>
            </a:r>
            <a:r>
              <a:rPr b="1" lang="fr-FR" sz="2400" spc="-1" strike="noStrike">
                <a:solidFill>
                  <a:srgbClr val="666666"/>
                </a:solidFill>
                <a:latin typeface="Calibri"/>
              </a:rPr>
              <a:t> noyau fuscia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 (3,5 etp) + des </a:t>
            </a:r>
            <a:r>
              <a:rPr b="1" lang="fr-FR" sz="2400" spc="-1" strike="noStrike">
                <a:solidFill>
                  <a:srgbClr val="666666"/>
                </a:solidFill>
                <a:latin typeface="Calibri"/>
              </a:rPr>
              <a:t>productions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 organisées en projets (3 etp)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réseau coanimé par l’Inria &amp; Unit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renforcer les actions avec Unisciel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à l’Inria fuscia est un projet de la Direction de la recherche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1" name="Espace réservé du numéro de diapositive 5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D254-42E1-4BE0-9604-26884D6C4CA3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enjeux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571680" y="999720"/>
            <a:ext cx="85723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Accès aux ressources pédagogiques numériques :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public cible large (universités &amp; entreprises)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hiérarchisation de l’existant (qualifier et valoriser)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Productions :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des ressources de qualité (contenu, auteurs, forme)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666666"/>
                </a:solidFill>
                <a:latin typeface="Calibri"/>
              </a:rPr>
              <a:t>toute formation est un spectacle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 Pierre Schaeffer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s’adapter aux objets communicants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4" name="Espace réservé du numéro de diapositive 5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754B-2A90-4C5C-BE8F-CC4EBDC72656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actions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2142720" y="999720"/>
            <a:ext cx="50720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faciliter les usages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accueillir les demandeurs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éditer des contenus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produire des cours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7" name="Espace réservé du numéro de diapositive 5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6770-0213-4D46-AA5A-F8959EF510D5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faciliter les usages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85880" y="1214280"/>
            <a:ext cx="82152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Avec UNIT, nous butinons, analysons des ressources existantes et les enrichissons de méta-données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à travers une enquête approfondie auprès des collègues UNIT (cours, documents en ligne, usages)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à travers une recherche proactive dans les documents INRIA et au-delà </a:t>
            </a:r>
            <a:br>
              <a:rPr sz="2400"/>
            </a:b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pour :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identifier et valider (à travers le comité éditorial)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promouvoir et rendre visible des ressources existantes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70" name="Espace réservé du numéro de diapositive 5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00F0-0E38-47F3-8388-254A04B01A22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accueillir les demandeurs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713880" y="928800"/>
            <a:ext cx="82155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nous offrons un service de réponse aux questions sur le web depuis septembre 2008 </a:t>
            </a:r>
            <a:r>
              <a:rPr b="0" lang="fr-FR" sz="2400" spc="-1" strike="noStrike" u="sng">
                <a:solidFill>
                  <a:srgbClr val="ff3399"/>
                </a:solidFill>
                <a:uFillTx/>
                <a:latin typeface="Calibri"/>
                <a:hlinkClick r:id="rId1"/>
              </a:rPr>
              <a:t>http://fuscia.info/accueil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 ou </a:t>
            </a:r>
            <a:r>
              <a:rPr b="0" lang="fr-FR" sz="2400" spc="-1" strike="noStrike" u="sng">
                <a:solidFill>
                  <a:srgbClr val="ff3399"/>
                </a:solidFill>
                <a:uFillTx/>
                <a:latin typeface="Calibri"/>
                <a:hlinkClick r:id="rId2"/>
              </a:rPr>
              <a:t>fuscia-accueil@inria.fr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une trentaine de questions par mois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principalement les lycéens et jeunes étudiants en travaux personnels encadrés (TIPE et TPE) (80%)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pas que des STICs, donc en réseau avec les autres partenaires académiques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moyens :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traitement par 2 scientifiques &amp; 2 documentalistes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plus d'une centaine d'experts volontaires selon les besoins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environ 20 à 30 mn / ticket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B3F5-CC4A-4939-95A3-1E3971C38012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Calibri"/>
              </a:rPr>
              <a:t>éditer des contenus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14240" y="114264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nous considérons des ressources existantes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par ex </a:t>
            </a:r>
            <a:r>
              <a:rPr b="0" lang="fr-FR" sz="2400" spc="-1" strike="noStrike" u="sng">
                <a:solidFill>
                  <a:srgbClr val="ff3399"/>
                </a:solidFill>
                <a:uFillTx/>
                <a:latin typeface="Calibri"/>
                <a:hlinkClick r:id="rId1"/>
              </a:rPr>
              <a:t>Intergiciels et systèmes répartis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avec </a:t>
            </a:r>
            <a:r>
              <a:rPr b="1" lang="fr-FR" sz="2400" spc="-1" strike="noStrike">
                <a:solidFill>
                  <a:srgbClr val="666666"/>
                </a:solidFill>
                <a:latin typeface="Calibri"/>
              </a:rPr>
              <a:t>Michel Riveill</a:t>
            </a: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, Univ. de Nice; Telecom Management Evry ; univ. de Lille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très utilisés pour des écoles d'été et de nombreux cursus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mais encore dans des formats bruts (hétérogènes, sans métadonnées, non-interactifs, ..)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6666"/>
                </a:solidFill>
                <a:latin typeface="Calibri"/>
              </a:rPr>
              <a:t>nous proposons des moyens pour mieux: 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structurer les ressources (notions de grains de contenus)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les indexer et les enrichir de métadonnées 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66"/>
                </a:solidFill>
                <a:latin typeface="Calibri"/>
              </a:rPr>
              <a:t>ajouter des exercices interactifs, un site web, un SAV…</a:t>
            </a: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76" name="Espace réservé du numéro de diapositive 5"/>
          <p:cNvSpPr/>
          <p:nvPr/>
        </p:nvSpPr>
        <p:spPr>
          <a:xfrm>
            <a:off x="6553080" y="6500880"/>
            <a:ext cx="2133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A2C2-8CE6-446F-A069-6E904C5FA976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1:17:00Z</dcterms:created>
  <dc:creator>Patrick Rambert</dc:creator>
  <dc:description/>
  <dc:language>en-US</dc:language>
  <cp:lastModifiedBy>Patrick Rambert</cp:lastModifiedBy>
  <dcterms:modified xsi:type="dcterms:W3CDTF">2009-05-13T12:25:15Z</dcterms:modified>
  <cp:revision>150</cp:revision>
  <dc:subject/>
  <dc:title>Diapositive 1</dc:title>
</cp:coreProperties>
</file>