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FC0-6F3F-449A-825A-9330EB26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1FE-4EA9-46B3-9C2B-44F859D5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D5E-0B3F-4AC1-985B-69F39CB5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7B2-7F06-4748-82B8-4A99F754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6BE-1145-43D3-B4E6-53945850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3E4-CDB5-4D5F-AE7D-912620A0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B8F-3ECB-4B08-8EF7-BE014D41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CB5-95D6-49FE-869F-1BD42E63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AD5-0900-4234-AAAB-98E33029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968-3785-41DB-8119-B5BDB16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0C6-8DB8-4D0F-8A1E-CA38D63C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B1B-6994-4807-9745-122645A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6AA9-B4BE-4B63-8D08-F4AEC2E67A2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piral.univ-lyon1.fr/entree.asp?id=5539&amp;id2=35996&amp;objet=cours" TargetMode="External"/><Relationship Id="rId3" Type="http://schemas.openxmlformats.org/officeDocument/2006/relationships/hyperlink" Target="file:///Baphyr1.swf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517680" y="1643040"/>
            <a:ext cx="824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APHYR : Bases Physiques pour la Résonance Magnétique Nucléaire, l’Imagerie et la Spectroscopie par Résonance Magnétique Bioméd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914560" y="3670200"/>
            <a:ext cx="378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06060"/>
                </a:solidFill>
                <a:latin typeface="Arial"/>
              </a:rPr>
              <a:t>Bruno Montcel et André Brigu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06060"/>
                </a:solidFill>
                <a:latin typeface="Arial"/>
              </a:rPr>
              <a:t>Université Ly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06060"/>
                </a:solidFill>
                <a:latin typeface="Arial"/>
              </a:rPr>
              <a:t>service 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rmation du signal R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 flipV="1">
            <a:off x="2590920" y="182844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 flipH="1">
            <a:off x="1523880" y="4343400"/>
            <a:ext cx="106704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2590920" y="434340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 flipV="1">
            <a:off x="2590920" y="2819160"/>
            <a:ext cx="1143000" cy="1523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37339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90920" y="4343400"/>
            <a:ext cx="11430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 rot="10800000">
            <a:off x="1599840" y="2590560"/>
            <a:ext cx="2057400" cy="53316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 rot="1923000">
            <a:off x="3670200" y="4903560"/>
            <a:ext cx="1571760" cy="1066680"/>
          </a:xfrm>
          <a:prstGeom prst="flowChartMagneticDrum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3746520" y="4775040"/>
            <a:ext cx="622440" cy="881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2"/>
          <p:cNvSpPr/>
          <p:nvPr/>
        </p:nvSpPr>
        <p:spPr>
          <a:xfrm>
            <a:off x="3987720" y="4876920"/>
            <a:ext cx="520920" cy="957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3"/>
          <p:cNvSpPr/>
          <p:nvPr/>
        </p:nvSpPr>
        <p:spPr>
          <a:xfrm>
            <a:off x="4178160" y="4964040"/>
            <a:ext cx="508320" cy="954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4341960" y="5092560"/>
            <a:ext cx="534960" cy="1016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5"/>
          <p:cNvSpPr/>
          <p:nvPr/>
        </p:nvSpPr>
        <p:spPr>
          <a:xfrm>
            <a:off x="4483080" y="6095880"/>
            <a:ext cx="1523880" cy="114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5270400" y="5473800"/>
            <a:ext cx="723960" cy="50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2209680" y="121896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2706120" y="942840"/>
            <a:ext cx="42300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amp Magné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ouvement de précessio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imantation nucléaire  M</a:t>
            </a:r>
            <a:r>
              <a:rPr b="1" lang="fr-FR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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175428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1205640" y="5146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32972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2210760" y="4038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804040" y="47656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fr-FR" sz="2000" spc="-1" strike="noStrike">
                <a:solidFill>
                  <a:srgbClr val="a50021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7"/>
          <p:cNvSpPr/>
          <p:nvPr/>
        </p:nvSpPr>
        <p:spPr>
          <a:xfrm>
            <a:off x="6540480" y="5994360"/>
            <a:ext cx="419040" cy="20340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 flipH="1">
            <a:off x="2325600" y="1332000"/>
            <a:ext cx="45720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2935080" y="31431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866880" y="49212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Projet pédag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130400" y="123444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Plus value par rapport à l’ex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252440" y="1762920"/>
            <a:ext cx="74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at de l’art sur le web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2139840" y="2782800"/>
            <a:ext cx="34452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2354400" y="2990880"/>
            <a:ext cx="602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Approche plus concise et emploi de corrélats plus fondamentaux par exemple par des liens vers ces sites plus comple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 flipV="1">
            <a:off x="1965240" y="3173400"/>
            <a:ext cx="344520" cy="7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2546280" y="2614680"/>
            <a:ext cx="602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l est facile de s’y perdre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1860480" y="3833280"/>
            <a:ext cx="47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Sites spécialisés (IRM, Imagerie cérébral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2152800" y="4457880"/>
            <a:ext cx="34416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2351160" y="4673520"/>
            <a:ext cx="604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Bases plus larges et contenu pluridisciplinaire. Corrélats applicatifs vers ces sites plus spécialisé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 flipV="1">
            <a:off x="1962000" y="4856040"/>
            <a:ext cx="344520" cy="7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558880" y="4289400"/>
            <a:ext cx="60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enu limité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1839240" y="2185920"/>
            <a:ext cx="42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Sites généralistes pouvant être très comp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017720" y="1215720"/>
            <a:ext cx="754380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quipe pédagogiq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 Enseignants Chercheur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runo Montcel et André Briguet - Université Lyo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Jean Michel Franconi - Université Bordeaux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rançois Langevin - Université Technologique de Compiè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Moniteur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lise Bannier et Florent Goutailler - Université Lyo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866880" y="5032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Ressources hum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055520" y="4013280"/>
            <a:ext cx="75438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quipe techni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CAP - Université Lyo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Ingénieurs Multimédia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Technicien multiméd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409680" y="41436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Problématiques du côté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age 4" descr="espacek_1.jpg"/>
          <p:cNvPicPr/>
          <p:nvPr/>
        </p:nvPicPr>
        <p:blipFill>
          <a:blip r:embed="rId2"/>
          <a:stretch/>
        </p:blipFill>
        <p:spPr>
          <a:xfrm>
            <a:off x="4438800" y="1255680"/>
            <a:ext cx="4765680" cy="34322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" descr="schéma.jpg"/>
          <p:cNvPicPr/>
          <p:nvPr/>
        </p:nvPicPr>
        <p:blipFill>
          <a:blip r:embed="rId3"/>
          <a:stretch/>
        </p:blipFill>
        <p:spPr>
          <a:xfrm>
            <a:off x="60480" y="755640"/>
            <a:ext cx="3700440" cy="5102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749160" y="1058400"/>
            <a:ext cx="8229600" cy="36975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3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rendre les phénomènes (sans notion de RM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tiliser et interpréter les termes techniques de l’équipe enseignant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muler de la 3D à partir de Flas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ication de méthodes mathématiques appelées « transformées de fournier » afin de convertir ces données fréquentielles en information spatiales pour donner une image exploitab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icipation de la réutilisation du code et uniformité des anim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539640" y="1198440"/>
            <a:ext cx="8425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udi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que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 étudia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yon1 suivis de façon très précises grâces à Spiral depuis septembre 200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autres utilisateurs, étudiants des autres universités (Bordeaux et Compiègne) utilisent le lien anonyme comme les extérieu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née ISTIL (Institut des sciences et techniques de l’Ingénieur de Lyon) département GBM: 25 étud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 ISM (Ingénierie pour la santé et le médicament): 42 étudiants (semestre printemps février à avr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2 Recherche ISM: 13 étudiants (semestre automne sept à janvi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866880" y="5032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Retour sur les premiers usages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539640" y="1198440"/>
            <a:ext cx="842508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isation sous 2 form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Libre tout au long de l’année universi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Encadrée en TP: approfondissement d’une notion précise et présentation orale devant le grou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ésulta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587 connexions au cours en ligne en tout soit 7.3 connexions par étudi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De 1 à 32 connexions par étudi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Forte corrélation entre le classement en nombre de connexions et les résultats aux exam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Bon retour oral des étudiants sur l’utilisation des ressources et commentaires de propositions de modifications et d’améliorations de la part de certains d’entre eu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866880" y="5032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Retour sur les premiers usag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  <a:ea typeface="Arial"/>
              </a:rPr>
              <a:t>(2008-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87280" y="130320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tilisation des ressources Baphy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28 connexions en anonyme soit 1215 connexions au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57480" y="2255760"/>
          <a:ext cx="5219640" cy="30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7480" y="2255760"/>
                    <a:ext cx="521964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Line 5"/>
          <p:cNvSpPr/>
          <p:nvPr/>
        </p:nvSpPr>
        <p:spPr>
          <a:xfrm>
            <a:off x="4676760" y="4416480"/>
            <a:ext cx="0" cy="1152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6334200" y="4416480"/>
            <a:ext cx="0" cy="1152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66880" y="5032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Retour sur les premiers usage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  <a:ea typeface="Arial"/>
              </a:rPr>
              <a:t>(2008-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866880" y="64944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1143000" y="1555920"/>
            <a:ext cx="772632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jet réalisé et tes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nu à la carte - utilisation des corrél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loration des innovations pédagogiques permises par les 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spectiv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ersion anglo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de wikis pour aller plus loin sur les concepts gén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1" descr=""/>
          <p:cNvPicPr/>
          <p:nvPr/>
        </p:nvPicPr>
        <p:blipFill>
          <a:blip r:embed="rId2"/>
          <a:stretch/>
        </p:blipFill>
        <p:spPr>
          <a:xfrm>
            <a:off x="1843200" y="203040"/>
            <a:ext cx="5724360" cy="572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EG-4territ1+FIG"/>
          <p:cNvPicPr/>
          <p:nvPr/>
        </p:nvPicPr>
        <p:blipFill>
          <a:blip r:embed="rId2"/>
          <a:stretch/>
        </p:blipFill>
        <p:spPr>
          <a:xfrm>
            <a:off x="6583320" y="938160"/>
            <a:ext cx="2798640" cy="2079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996920" y="3405240"/>
            <a:ext cx="3765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95360" indent="-4953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unauté impliqu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ateurs ci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jet pédag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endrie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évi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ssources hu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66880" y="5032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Pourquoi ce proj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84200" y="971280"/>
            <a:ext cx="786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RMN biomédicale, un sujet complexe et pluridisciplin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1052640" y="1536840"/>
            <a:ext cx="34452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1436760" y="1382400"/>
            <a:ext cx="6351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icultés d’apprentissage pour l’étud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7"/>
          <p:cNvSpPr/>
          <p:nvPr/>
        </p:nvSpPr>
        <p:spPr>
          <a:xfrm flipV="1">
            <a:off x="754200" y="2273400"/>
            <a:ext cx="326880" cy="7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1136520" y="2106000"/>
            <a:ext cx="7248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sources fiables et actualisées - approche rigou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9"/>
          <p:cNvSpPr/>
          <p:nvPr/>
        </p:nvSpPr>
        <p:spPr>
          <a:xfrm>
            <a:off x="1054080" y="1879560"/>
            <a:ext cx="34452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1438200" y="1725120"/>
            <a:ext cx="6351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arche type ingénierie pour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1"/>
          <p:cNvSpPr/>
          <p:nvPr/>
        </p:nvSpPr>
        <p:spPr>
          <a:xfrm flipV="1">
            <a:off x="763560" y="3108240"/>
            <a:ext cx="326880" cy="7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146240" y="2937960"/>
            <a:ext cx="7248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proche multimédia: illustrations &amp; animations explic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 flipV="1">
            <a:off x="757080" y="2689200"/>
            <a:ext cx="327240" cy="7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1139760" y="2518920"/>
            <a:ext cx="7248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rge disponibilité du L3 au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tse_t2_ax2"/>
          <p:cNvPicPr/>
          <p:nvPr/>
        </p:nvPicPr>
        <p:blipFill>
          <a:blip r:embed="rId3"/>
          <a:stretch/>
        </p:blipFill>
        <p:spPr>
          <a:xfrm>
            <a:off x="5883120" y="3730680"/>
            <a:ext cx="2322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20680" y="13010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866880" y="43956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Communauté impliqu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454040" y="1851840"/>
            <a:ext cx="7062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Université Lyon 1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: Bruno Montcel (MC) et André Briguet (P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Laboratoire CREATIS-LRMN, CNRS UMR5220 INSERM U63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UFR Génie Electrique et des Procéd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122480" y="31521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e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440000" y="3739320"/>
            <a:ext cx="6508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Université Bordeaux 2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: Jean Michel Franconi (P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Directeur du Centre de Résonance Magnétique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Systèmes Biologiques CNRS UMR55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Université Technologique de Compièg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: François Langevin (P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Directeur du Centre d’Imagerie Médicale Avancé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1130400" y="1567800"/>
            <a:ext cx="20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Leurs at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866880" y="8254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Utilisateurs c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1433520" y="2173320"/>
            <a:ext cx="641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teractivité des res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llu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Documents complémentaires au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i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1368360" y="4117680"/>
            <a:ext cx="67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arche Sciences pour l’Ingénieur pour la Biologie et la Médecine. But professionnalisant pour de futurs techniciens, ingénieurs médecins et cherch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866880" y="8254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Utilisateurs c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130400" y="1567800"/>
            <a:ext cx="20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Qui sont i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1270080" y="1937880"/>
            <a:ext cx="70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iants se destinant à des carrières médicales, biomédic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amédicales - niveau L3 au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1631880" y="2530440"/>
            <a:ext cx="6973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. Lyon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- L S&amp;T, L3 Génie Biomédical, M1 EEA, M Ingénierie pour la Santé, M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ciences Médicales, ISTIL 2A, Ecoles Doctorales EEA et ED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. Grenoble et U. Lyon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- M2 Physique Médi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TC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- M2 Génie Biomédical, M2 d’Ingénierie Biomédicale et Hospital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. Bordeaux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 - L Biologie Santé, M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1290600" y="4540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ercheurs du dom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1647720" y="4937760"/>
            <a:ext cx="735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jets Européens : Sessions de formations pour deux RTN  (FAST et PHELI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1301760" y="529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ormations continues en entre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297080" y="3679200"/>
            <a:ext cx="77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Ouverture à l’international - sphère franco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1619280" y="4010400"/>
            <a:ext cx="752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. Cluj-Napoca (Roumanie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- M Physique Médi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. Technologiques Tlemcen, Mohammedia, Settat, Beyrouth, Alep, Abomey-Cala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866880" y="64944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Projet pédag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1130400" y="1404720"/>
            <a:ext cx="360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Démarche pédag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1258920" y="2031840"/>
            <a:ext cx="69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Architecture non linéaire du cours afin de permettre les allers ret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tre les sujets d’intérêt et les pré requis nécessaires qui seront signalé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1260360" y="2888280"/>
            <a:ext cx="728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llustrations et animations seront traitées non pas de façon t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ématique ou fortement simplifiée, mais en cherchant à appro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 mieux les fondements physiques de la RMN biomédic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1262160" y="3985200"/>
            <a:ext cx="724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herche de corrélations avec des produits UNIT existants ou en c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’élaboration (Biotechnologies, Biologie, Electronique, Physique, Trai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u Signal et de l’Ima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866880" y="503280"/>
            <a:ext cx="82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Arial"/>
                <a:ea typeface="Arial"/>
              </a:rPr>
              <a:t>Projet pédag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130400" y="1258560"/>
            <a:ext cx="360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Choix de pré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1463760" y="1669320"/>
            <a:ext cx="74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ges html : textes, schémas/infographie, animations F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1706400" y="2063880"/>
            <a:ext cx="69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5 chapitres constituant une base concise mais rigoureuse pour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rentissage minimal si nécess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1708200" y="2655360"/>
            <a:ext cx="69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Corrélats renvoyant à des bases plus fondam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1709640" y="3038040"/>
            <a:ext cx="69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Corrélats renvoyant aux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1130400" y="3372840"/>
            <a:ext cx="20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Plan géné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421320" y="4399920"/>
            <a:ext cx="2409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~ 40 Animations 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~ 40 Illu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1360440" y="3789720"/>
            <a:ext cx="571500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ses et principes généraux de la RMN - 8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relaxation magnétique nucléaire - 6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strumentation - 6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Spectroscopie - 5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magerie - 10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95280" y="220680"/>
            <a:ext cx="84945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piral.univ-lyon1.fr/entree.asp?id=5539&amp;id2=35996&amp;objet=cou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xemples de flas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11" descr="baphyr snapshot.png"/>
          <p:cNvPicPr/>
          <p:nvPr/>
        </p:nvPicPr>
        <p:blipFill>
          <a:blip r:embed="rId4"/>
          <a:stretch/>
        </p:blipFill>
        <p:spPr>
          <a:xfrm>
            <a:off x="609480" y="1670040"/>
            <a:ext cx="79804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49:13Z</dcterms:created>
  <dc:creator>Ramstein Stéphane</dc:creator>
  <dc:description/>
  <dc:language>en-US</dc:language>
  <cp:lastModifiedBy>Nicolas Coltice</cp:lastModifiedBy>
  <dcterms:modified xsi:type="dcterms:W3CDTF">2009-05-13T07:33:05Z</dcterms:modified>
  <cp:revision>343</cp:revision>
  <dc:subject/>
  <dc:title>Présentation PowerPoint</dc:title>
</cp:coreProperties>
</file>