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56D-DA8F-4A37-B30F-5FC38598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929-59FA-4009-A975-0EC674E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B2-296B-4452-8581-8BCBFB79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44D-B3B7-46B1-B4F8-F10185B6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7C0-DF66-4A01-B10A-CCB70D0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ABA-CD09-41A3-B575-7C8F4855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EF4-C2C6-4BC2-B7F2-DBC554AD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5D9-6012-4A68-9B04-E6F9A5C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E56-B801-470F-87B6-204281F7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E6F-11A5-48E2-B09C-0C30AAC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6EB-DFAA-42BE-8BD6-E1555AE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378-11AD-41B5-BA23-4DC4534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D8E09-EE18-4866-B783-E5CEFC395B4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B68B2-D2BB-47C9-BDAF-8AF8295DB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"/>
          <p:cNvSpPr/>
          <p:nvPr/>
        </p:nvSpPr>
        <p:spPr>
          <a:xfrm>
            <a:off x="571680" y="909720"/>
            <a:ext cx="800100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  <a:ea typeface="Calibri"/>
              </a:rPr>
              <a:t>Analyse de Cycle de V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Application aux Bioprod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ition de Module d’Enseignement UNIT et U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"/>
          <p:cNvSpPr/>
          <p:nvPr/>
        </p:nvSpPr>
        <p:spPr>
          <a:xfrm>
            <a:off x="932040" y="441000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INPL-ENSAIA: Jean-Marc ENG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Service TICE: Nathalie BERN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3808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gramme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23960" y="1355760"/>
          <a:ext cx="7696080" cy="4541760"/>
        </p:xfrm>
        <a:graphic>
          <a:graphicData uri="http://schemas.openxmlformats.org/drawingml/2006/table">
            <a:tbl>
              <a:tblPr/>
              <a:tblGrid>
                <a:gridCol w="380880"/>
                <a:gridCol w="4762440"/>
                <a:gridCol w="1524240"/>
                <a:gridCol w="10285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ngénierie pédagogi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M. Eng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onception &amp; rédaction des contenus   pédagog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M. Eng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isation du simulateur-tabl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daction des kits pédagogiques pour étudiants et enseign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tion de fiches 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Conception et réalisation multi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Validation technique et pédagogique de la ressource en contexte d'enseign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A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Validation par partenaire(s) extern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ZoneTexte 1"/>
          <p:cNvSpPr/>
          <p:nvPr/>
        </p:nvSpPr>
        <p:spPr>
          <a:xfrm>
            <a:off x="457200" y="99072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Choix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essource sera développée par le service TICE de Nancy Univer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c la chaîne éditoriale « scenari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 répondra au cahier des charges technique d'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choix technique satisfait ainsi les recommandations des UNT UNIT et U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imulateur-tableur s’appuiera sur des logiciels l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905120" y="1143000"/>
          <a:ext cx="5333760" cy="3503520"/>
        </p:xfrm>
        <a:graphic>
          <a:graphicData uri="http://schemas.openxmlformats.org/drawingml/2006/table">
            <a:tbl>
              <a:tblPr/>
              <a:tblGrid>
                <a:gridCol w="457200"/>
                <a:gridCol w="3581280"/>
                <a:gridCol w="1295280"/>
              </a:tblGrid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Université 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8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énieur multimédia: 4 400 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ant ingénieur: 10 800 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ien: 2 6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munération des au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on du projet: 2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oits d’auteur: 4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valuation et validation:6 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pla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is de 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4600" indent="-3556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8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ZoneTexte 2"/>
          <p:cNvSpPr/>
          <p:nvPr/>
        </p:nvSpPr>
        <p:spPr>
          <a:xfrm>
            <a:off x="2185560" y="510552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mande d’aide UVED – UNIT:  2 x 16 900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52280" y="3049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39"/>
          <p:cNvSpPr/>
          <p:nvPr/>
        </p:nvSpPr>
        <p:spPr>
          <a:xfrm rot="5445000">
            <a:off x="1579680" y="5164560"/>
            <a:ext cx="609480" cy="335160"/>
          </a:xfrm>
          <a:prstGeom prst="triangle">
            <a:avLst>
              <a:gd name="adj" fmla="val 52329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457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tion en Ingénierie Agro-Bioindustriel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0082"/>
          <p:cNvPicPr/>
          <p:nvPr/>
        </p:nvPicPr>
        <p:blipFill>
          <a:blip r:embed="rId2"/>
          <a:stretch/>
        </p:blipFill>
        <p:spPr>
          <a:xfrm>
            <a:off x="700200" y="1671480"/>
            <a:ext cx="1828800" cy="197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j0145571"/>
          <p:cNvPicPr/>
          <p:nvPr/>
        </p:nvPicPr>
        <p:blipFill>
          <a:blip r:embed="rId3"/>
          <a:stretch/>
        </p:blipFill>
        <p:spPr>
          <a:xfrm>
            <a:off x="7162920" y="1555920"/>
            <a:ext cx="1406520" cy="92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7162920" y="2616120"/>
            <a:ext cx="1460520" cy="9590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3"/>
          <p:cNvSpPr/>
          <p:nvPr/>
        </p:nvSpPr>
        <p:spPr>
          <a:xfrm>
            <a:off x="3232080" y="4719600"/>
            <a:ext cx="52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- Dimens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ation économique et environne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24"/>
          <p:cNvSpPr/>
          <p:nvPr/>
        </p:nvSpPr>
        <p:spPr>
          <a:xfrm>
            <a:off x="649080" y="37400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grores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5"/>
          <p:cNvSpPr/>
          <p:nvPr/>
        </p:nvSpPr>
        <p:spPr>
          <a:xfrm>
            <a:off x="7265880" y="37400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ioprod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05049"/>
          <p:cNvPicPr/>
          <p:nvPr/>
        </p:nvPicPr>
        <p:blipFill>
          <a:blip r:embed="rId5"/>
          <a:srcRect l="0" t="0" r="7998" b="0"/>
          <a:stretch/>
        </p:blipFill>
        <p:spPr>
          <a:xfrm>
            <a:off x="3232080" y="1523880"/>
            <a:ext cx="3092400" cy="2260800"/>
          </a:xfrm>
          <a:prstGeom prst="rect">
            <a:avLst/>
          </a:prstGeom>
          <a:ln w="0">
            <a:noFill/>
          </a:ln>
        </p:spPr>
      </p:pic>
      <p:sp>
        <p:nvSpPr>
          <p:cNvPr id="51" name="Flèche vers la droite 43"/>
          <p:cNvSpPr/>
          <p:nvPr/>
        </p:nvSpPr>
        <p:spPr>
          <a:xfrm>
            <a:off x="2666880" y="1523880"/>
            <a:ext cx="381240" cy="2363760"/>
          </a:xfrm>
          <a:prstGeom prst="rightArrow">
            <a:avLst>
              <a:gd name="adj1" fmla="val 50000"/>
              <a:gd name="adj2" fmla="val 73333"/>
            </a:avLst>
          </a:prstGeom>
          <a:noFill/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èche vers la droite 44"/>
          <p:cNvSpPr/>
          <p:nvPr/>
        </p:nvSpPr>
        <p:spPr>
          <a:xfrm>
            <a:off x="6553080" y="1523880"/>
            <a:ext cx="381240" cy="2362320"/>
          </a:xfrm>
          <a:prstGeom prst="rightArrow">
            <a:avLst>
              <a:gd name="adj1" fmla="val 50000"/>
              <a:gd name="adj2" fmla="val 70000"/>
            </a:avLst>
          </a:prstGeom>
          <a:noFill/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39"/>
          <p:cNvSpPr/>
          <p:nvPr/>
        </p:nvSpPr>
        <p:spPr>
          <a:xfrm rot="5445000">
            <a:off x="2309760" y="5089320"/>
            <a:ext cx="1066680" cy="333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4"/>
          <p:cNvSpPr/>
          <p:nvPr/>
        </p:nvSpPr>
        <p:spPr>
          <a:xfrm>
            <a:off x="3321720" y="389268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rocédés d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457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tion en Ingénierie Agro-Bioindustriell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à coins arrondis 13"/>
          <p:cNvSpPr/>
          <p:nvPr/>
        </p:nvSpPr>
        <p:spPr>
          <a:xfrm>
            <a:off x="490680" y="1519200"/>
            <a:ext cx="2666880" cy="213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63"/>
          <p:cNvSpPr/>
          <p:nvPr/>
        </p:nvSpPr>
        <p:spPr>
          <a:xfrm>
            <a:off x="490680" y="16178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ondament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Procéd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82"/>
          <p:cNvSpPr/>
          <p:nvPr/>
        </p:nvSpPr>
        <p:spPr>
          <a:xfrm>
            <a:off x="3581280" y="38527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eption intégrée de procéd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527040" y="2201760"/>
            <a:ext cx="235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rmodynam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canique des flu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ferts de mat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ferts de chal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inétiques de ré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17"/>
          <p:cNvSpPr/>
          <p:nvPr/>
        </p:nvSpPr>
        <p:spPr>
          <a:xfrm>
            <a:off x="3718080" y="1523880"/>
            <a:ext cx="3200400" cy="1605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63"/>
          <p:cNvSpPr/>
          <p:nvPr/>
        </p:nvSpPr>
        <p:spPr>
          <a:xfrm>
            <a:off x="3784680" y="1617840"/>
            <a:ext cx="29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érations unit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4"/>
          <p:cNvSpPr/>
          <p:nvPr/>
        </p:nvSpPr>
        <p:spPr>
          <a:xfrm>
            <a:off x="3864600" y="2046240"/>
            <a:ext cx="291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caniques, therm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versions (bio)chim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14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actionnements, pu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5"/>
          <p:cNvSpPr/>
          <p:nvPr/>
        </p:nvSpPr>
        <p:spPr>
          <a:xfrm>
            <a:off x="3886200" y="42879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sation économ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sation environnem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21"/>
          <p:cNvSpPr/>
          <p:nvPr/>
        </p:nvSpPr>
        <p:spPr>
          <a:xfrm>
            <a:off x="3319560" y="3657600"/>
            <a:ext cx="3995640" cy="1841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39"/>
          <p:cNvSpPr/>
          <p:nvPr/>
        </p:nvSpPr>
        <p:spPr>
          <a:xfrm rot="5445000">
            <a:off x="3139200" y="2278440"/>
            <a:ext cx="1077840" cy="333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8"/>
          <p:cNvSpPr/>
          <p:nvPr/>
        </p:nvSpPr>
        <p:spPr>
          <a:xfrm>
            <a:off x="6968160" y="1817640"/>
            <a:ext cx="195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ises en oe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alcul, modé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39"/>
          <p:cNvSpPr/>
          <p:nvPr/>
        </p:nvSpPr>
        <p:spPr>
          <a:xfrm rot="10800000">
            <a:off x="4403880" y="3429000"/>
            <a:ext cx="1828800" cy="333360"/>
          </a:xfrm>
          <a:prstGeom prst="triangle">
            <a:avLst>
              <a:gd name="adj" fmla="val 50694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39"/>
          <p:cNvSpPr/>
          <p:nvPr/>
        </p:nvSpPr>
        <p:spPr>
          <a:xfrm flipH="1" rot="16155000">
            <a:off x="2758320" y="2293560"/>
            <a:ext cx="1076400" cy="333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39"/>
          <p:cNvSpPr/>
          <p:nvPr/>
        </p:nvSpPr>
        <p:spPr>
          <a:xfrm flipV="1" rot="10800000">
            <a:off x="4419720" y="3048120"/>
            <a:ext cx="1828800" cy="333360"/>
          </a:xfrm>
          <a:prstGeom prst="triangle">
            <a:avLst>
              <a:gd name="adj" fmla="val 50694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1"/>
          <p:cNvSpPr/>
          <p:nvPr/>
        </p:nvSpPr>
        <p:spPr>
          <a:xfrm>
            <a:off x="228600" y="276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Analyse de Cycle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76"/>
          <p:cNvSpPr/>
          <p:nvPr/>
        </p:nvSpPr>
        <p:spPr>
          <a:xfrm>
            <a:off x="3042720" y="83808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es impacts environnementaux du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erceau au tombeau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er 67"/>
          <p:cNvGrpSpPr/>
          <p:nvPr/>
        </p:nvGrpSpPr>
        <p:grpSpPr>
          <a:xfrm>
            <a:off x="380880" y="1447920"/>
            <a:ext cx="8293320" cy="2894760"/>
            <a:chOff x="380880" y="1447920"/>
            <a:chExt cx="8293320" cy="2894760"/>
          </a:xfrm>
        </p:grpSpPr>
        <p:sp>
          <p:nvSpPr>
            <p:cNvPr id="73" name="Rectangle 1026"/>
            <p:cNvSpPr/>
            <p:nvPr/>
          </p:nvSpPr>
          <p:spPr>
            <a:xfrm>
              <a:off x="3270600" y="2581200"/>
              <a:ext cx="36684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27"/>
            <p:cNvSpPr/>
            <p:nvPr/>
          </p:nvSpPr>
          <p:spPr>
            <a:xfrm>
              <a:off x="2001600" y="2581200"/>
              <a:ext cx="1083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matiè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premiè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31"/>
            <p:cNvSpPr/>
            <p:nvPr/>
          </p:nvSpPr>
          <p:spPr>
            <a:xfrm>
              <a:off x="4862520" y="2505240"/>
              <a:ext cx="118584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produ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</a:rPr>
                <a:t>co-produi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33"/>
            <p:cNvSpPr/>
            <p:nvPr/>
          </p:nvSpPr>
          <p:spPr>
            <a:xfrm>
              <a:off x="2977200" y="288468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35"/>
            <p:cNvSpPr/>
            <p:nvPr/>
          </p:nvSpPr>
          <p:spPr>
            <a:xfrm>
              <a:off x="3833280" y="2581200"/>
              <a:ext cx="39132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36"/>
            <p:cNvSpPr/>
            <p:nvPr/>
          </p:nvSpPr>
          <p:spPr>
            <a:xfrm>
              <a:off x="3490920" y="288468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38"/>
            <p:cNvSpPr/>
            <p:nvPr/>
          </p:nvSpPr>
          <p:spPr>
            <a:xfrm>
              <a:off x="4371480" y="2581200"/>
              <a:ext cx="36684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39"/>
            <p:cNvSpPr/>
            <p:nvPr/>
          </p:nvSpPr>
          <p:spPr>
            <a:xfrm>
              <a:off x="4224960" y="2884680"/>
              <a:ext cx="24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47"/>
            <p:cNvSpPr/>
            <p:nvPr/>
          </p:nvSpPr>
          <p:spPr>
            <a:xfrm>
              <a:off x="2490120" y="1447920"/>
              <a:ext cx="162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nergie foss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48"/>
            <p:cNvSpPr/>
            <p:nvPr/>
          </p:nvSpPr>
          <p:spPr>
            <a:xfrm>
              <a:off x="5265720" y="149076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57"/>
            <p:cNvSpPr/>
            <p:nvPr/>
          </p:nvSpPr>
          <p:spPr>
            <a:xfrm>
              <a:off x="1334880" y="4005360"/>
              <a:ext cx="175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missions 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058"/>
            <p:cNvSpPr/>
            <p:nvPr/>
          </p:nvSpPr>
          <p:spPr>
            <a:xfrm>
              <a:off x="3389760" y="4005360"/>
              <a:ext cx="182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missions ea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59"/>
            <p:cNvSpPr/>
            <p:nvPr/>
          </p:nvSpPr>
          <p:spPr>
            <a:xfrm>
              <a:off x="5599440" y="4005360"/>
              <a:ext cx="19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chets soli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60"/>
            <p:cNvSpPr/>
            <p:nvPr/>
          </p:nvSpPr>
          <p:spPr>
            <a:xfrm>
              <a:off x="504720" y="2352600"/>
              <a:ext cx="1343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roduction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es matiè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remiè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061"/>
            <p:cNvSpPr/>
            <p:nvPr/>
          </p:nvSpPr>
          <p:spPr>
            <a:xfrm>
              <a:off x="6100200" y="2597040"/>
              <a:ext cx="1197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til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62"/>
            <p:cNvSpPr/>
            <p:nvPr/>
          </p:nvSpPr>
          <p:spPr>
            <a:xfrm>
              <a:off x="7257960" y="2597040"/>
              <a:ext cx="127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en fin de v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63"/>
            <p:cNvSpPr/>
            <p:nvPr/>
          </p:nvSpPr>
          <p:spPr>
            <a:xfrm>
              <a:off x="4665240" y="288468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065"/>
            <p:cNvSpPr/>
            <p:nvPr/>
          </p:nvSpPr>
          <p:spPr>
            <a:xfrm>
              <a:off x="453960" y="2276640"/>
              <a:ext cx="1467720" cy="1218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066"/>
            <p:cNvSpPr/>
            <p:nvPr/>
          </p:nvSpPr>
          <p:spPr>
            <a:xfrm>
              <a:off x="6105600" y="2428920"/>
              <a:ext cx="2406600" cy="838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67"/>
            <p:cNvSpPr/>
            <p:nvPr/>
          </p:nvSpPr>
          <p:spPr>
            <a:xfrm>
              <a:off x="7279920" y="24289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69"/>
            <p:cNvSpPr/>
            <p:nvPr/>
          </p:nvSpPr>
          <p:spPr>
            <a:xfrm>
              <a:off x="1775160" y="291456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71"/>
            <p:cNvSpPr/>
            <p:nvPr/>
          </p:nvSpPr>
          <p:spPr>
            <a:xfrm>
              <a:off x="380880" y="1987560"/>
              <a:ext cx="8293320" cy="1736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70"/>
            <p:cNvSpPr/>
            <p:nvPr/>
          </p:nvSpPr>
          <p:spPr>
            <a:xfrm>
              <a:off x="3316680" y="173520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70"/>
            <p:cNvSpPr/>
            <p:nvPr/>
          </p:nvSpPr>
          <p:spPr>
            <a:xfrm>
              <a:off x="5518440" y="179532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70"/>
            <p:cNvSpPr/>
            <p:nvPr/>
          </p:nvSpPr>
          <p:spPr>
            <a:xfrm>
              <a:off x="2211120" y="358776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070"/>
            <p:cNvSpPr/>
            <p:nvPr/>
          </p:nvSpPr>
          <p:spPr>
            <a:xfrm>
              <a:off x="4302720" y="358776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70"/>
            <p:cNvSpPr/>
            <p:nvPr/>
          </p:nvSpPr>
          <p:spPr>
            <a:xfrm>
              <a:off x="6550560" y="358776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ZoneTexte 43"/>
            <p:cNvSpPr/>
            <p:nvPr/>
          </p:nvSpPr>
          <p:spPr>
            <a:xfrm>
              <a:off x="3162240" y="224784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065"/>
            <p:cNvSpPr/>
            <p:nvPr/>
          </p:nvSpPr>
          <p:spPr>
            <a:xfrm>
              <a:off x="3169800" y="2200320"/>
              <a:ext cx="1665000" cy="132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63"/>
            <p:cNvSpPr/>
            <p:nvPr/>
          </p:nvSpPr>
          <p:spPr>
            <a:xfrm>
              <a:off x="5885280" y="288612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063"/>
            <p:cNvSpPr/>
            <p:nvPr/>
          </p:nvSpPr>
          <p:spPr>
            <a:xfrm>
              <a:off x="7133040" y="288612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ZoneTexte 35"/>
          <p:cNvSpPr/>
          <p:nvPr/>
        </p:nvSpPr>
        <p:spPr>
          <a:xfrm>
            <a:off x="3994200" y="4619520"/>
            <a:ext cx="4526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Outil d’aide à l’écoco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le agroressourc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 procédé de trans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les conditions de mise en oeuv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  bioprodu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39"/>
          <p:cNvSpPr/>
          <p:nvPr/>
        </p:nvSpPr>
        <p:spPr>
          <a:xfrm rot="5445000">
            <a:off x="3577680" y="5141520"/>
            <a:ext cx="1067040" cy="333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10"/>
          <p:cNvSpPr/>
          <p:nvPr/>
        </p:nvSpPr>
        <p:spPr>
          <a:xfrm>
            <a:off x="2233800" y="1674720"/>
            <a:ext cx="454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tudes de cas: procédé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ruction et utilisation de simul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 informatique tab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13"/>
          <p:cNvSpPr/>
          <p:nvPr/>
        </p:nvSpPr>
        <p:spPr>
          <a:xfrm>
            <a:off x="3686400" y="3733920"/>
            <a:ext cx="4841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266760">
              <a:spcBef>
                <a:spcPts val="601"/>
              </a:spcBef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 modules sous format simulateur-tabl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spcBef>
                <a:spcPts val="601"/>
              </a:spcBef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économique de bioprocéd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spcBef>
                <a:spcPts val="601"/>
              </a:spcBef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nalyse de cycle de vie de bioprodu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spcBef>
                <a:spcPts val="601"/>
              </a:spcBef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édé de bioconversion enzy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266760">
              <a:spcBef>
                <a:spcPts val="601"/>
              </a:spcBef>
              <a:tabLst>
                <a:tab algn="l" pos="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édé de fermentation microbi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52280" y="533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pproche pédagogique ENSA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39"/>
          <p:cNvSpPr/>
          <p:nvPr/>
        </p:nvSpPr>
        <p:spPr>
          <a:xfrm rot="5445000">
            <a:off x="3297240" y="4406760"/>
            <a:ext cx="1066680" cy="333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"/>
          <p:cNvSpPr/>
          <p:nvPr/>
        </p:nvSpPr>
        <p:spPr>
          <a:xfrm>
            <a:off x="228600" y="406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Etude de cas:  ACV Biocarb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2222640"/>
          <a:ext cx="2210040" cy="48708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agric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743200" y="1994040"/>
          <a:ext cx="3962520" cy="19969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533520"/>
                <a:gridCol w="1447920"/>
              </a:tblGrid>
              <a:tr h="456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édé de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il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shydra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tements de co-prod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age-Séc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pul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vin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934320" y="2222640"/>
          <a:ext cx="1676160" cy="48708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ZoneTexte 13"/>
          <p:cNvSpPr/>
          <p:nvPr/>
        </p:nvSpPr>
        <p:spPr>
          <a:xfrm>
            <a:off x="6858000" y="3343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liment bé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Eng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4"/>
          <p:cNvSpPr/>
          <p:nvPr/>
        </p:nvSpPr>
        <p:spPr>
          <a:xfrm>
            <a:off x="7295760" y="2946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5"/>
          <p:cNvSpPr/>
          <p:nvPr/>
        </p:nvSpPr>
        <p:spPr>
          <a:xfrm>
            <a:off x="948960" y="29462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etter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èche vers la droite 9"/>
          <p:cNvSpPr/>
          <p:nvPr/>
        </p:nvSpPr>
        <p:spPr>
          <a:xfrm>
            <a:off x="2362320" y="2908440"/>
            <a:ext cx="380880" cy="476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8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vers la droite 10"/>
          <p:cNvSpPr/>
          <p:nvPr/>
        </p:nvSpPr>
        <p:spPr>
          <a:xfrm>
            <a:off x="6705720" y="2908440"/>
            <a:ext cx="380880" cy="476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9080">
            <a:solidFill>
              <a:srgbClr val="8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èche vers le haut 11"/>
          <p:cNvSpPr/>
          <p:nvPr/>
        </p:nvSpPr>
        <p:spPr>
          <a:xfrm flipV="1">
            <a:off x="1371600" y="2755080"/>
            <a:ext cx="304920" cy="228600"/>
          </a:xfrm>
          <a:prstGeom prst="up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8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èche vers le haut 12"/>
          <p:cNvSpPr/>
          <p:nvPr/>
        </p:nvSpPr>
        <p:spPr>
          <a:xfrm>
            <a:off x="7543800" y="2755800"/>
            <a:ext cx="304920" cy="228600"/>
          </a:xfrm>
          <a:prstGeom prst="up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8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1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Etude de cas:  ACV Biocarb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0400" y="4268880"/>
          <a:ext cx="2666880" cy="178416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environne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missions 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missions e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hets sol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57200" y="1754280"/>
          <a:ext cx="2209680" cy="48744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agric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743200" y="1525680"/>
          <a:ext cx="3962520" cy="19969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533520"/>
                <a:gridCol w="1447920"/>
              </a:tblGrid>
              <a:tr h="455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édé de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than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il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shydra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tements de co-prod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age-Séc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pul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 vin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934320" y="1754280"/>
          <a:ext cx="1676160" cy="48744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880" y="4267080"/>
          <a:ext cx="2438640" cy="68292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 étape/opé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248520" y="5192640"/>
          <a:ext cx="2438280" cy="78264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V compara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carburant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s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248520" y="4267080"/>
          <a:ext cx="2438280" cy="682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/co-prod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ZoneTexte 13"/>
          <p:cNvSpPr/>
          <p:nvPr/>
        </p:nvSpPr>
        <p:spPr>
          <a:xfrm>
            <a:off x="6858000" y="2874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liment bé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14"/>
          <p:cNvSpPr/>
          <p:nvPr/>
        </p:nvSpPr>
        <p:spPr>
          <a:xfrm>
            <a:off x="7295760" y="2478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5"/>
          <p:cNvSpPr/>
          <p:nvPr/>
        </p:nvSpPr>
        <p:spPr>
          <a:xfrm>
            <a:off x="1025280" y="24782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Better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èche vers la droite 23"/>
          <p:cNvSpPr/>
          <p:nvPr/>
        </p:nvSpPr>
        <p:spPr>
          <a:xfrm>
            <a:off x="2362320" y="2440080"/>
            <a:ext cx="380880" cy="476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èche vers la droite 24"/>
          <p:cNvSpPr/>
          <p:nvPr/>
        </p:nvSpPr>
        <p:spPr>
          <a:xfrm>
            <a:off x="6705720" y="2440080"/>
            <a:ext cx="380880" cy="476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èche vers le haut 25"/>
          <p:cNvSpPr/>
          <p:nvPr/>
        </p:nvSpPr>
        <p:spPr>
          <a:xfrm flipV="1">
            <a:off x="1447920" y="2286720"/>
            <a:ext cx="304560" cy="228600"/>
          </a:xfrm>
          <a:prstGeom prst="up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lèche vers le haut 26"/>
          <p:cNvSpPr/>
          <p:nvPr/>
        </p:nvSpPr>
        <p:spPr>
          <a:xfrm>
            <a:off x="7543800" y="2287440"/>
            <a:ext cx="304920" cy="228600"/>
          </a:xfrm>
          <a:prstGeom prst="up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419040" y="1066680"/>
            <a:ext cx="8344080" cy="2881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22"/>
          <p:cNvSpPr/>
          <p:nvPr/>
        </p:nvSpPr>
        <p:spPr>
          <a:xfrm>
            <a:off x="3216600" y="107784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lans Matière et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0" y="3583080"/>
          <a:ext cx="2362320" cy="38088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an Matière 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724280" y="3583080"/>
          <a:ext cx="2362320" cy="36504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an Energie 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19040" y="5257800"/>
          <a:ext cx="2362320" cy="68904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-con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élioration de procéd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Flèche vers le haut 32"/>
          <p:cNvSpPr/>
          <p:nvPr/>
        </p:nvSpPr>
        <p:spPr>
          <a:xfrm flipV="1">
            <a:off x="4038480" y="4039560"/>
            <a:ext cx="99072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èche vers la droite 33"/>
          <p:cNvSpPr/>
          <p:nvPr/>
        </p:nvSpPr>
        <p:spPr>
          <a:xfrm>
            <a:off x="5867280" y="4475160"/>
            <a:ext cx="381240" cy="479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èche vers la droite 34"/>
          <p:cNvSpPr/>
          <p:nvPr/>
        </p:nvSpPr>
        <p:spPr>
          <a:xfrm flipH="1">
            <a:off x="2819520" y="4497480"/>
            <a:ext cx="380880" cy="477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vers le haut 35"/>
          <p:cNvSpPr/>
          <p:nvPr/>
        </p:nvSpPr>
        <p:spPr>
          <a:xfrm flipV="1">
            <a:off x="1371600" y="495216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èche vers le haut 36"/>
          <p:cNvSpPr/>
          <p:nvPr/>
        </p:nvSpPr>
        <p:spPr>
          <a:xfrm flipV="1">
            <a:off x="7238880" y="495216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330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édagogie du simulateur-tab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er 30"/>
          <p:cNvGrpSpPr/>
          <p:nvPr/>
        </p:nvGrpSpPr>
        <p:grpSpPr>
          <a:xfrm>
            <a:off x="304920" y="1371600"/>
            <a:ext cx="2590560" cy="762120"/>
            <a:chOff x="304920" y="1371600"/>
            <a:chExt cx="2590560" cy="762120"/>
          </a:xfrm>
        </p:grpSpPr>
        <p:sp>
          <p:nvSpPr>
            <p:cNvPr id="148" name="Rectangle 12"/>
            <p:cNvSpPr/>
            <p:nvPr/>
          </p:nvSpPr>
          <p:spPr>
            <a:xfrm>
              <a:off x="45720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onnecteur droit 5"/>
            <p:cNvSpPr/>
            <p:nvPr/>
          </p:nvSpPr>
          <p:spPr>
            <a:xfrm>
              <a:off x="30492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83808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onnecteur droit 7"/>
            <p:cNvSpPr/>
            <p:nvPr/>
          </p:nvSpPr>
          <p:spPr>
            <a:xfrm>
              <a:off x="68580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121932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onnecteur droit 9"/>
            <p:cNvSpPr/>
            <p:nvPr/>
          </p:nvSpPr>
          <p:spPr>
            <a:xfrm>
              <a:off x="106668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"/>
            <p:cNvSpPr/>
            <p:nvPr/>
          </p:nvSpPr>
          <p:spPr>
            <a:xfrm>
              <a:off x="160020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onnecteur droit 11"/>
            <p:cNvSpPr/>
            <p:nvPr/>
          </p:nvSpPr>
          <p:spPr>
            <a:xfrm>
              <a:off x="144792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198108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Connecteur droit 13"/>
            <p:cNvSpPr/>
            <p:nvPr/>
          </p:nvSpPr>
          <p:spPr>
            <a:xfrm>
              <a:off x="182880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2362320" y="1371600"/>
              <a:ext cx="30456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Connecteur droit 15"/>
            <p:cNvSpPr/>
            <p:nvPr/>
          </p:nvSpPr>
          <p:spPr>
            <a:xfrm>
              <a:off x="220968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Connecteur droit 16"/>
            <p:cNvSpPr/>
            <p:nvPr/>
          </p:nvSpPr>
          <p:spPr>
            <a:xfrm>
              <a:off x="2590920" y="1752480"/>
              <a:ext cx="30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380880" y="3435480"/>
          <a:ext cx="2194200" cy="1879560"/>
        </p:xfrm>
        <a:graphic>
          <a:graphicData uri="http://schemas.openxmlformats.org/drawingml/2006/table">
            <a:tbl>
              <a:tblPr/>
              <a:tblGrid>
                <a:gridCol w="2194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uilles Bases de Donn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o-chi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érations unitaires G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ono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n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ZoneTexte 26"/>
          <p:cNvSpPr/>
          <p:nvPr/>
        </p:nvSpPr>
        <p:spPr>
          <a:xfrm>
            <a:off x="852480" y="24382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bli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76720" y="3286080"/>
          <a:ext cx="2819160" cy="174312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uilles Calc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ans mat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ans éner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ion environne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tion par opé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705720" y="3740040"/>
          <a:ext cx="2133360" cy="120348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uille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pport techn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pport environne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Flèche vers le haut 21"/>
          <p:cNvSpPr/>
          <p:nvPr/>
        </p:nvSpPr>
        <p:spPr>
          <a:xfrm flipV="1">
            <a:off x="1219320" y="3053520"/>
            <a:ext cx="60948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lèche vers la droite 22"/>
          <p:cNvSpPr/>
          <p:nvPr/>
        </p:nvSpPr>
        <p:spPr>
          <a:xfrm>
            <a:off x="2819520" y="3052800"/>
            <a:ext cx="380880" cy="220176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èche vers la droite 23"/>
          <p:cNvSpPr/>
          <p:nvPr/>
        </p:nvSpPr>
        <p:spPr>
          <a:xfrm>
            <a:off x="6172200" y="3054240"/>
            <a:ext cx="380880" cy="197496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76720" y="1523880"/>
          <a:ext cx="2743200" cy="99072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uilles Procéd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 et agen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s procéd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Flèche vers la droite 25"/>
          <p:cNvSpPr/>
          <p:nvPr/>
        </p:nvSpPr>
        <p:spPr>
          <a:xfrm rot="5400000">
            <a:off x="4532760" y="1567440"/>
            <a:ext cx="380880" cy="259236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lèche vers le haut 26"/>
          <p:cNvSpPr/>
          <p:nvPr/>
        </p:nvSpPr>
        <p:spPr>
          <a:xfrm flipV="1" rot="16200000">
            <a:off x="2781000" y="1637640"/>
            <a:ext cx="60948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9360">
            <a:solidFill>
              <a:srgbClr val="8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33"/>
          <p:cNvSpPr/>
          <p:nvPr/>
        </p:nvSpPr>
        <p:spPr>
          <a:xfrm>
            <a:off x="7345440" y="167652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du procé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èche courbée vers le haut 34"/>
          <p:cNvSpPr/>
          <p:nvPr/>
        </p:nvSpPr>
        <p:spPr>
          <a:xfrm rot="13252200">
            <a:off x="6135480" y="2033640"/>
            <a:ext cx="1858680" cy="812880"/>
          </a:xfrm>
          <a:custGeom>
            <a:avLst/>
            <a:gdLst>
              <a:gd name="textAreaLeft" fmla="*/ 388440 w 1858680"/>
              <a:gd name="textAreaRight" fmla="*/ 1368720 w 1858680"/>
              <a:gd name="textAreaTop" fmla="*/ 108720 h 812880"/>
              <a:gd name="textAreaBottom" fmla="*/ 70416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27" hR="21600" stAng="10800000" swAng="-5400000"/>
                <a:lnTo>
                  <a:pt x="11391" y="21600"/>
                </a:lnTo>
                <a:arcTo wR="9027" hR="21600" stAng="5400000" swAng="-3497474"/>
                <a:lnTo>
                  <a:pt x="21313" y="5400"/>
                </a:lnTo>
                <a:lnTo>
                  <a:pt x="19236" y="0"/>
                </a:lnTo>
                <a:lnTo>
                  <a:pt x="16585" y="5400"/>
                </a:lnTo>
                <a:lnTo>
                  <a:pt x="17767" y="5400"/>
                </a:lnTo>
                <a:arcTo wR="9027" hR="21600" stAng="1902526" swAng="3307912"/>
                <a:lnTo>
                  <a:pt x="10209" y="21414"/>
                </a:lnTo>
                <a:arcTo wR="9027" hR="21600" stAng="5589563" swAng="5210437"/>
                <a:close/>
              </a:path>
              <a:path fill="darkenLess" w="21600" h="21600">
                <a:moveTo>
                  <a:pt x="0" y="0"/>
                </a:moveTo>
                <a:arcTo wR="9027" hR="21600" stAng="10800000" swAng="-5400000"/>
                <a:lnTo>
                  <a:pt x="11391" y="21600"/>
                </a:lnTo>
                <a:arcTo wR="9027" hR="21600" stAng="5400000" swAng="189563"/>
                <a:lnTo>
                  <a:pt x="10209" y="21414"/>
                </a:lnTo>
                <a:arcTo wR="9027" hR="21600" stAng="5589563" swAng="5210437"/>
                <a:close/>
              </a:path>
            </a:pathLst>
          </a:custGeom>
          <a:solidFill>
            <a:srgbClr val="c0504d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3808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position de module UNIT / U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15"/>
          <p:cNvSpPr/>
          <p:nvPr/>
        </p:nvSpPr>
        <p:spPr>
          <a:xfrm>
            <a:off x="1191240" y="4114800"/>
            <a:ext cx="25275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ule pédagogique 30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ule simplifié: 15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utora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3"/>
          <p:cNvSpPr/>
          <p:nvPr/>
        </p:nvSpPr>
        <p:spPr>
          <a:xfrm>
            <a:off x="3048120" y="1752480"/>
            <a:ext cx="464796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5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roduction à l’AC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incipes, méth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ude de cas Ethanol Biocarb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et utilisation d’un simulateur tableu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léments de c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ches thémat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s bibliograph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55680"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20"/>
          <p:cNvSpPr/>
          <p:nvPr/>
        </p:nvSpPr>
        <p:spPr>
          <a:xfrm>
            <a:off x="4952880" y="4114800"/>
            <a:ext cx="3657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s Ingénieurs et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mations initiales: génie des procédés, agronomie, chi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1172520" y="99072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Analyse de Cycle de Vie. Application aux Bio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necteur droit 11"/>
          <p:cNvSpPr/>
          <p:nvPr/>
        </p:nvSpPr>
        <p:spPr>
          <a:xfrm flipH="1">
            <a:off x="2933280" y="1752480"/>
            <a:ext cx="1800" cy="1836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2"/>
          <p:cNvSpPr/>
          <p:nvPr/>
        </p:nvSpPr>
        <p:spPr>
          <a:xfrm>
            <a:off x="1530000" y="24130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cteur droit 14"/>
          <p:cNvSpPr/>
          <p:nvPr/>
        </p:nvSpPr>
        <p:spPr>
          <a:xfrm flipH="1">
            <a:off x="990720" y="4191120"/>
            <a:ext cx="1440" cy="799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necteur droit 15"/>
          <p:cNvSpPr/>
          <p:nvPr/>
        </p:nvSpPr>
        <p:spPr>
          <a:xfrm flipH="1">
            <a:off x="4876920" y="4191120"/>
            <a:ext cx="1440" cy="799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3:21:31Z</dcterms:created>
  <dc:creator>Jean-Marc Engasser</dc:creator>
  <dc:description/>
  <dc:language>en-US</dc:language>
  <cp:lastModifiedBy>Jean-Marc Engasser</cp:lastModifiedBy>
  <cp:lastPrinted>2009-04-10T14:59:14Z</cp:lastPrinted>
  <dcterms:modified xsi:type="dcterms:W3CDTF">2009-05-12T07:17:37Z</dcterms:modified>
  <cp:revision>44</cp:revision>
  <dc:subject/>
  <dc:title>Diapositive 1</dc:title>
</cp:coreProperties>
</file>