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C9F-ED3B-4A64-9091-9D96A8B2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E87-D53B-4A9B-9E6C-48E0016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567-9700-4359-9C53-F7CE1C10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F84-2514-48AA-AECA-53BCA2B6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BE4-1708-4ADE-9A6F-E70F56EA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198-BD47-4430-8E94-60B6ADB5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33E-D337-4150-BCC7-3495F75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857-C639-4B19-A746-4AD1E8FE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2A8-B2BD-4CB6-B54A-C466465F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6D2-206F-450B-9FB3-79262B3C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BB0-B9ED-471D-AB67-6C776DFD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356-FDC7-4A58-8213-0C45388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CD96-A352-45A0-B969-2747D12A3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inp-toulouse.fr/tice/tice.shtm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" descr="3 quart plan moyen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620640"/>
            <a:ext cx="2924280" cy="1584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8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2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3300120" cy="59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3640" y="549360"/>
            <a:ext cx="56894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APP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tion d’une communauté d’enseignants et production de ressources en biologie appliq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781360"/>
            <a:ext cx="7561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exte et objectif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 proj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objectif de ce projet est dou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stituer une communauté d’enseignants dans le domaine de la biologie et des sciences agronomiqu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réer et/ou adapter des ressources existantes en modules de 20 heures: agronomie, pédologie, biologie cellulaire et moléculaire, génétique générale et quantitative, microbiologie, écologie, sécurité alimentaire, qualité des produits alimentai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3" descr="3 quart plan moyen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620640"/>
            <a:ext cx="292428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8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2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3300120" cy="59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549360"/>
            <a:ext cx="56894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APP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tion d’une communauté d’enseignants et production de ressources en biologie appliq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637000"/>
            <a:ext cx="7201080" cy="300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blics visé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ion initiale: étudiants et apprentis bac + 2 à bac +5 (ingénieurs et Master Pro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paration au concours d’entrée des écoles Ag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ion continue: salariés et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s francophones: notamment Maroc, Tunisie mais plus largement Afrique en formation Diplômante (délocalisation diplô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" descr="3 quart plan moyen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620640"/>
            <a:ext cx="29242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8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2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3300120" cy="59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3640" y="549360"/>
            <a:ext cx="56894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APP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tion d’une communauté d’enseignants et production de ressources en biologie appliq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708280"/>
            <a:ext cx="7272360" cy="18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ix pédagogiq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es modules seront produits grâce à la chaîne éditoriale SCENARI à partir de documents de cours initiaux, d'exercices et de QCM au format texte en presque totalité  existant voi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np-toulouse.fr/tice/tice.s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nt en cela l'interopérabilité et l'appropriation par des enseignants autres que les auteurs à partir de grains élémentai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" descr="3 quart plan moyen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620640"/>
            <a:ext cx="292428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8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2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3300120" cy="598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03640" y="549360"/>
            <a:ext cx="56894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APP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tion d’une communauté d’enseignants et production de ressources en biologie appliq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637000"/>
            <a:ext cx="720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héancier prévisionnel 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tion de la communauté d’enseignants : 10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ion détaillée des modules : 12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veloppement : 03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raison : 06/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3" descr="3 quart plan moyen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620640"/>
            <a:ext cx="292428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2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3300120" cy="598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03640" y="549360"/>
            <a:ext cx="56894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APP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tion d’une communauté d’enseignants et production de ressources en biologie appliq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37000"/>
            <a:ext cx="7200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on budgétaire du coût du projet en € T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Constitution de la communauté : 3000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aptation et scénarisation des 8 modules : 16 000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 : 19000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on de l’INP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ction des modules : 3800 € / modu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ns le cadre d’une procédure avec cahier des charges, processus de validation finale, et cession des dro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3" descr="3 quart plan moyen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620640"/>
            <a:ext cx="292428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8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2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3300120" cy="59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3640" y="549360"/>
            <a:ext cx="56894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APP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tion d’une communauté d’enseignants et production de ressources en biologie appliq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637000"/>
            <a:ext cx="7200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tions particulières prévues dans le cadre du projet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ormations à SCENARI des contributeurs (dans  la communau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ise en place d’un serveur SCENARI pour permettre des contributions mult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ise en cohérence de l’ensemble avec le projet CEPIA (UNIT) pour l’inde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4:24:41Z</dcterms:created>
  <dc:creator>Olivier Delahaye</dc:creator>
  <dc:description/>
  <dc:language>en-US</dc:language>
  <cp:lastModifiedBy>ruiz</cp:lastModifiedBy>
  <dcterms:modified xsi:type="dcterms:W3CDTF">2009-05-13T05:32:47Z</dcterms:modified>
  <cp:revision>6</cp:revision>
  <dc:subject/>
  <dc:title>Diapositive 1</dc:title>
</cp:coreProperties>
</file>