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06EA-A414-4FED-AC8A-E614022EF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AD32D-DA77-4846-A3A7-595577A6E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C722-EFFF-473E-A706-77DDC8321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088D-C527-4994-9A34-DEC2985E77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4D35-7AE4-4F46-A4F8-B70F6DAE2A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52FD6-5FDC-4CF4-9FE3-12BF49598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AFF2-A163-4ACC-B385-EFACC1D04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0C9B2-327F-46AC-A5C4-58BCCAFA1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891DD-B6DD-4CF7-B0A8-72700EF2D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9973-09BD-4843-8A58-91894F787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8C02-8908-4AE0-9104-8D2E833F9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D6E63-ADEC-467A-8007-89F8BEB7A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0B93-95EC-447F-857A-F67B949D727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-3960" y="6575400"/>
            <a:ext cx="22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66ff"/>
                </a:solidFill>
                <a:latin typeface="Arial"/>
              </a:rPr>
              <a:t>Printemps d’UNIT 12 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moteurs d’optim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7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position de cours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odolphe Le Riche et Eric Toub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cole des Mines de Saint-Eti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809880" y="1600200"/>
            <a:ext cx="426744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1143000" y="5562720"/>
            <a:ext cx="426708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1952640" cy="942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6019920" y="380880"/>
            <a:ext cx="266688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aero"/>
          <p:cNvPicPr/>
          <p:nvPr/>
        </p:nvPicPr>
        <p:blipFill>
          <a:blip r:embed="rId1"/>
          <a:stretch/>
        </p:blipFill>
        <p:spPr>
          <a:xfrm>
            <a:off x="2895480" y="2693880"/>
            <a:ext cx="6242040" cy="3783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texte : optimisations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ocale et glob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= outils numériques pour fouiller dans des espaces de grandes tail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295280" y="1523880"/>
            <a:ext cx="739152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33520" y="6553080"/>
            <a:ext cx="82296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25400" y="2878200"/>
            <a:ext cx="316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sages : conception optimale, identification, modélis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xistant en lien dans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295280" y="1066680"/>
            <a:ext cx="739152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858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lecom Paris : «Optimisation non linéaire » par Irène Charon et Olivier Hudry; « Optimisation » de Fabrice Rossi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C: « Optimisation en mécanique », Catherine Vayssade. « Optimisation non linéaire », Stéphane Mottel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lytech Lille : «Optimisation et algorithmes génétiques », Vincent Magn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cours d’optimisation essentiellement « classiques » (méthodes loc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u d’exemples de programmes hormis le cour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. Mottel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position de 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stant à l’Ecole des Mines de Saint-Etienne, depuis 200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Optimisation locale » (Eric Toubou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Optimisation globale » (Rodolphe Le Rich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cours présentant les principes ou moteurs de l’optim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ptimisation locale : à travers des liens avec les cours existants, ajout de TPs / program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moteurs d’optimisation globale : optimisation stochastique, métamodèles globaux, énumération, avec program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1295280" y="1523880"/>
            <a:ext cx="739152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57200" y="6324480"/>
            <a:ext cx="82296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riginali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TPs / programmes en Scilab (langage opensource français, clône de Matla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moteurs de l’optimisation globale n’ont jamais été présentés (hormis les algorithmes génétiques, présentations daté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réation de liens internet entre les cours existants d’optimisation loc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295280" y="1523880"/>
            <a:ext cx="739152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57200" y="6324480"/>
            <a:ext cx="82296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lan du 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12400"/>
            <a:ext cx="83059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roduction à l’optim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té de l’optimisation numérique en modélisation, identification, conception optim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enjeux de l’optimisation numérique : utilisation de simulateurs numériques lourds, optimisation globale, optimisation en présence d’incertitu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ptimis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lques pages commentées de liens internet avec cours existants : Conditions d’optimalité avec et sans contraintes, méthodes de gradients, méthodes de quasi-Newton, dualité et traitement des contraintes d’optimisation, optimisation locale sans gradient (Nelder-Me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Ps associés en Scil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ptimisation glo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ptimisation par énumération (méthode DIR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ptimisation probabiliste ou évolu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ptimisation  au moyen d’un méta-modèle de krigeage (EG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Ps associés en Scil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1295280" y="1066680"/>
            <a:ext cx="739152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iv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30592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ivrable 1 : synthèse des cours existants en optimisation locale, de Juillet à Décembre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ivrable 2 : TPs d’optimisation locale en Scilab, de Janvier à Mars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ivrable 3 : cours d’optimisation globale, de Juillet à Décembre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ivrable 4 : TPs d’optimisation globale, de Janvier à Mars 201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1295280" y="1066680"/>
            <a:ext cx="739152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udget et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artenari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1295280" y="1523880"/>
            <a:ext cx="739152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457200" y="6324480"/>
            <a:ext cx="82296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 formats possibles (à discu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SM-SE / UNIT : 20 heures présentie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 ho.mois au total, 1.5 supporté par l’ENSM-SE, 1.5 par UNIT soit 5100 euros de subventions demandé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enariat basé sur le projet ANR/OMD : avec l’INRIA Sophia (R. Duvigneau) et Digiteo (développeur de Scilab, Y. Collet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rce</cp:lastModifiedBy>
  <dcterms:modified xsi:type="dcterms:W3CDTF">2009-05-12T07:00:0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