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22.jpeg" ContentType="image/jpeg"/>
  <Override PartName="/ppt/media/image9.png" ContentType="image/png"/>
  <Override PartName="/ppt/media/image38.jpeg" ContentType="image/jpeg"/>
  <Override PartName="/ppt/media/image8.png" ContentType="image/png"/>
  <Override PartName="/ppt/media/image39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41046-9D5A-44EF-9CDF-CC2022985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B2F05-42CE-4FE3-8D47-9AEA4ECD2C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F171E-EE83-4651-806E-462DFBC874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B84F4-25C4-4EC0-8346-E4768D7AE8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32A3A-E0B9-4BAE-8B17-414ACA7B1B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EFBFB-3D94-40BC-9B79-3F2EF39EA7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F9BDA-3E99-4D3D-85E7-321558445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64383-6DBE-4C2F-8BDD-F5A0B822F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C73A4-5920-40FC-BE5D-72CB48304E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8808A-BB27-4B94-BAB7-9C548A1E8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2B457-9D73-462E-BFF2-FEB12B61B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82C9F-4838-4145-ACEC-6F291E383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40080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777D-8461-436B-9C17-C2F4DCBC54B8}" type="slidenum"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228600" y="282600"/>
            <a:ext cx="1488960" cy="7840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D:\Documents\MIT\Édition 2009\Ressources Graphiques\Volutes3_v2.jpg"/>
          <p:cNvPicPr/>
          <p:nvPr/>
        </p:nvPicPr>
        <p:blipFill>
          <a:blip r:embed="rId3"/>
          <a:srcRect l="0" t="0" r="0" b="53326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hyperlink" Target="file://Ima-apl-lyo/serveur_sales/Doc_commerciale/presentations/appli/Appli_Librairies.ppt" TargetMode="External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1.bin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2.xml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wmf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1695600"/>
            <a:ext cx="2795760" cy="1315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52280"/>
            <a:ext cx="908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596d"/>
                </a:solidFill>
                <a:latin typeface="Century Gothic"/>
              </a:rPr>
              <a:t>	</a:t>
            </a:r>
            <a:r>
              <a:rPr b="1" lang="en-GB" sz="2000" spc="-1" strike="noStrike">
                <a:solidFill>
                  <a:srgbClr val="1f596d"/>
                </a:solidFill>
                <a:latin typeface="Century Gothic"/>
              </a:rPr>
              <a:t>	</a:t>
            </a:r>
            <a:r>
              <a:rPr b="1" lang="en-GB" sz="2000" spc="-1" strike="noStrike">
                <a:solidFill>
                  <a:srgbClr val="1f596d"/>
                </a:solidFill>
                <a:latin typeface="Century Gothic"/>
              </a:rPr>
              <a:t>	</a:t>
            </a:r>
            <a:r>
              <a:rPr b="1" lang="en-GB" sz="2000" spc="-1" strike="noStrike">
                <a:solidFill>
                  <a:srgbClr val="1f596d"/>
                </a:solidFill>
                <a:latin typeface="Century Gothic"/>
              </a:rPr>
              <a:t>	</a:t>
            </a:r>
            <a:r>
              <a:rPr b="1" lang="en-GB" sz="2000" spc="-1" strike="noStrike">
                <a:solidFill>
                  <a:srgbClr val="1f596d"/>
                </a:solidFill>
                <a:latin typeface="Century Gothic"/>
              </a:rPr>
              <a:t>	</a:t>
            </a:r>
            <a:r>
              <a:rPr b="1" lang="en-GB" sz="2000" spc="-1" strike="noStrike">
                <a:solidFill>
                  <a:srgbClr val="1f596d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1f596d"/>
                </a:solidFill>
                <a:latin typeface="Century Gothic"/>
              </a:rPr>
              <a:t>	</a:t>
            </a:r>
            <a:r>
              <a:rPr b="1" lang="en-GB" sz="2000" spc="-1" strike="noStrike">
                <a:solidFill>
                  <a:srgbClr val="1f596d"/>
                </a:solidFill>
                <a:latin typeface="Century Gothic"/>
              </a:rPr>
              <a:t>  </a:t>
            </a:r>
            <a:r>
              <a:rPr b="1" lang="en-GB" sz="2000" spc="-1" strike="noStrike">
                <a:solidFill>
                  <a:srgbClr val="1f596d"/>
                </a:solidFill>
                <a:latin typeface="Century Gothic"/>
              </a:rPr>
              <a:t>Saint Etienne, 12 Mai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240" y="2556000"/>
            <a:ext cx="664092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Jean Cou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b7e9b"/>
                </a:solidFill>
                <a:latin typeface="Century Gothic"/>
              </a:rPr>
              <a:t>INSA de Rouen - Département Energétique et Propul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1098720"/>
            <a:ext cx="844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596d"/>
                </a:solidFill>
                <a:latin typeface="Century Gothic"/>
              </a:rPr>
              <a:t>Modélisation des Systèmes Mécatroniq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596d"/>
                </a:solidFill>
                <a:latin typeface="Century Gothic"/>
              </a:rPr>
              <a:t>(Phase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47720" y="3733920"/>
            <a:ext cx="61092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entury Gothic"/>
              </a:rPr>
              <a:t>Projet UNIT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entury Gothic"/>
              </a:rPr>
              <a:t>Discipline : Modélisation et 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entury Gothic"/>
              </a:rPr>
              <a:t>Sous-discipline : Modélisation et simulation par ordin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56760" y="5270400"/>
            <a:ext cx="688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entury Gothic"/>
              </a:rPr>
              <a:t>Renforcement d’une communauté enseign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entury Gothic"/>
              </a:rPr>
              <a:t>Capitalisation de ressources pédagogiques numériques exist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entury Gothic"/>
              </a:rPr>
              <a:t>Production de ressources pédagogiques numér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324480" y="1689120"/>
            <a:ext cx="252576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3581280" cy="2686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778280" y="639720"/>
            <a:ext cx="4105440" cy="3046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209680" y="3618000"/>
            <a:ext cx="6908760" cy="3087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7040" y="6338880"/>
            <a:ext cx="227772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T : Vérin A Te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480" y="5943600"/>
            <a:ext cx="3417840" cy="368280"/>
          </a:xfrm>
          <a:prstGeom prst="rect">
            <a:avLst/>
          </a:prstGeom>
          <a:solidFill>
            <a:srgbClr val="3dec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A : Vérin d’Effort Antagoni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746600" y="4264200"/>
            <a:ext cx="1159920" cy="691200"/>
            <a:chOff x="4746600" y="4264200"/>
            <a:chExt cx="1159920" cy="691200"/>
          </a:xfrm>
        </p:grpSpPr>
        <p:sp>
          <p:nvSpPr>
            <p:cNvPr id="148" name=""/>
            <p:cNvSpPr/>
            <p:nvPr/>
          </p:nvSpPr>
          <p:spPr>
            <a:xfrm rot="1045200">
              <a:off x="4777920" y="4419360"/>
              <a:ext cx="1096560" cy="380520"/>
            </a:xfrm>
            <a:prstGeom prst="ellipse">
              <a:avLst/>
            </a:prstGeom>
            <a:solidFill>
              <a:srgbClr val="3dec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123200">
              <a:off x="4993200" y="442332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V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 rot="1045200">
            <a:off x="6465960" y="4952520"/>
            <a:ext cx="130644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123200">
            <a:off x="6744960" y="5028840"/>
            <a:ext cx="100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76040" y="227880"/>
            <a:ext cx="74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ouverne d’avion actionné hydrauliquement : le banc d’expéri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temps de la Science et de la Technologie 2008 - NANC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3B878-4E20-428E-9E21-0892DDC466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4667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076040" y="227880"/>
            <a:ext cx="70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ouverne d’avion actionné hydrauliquement : le modèle numér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8494560" y="5599080"/>
            <a:ext cx="420840" cy="4208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20840"/>
              <a:gd name="textAreaBottom" fmla="*/ 393840 h 42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temps de la Science et de la Technologie 2008 - NANC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B112E-516F-44EE-BADC-5C88C16FCD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152280"/>
            <a:ext cx="8001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596d"/>
                </a:solidFill>
                <a:latin typeface="Century Gothic"/>
              </a:rPr>
              <a:t>Centrale de cogéné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00280" y="689040"/>
            <a:ext cx="3619440" cy="2714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7000" y="3430440"/>
            <a:ext cx="8888400" cy="3397320"/>
          </a:xfrm>
          <a:prstGeom prst="rect">
            <a:avLst/>
          </a:prstGeom>
          <a:ln w="9360">
            <a:solidFill>
              <a:srgbClr val="1f596d"/>
            </a:solidFill>
            <a:miter/>
          </a:ln>
        </p:spPr>
      </p:pic>
      <p:sp>
        <p:nvSpPr>
          <p:cNvPr id="159" name=""/>
          <p:cNvSpPr/>
          <p:nvPr/>
        </p:nvSpPr>
        <p:spPr>
          <a:xfrm>
            <a:off x="4618080" y="1068480"/>
            <a:ext cx="317340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596d"/>
                </a:solidFill>
                <a:latin typeface="Century Gothic"/>
              </a:rPr>
              <a:t>6 cylindres en lig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596d"/>
                </a:solidFill>
                <a:latin typeface="Century Gothic"/>
              </a:rPr>
              <a:t>Cylindrée :11,97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596d"/>
                </a:solidFill>
                <a:latin typeface="Century Gothic"/>
              </a:rPr>
              <a:t>Puissance électrique : 80k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596d"/>
                </a:solidFill>
                <a:latin typeface="Century Gothic"/>
              </a:rPr>
              <a:t>Puissance thermique : 160 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596d"/>
                </a:solidFill>
                <a:latin typeface="Century Gothic"/>
              </a:rPr>
              <a:t>1500 tr/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3" action="ppaction://hlinksldjump"/>
          </p:cNvPr>
          <p:cNvSpPr/>
          <p:nvPr/>
        </p:nvSpPr>
        <p:spPr>
          <a:xfrm>
            <a:off x="8494560" y="2660760"/>
            <a:ext cx="420840" cy="42048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20480"/>
              <a:gd name="textAreaBottom" fmla="*/ 393480 h 42048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10800"/>
                </a:moveTo>
                <a:lnTo>
                  <a:pt x="17816" y="3794"/>
                </a:lnTo>
                <a:lnTo>
                  <a:pt x="17816" y="17806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temps de la Science et de la Technologie 2008 - NANC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1A3B0-DCA8-4917-9E65-9029354573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200" y="3843360"/>
            <a:ext cx="7576200" cy="20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La mécatronique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Carrefour de différentes spécialités d’ingénie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Reconnue comme une discipline à part ent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Difficulté de transferts de compétence entre les différentes spécialité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Besoins réels dans le monde industr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Moyen : outils de simulation (AMESIM – LMS par exem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0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Domaines d’application : </a:t>
            </a:r>
            <a:r>
              <a:rPr b="1" lang="fr-FR" sz="1600" spc="-1" strike="noStrike">
                <a:solidFill>
                  <a:srgbClr val="003366"/>
                </a:solidFill>
                <a:latin typeface="Times New Roman"/>
              </a:rPr>
              <a:t>automobile, aéronautique, aérospatial, engins,…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451320" cy="335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temps de la Science et de la Technologie 2008 - NANC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AF09C-4A40-48E2-B1F1-668576E167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622520" y="685800"/>
            <a:ext cx="2326320" cy="2211120"/>
            <a:chOff x="1622520" y="685800"/>
            <a:chExt cx="2326320" cy="2211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rcRect l="49489" t="14793" r="0" b="27274"/>
            <a:stretch/>
          </p:blipFill>
          <p:spPr>
            <a:xfrm>
              <a:off x="1622520" y="785160"/>
              <a:ext cx="932760" cy="85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2555280" y="685800"/>
              <a:ext cx="1393560" cy="22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1992240" y="1687320"/>
              <a:ext cx="934920" cy="82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"/>
          <p:cNvGrpSpPr/>
          <p:nvPr/>
        </p:nvGrpSpPr>
        <p:grpSpPr>
          <a:xfrm>
            <a:off x="4376880" y="914400"/>
            <a:ext cx="2266200" cy="1907640"/>
            <a:chOff x="4376880" y="914400"/>
            <a:chExt cx="2266200" cy="1907640"/>
          </a:xfrm>
        </p:grpSpPr>
        <p:pic>
          <p:nvPicPr>
            <p:cNvPr id="57" name="" descr=""/>
            <p:cNvPicPr/>
            <p:nvPr/>
          </p:nvPicPr>
          <p:blipFill>
            <a:blip r:embed="rId4"/>
            <a:srcRect l="7893" t="12138" r="18210" b="8648"/>
            <a:stretch/>
          </p:blipFill>
          <p:spPr>
            <a:xfrm>
              <a:off x="4376880" y="914400"/>
              <a:ext cx="1649520" cy="133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5"/>
            <a:stretch/>
          </p:blipFill>
          <p:spPr>
            <a:xfrm>
              <a:off x="5842080" y="2022840"/>
              <a:ext cx="801000" cy="79920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</p:grpSp>
      <p:grpSp>
        <p:nvGrpSpPr>
          <p:cNvPr id="59" name=""/>
          <p:cNvGrpSpPr/>
          <p:nvPr/>
        </p:nvGrpSpPr>
        <p:grpSpPr>
          <a:xfrm>
            <a:off x="3433680" y="5135400"/>
            <a:ext cx="2999880" cy="1645920"/>
            <a:chOff x="3433680" y="5135400"/>
            <a:chExt cx="2999880" cy="1645920"/>
          </a:xfrm>
        </p:grpSpPr>
        <p:pic>
          <p:nvPicPr>
            <p:cNvPr id="60" name="" descr=""/>
            <p:cNvPicPr/>
            <p:nvPr/>
          </p:nvPicPr>
          <p:blipFill>
            <a:blip r:embed="rId6"/>
            <a:srcRect l="2439" t="773" r="0" b="3276"/>
            <a:stretch/>
          </p:blipFill>
          <p:spPr>
            <a:xfrm>
              <a:off x="3433680" y="5135400"/>
              <a:ext cx="2369160" cy="164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7"/>
            <a:stretch/>
          </p:blipFill>
          <p:spPr>
            <a:xfrm>
              <a:off x="5380200" y="5702040"/>
              <a:ext cx="1053360" cy="579240"/>
            </a:xfrm>
            <a:prstGeom prst="rect">
              <a:avLst/>
            </a:prstGeom>
            <a:ln w="12600">
              <a:solidFill>
                <a:srgbClr val="808080"/>
              </a:solidFill>
              <a:miter/>
            </a:ln>
          </p:spPr>
        </p:pic>
        <p:sp>
          <p:nvSpPr>
            <p:cNvPr id="62" name=""/>
            <p:cNvSpPr/>
            <p:nvPr/>
          </p:nvSpPr>
          <p:spPr>
            <a:xfrm flipV="1">
              <a:off x="4853520" y="6174720"/>
              <a:ext cx="526680" cy="28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377600" y="6314400"/>
              <a:ext cx="526680" cy="37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123840" y="5248440"/>
            <a:ext cx="3208320" cy="1420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H="1" flipV="1">
            <a:off x="4393800" y="4528800"/>
            <a:ext cx="11160" cy="53820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879560" y="1900080"/>
            <a:ext cx="4673160" cy="3160440"/>
            <a:chOff x="1879560" y="1900080"/>
            <a:chExt cx="4673160" cy="3160440"/>
          </a:xfrm>
        </p:grpSpPr>
        <p:pic>
          <p:nvPicPr>
            <p:cNvPr id="67" name="" descr=""/>
            <p:cNvPicPr/>
            <p:nvPr/>
          </p:nvPicPr>
          <p:blipFill>
            <a:blip r:embed="rId9"/>
            <a:stretch/>
          </p:blipFill>
          <p:spPr>
            <a:xfrm>
              <a:off x="2640600" y="2584800"/>
              <a:ext cx="2998800" cy="21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360160" y="4471560"/>
              <a:ext cx="1185120" cy="32436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DRIVEL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800" y="4738680"/>
              <a:ext cx="874080" cy="32184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BRAK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88600" y="4715640"/>
              <a:ext cx="1239480" cy="32292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CHASS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27600" y="3406320"/>
              <a:ext cx="820800" cy="50976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GEAR BO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64760" y="2434680"/>
              <a:ext cx="1587960" cy="50364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ENGINE THERM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31440" y="1937880"/>
              <a:ext cx="887760" cy="32472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INJE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45240" y="1900080"/>
              <a:ext cx="762480" cy="3214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25640" y="2267280"/>
              <a:ext cx="1095480" cy="50976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POWERSTEER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79560" y="3936600"/>
              <a:ext cx="1173600" cy="3214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EXHAU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3333600" y="3804480"/>
              <a:ext cx="872640" cy="66096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356720" y="4136400"/>
              <a:ext cx="763920" cy="61704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4362480" y="3648600"/>
              <a:ext cx="1410480" cy="14256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5155560" y="2921040"/>
              <a:ext cx="333000" cy="71568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4542120" y="2228760"/>
              <a:ext cx="109800" cy="123300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69920" y="2209680"/>
              <a:ext cx="624240" cy="127836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78920" y="2684520"/>
              <a:ext cx="1115280" cy="32724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 flipV="1">
            <a:off x="3017880" y="3958920"/>
            <a:ext cx="336600" cy="18108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241200" y="2133720"/>
            <a:ext cx="1511280" cy="852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1"/>
          <a:stretch/>
        </p:blipFill>
        <p:spPr>
          <a:xfrm>
            <a:off x="0" y="3506760"/>
            <a:ext cx="2063880" cy="947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869160" y="3187800"/>
            <a:ext cx="1762200" cy="1190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4"/>
          <a:stretch/>
        </p:blipFill>
        <p:spPr>
          <a:xfrm>
            <a:off x="8388360" y="3705120"/>
            <a:ext cx="471600" cy="468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5">
            <a:lum contrast="10000"/>
          </a:blip>
          <a:stretch/>
        </p:blipFill>
        <p:spPr>
          <a:xfrm>
            <a:off x="6732720" y="4424400"/>
            <a:ext cx="1487520" cy="1866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6"/>
          <a:stretch/>
        </p:blipFill>
        <p:spPr>
          <a:xfrm>
            <a:off x="7043760" y="5059440"/>
            <a:ext cx="720720" cy="67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6708600" y="1644480"/>
          <a:ext cx="2435400" cy="1389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08600" y="1644480"/>
                    <a:ext cx="2435400" cy="13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3000240" y="76320"/>
            <a:ext cx="380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36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Times New Roman"/>
              </a:rPr>
              <a:t>Mécatronique et Automo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temps de la Science et de la Technologie 2008 - NANC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93B72-1391-48C4-9033-8111169CA5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4320" y="990720"/>
            <a:ext cx="8409960" cy="28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cc"/>
                </a:solidFill>
                <a:latin typeface="Times New Roman"/>
              </a:rPr>
              <a:t>Besoins industri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5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ingénieurs capables d’une mise en exploitation transversale des connaissan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5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tout en minimisant la perte de haute technicit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cc"/>
                </a:solidFill>
                <a:latin typeface="Times New Roman"/>
              </a:rPr>
              <a:t>L’enseignement de la mécatronique dans le supérieur à dével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existante mais une dominante naturelle est toujours prése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cc"/>
                </a:solidFill>
                <a:latin typeface="Times New Roman"/>
              </a:rPr>
              <a:t>Ce proj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5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apporter un complément à la dominante natur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5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renforcer les activités de la communauté mise en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5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ouverture sur le plan national et intern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6480" y="4014720"/>
            <a:ext cx="5409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cc"/>
                </a:solidFill>
                <a:latin typeface="Times New Roman"/>
              </a:rPr>
              <a:t>Utilisateurs c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5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élèves-ingénieurs (second cycle - mas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5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enseignants en second cycle ingénieur (suppo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4943520"/>
            <a:ext cx="614376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cc"/>
                </a:solidFill>
                <a:latin typeface="Times New Roman"/>
              </a:rPr>
              <a:t>Projet pédagog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5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répondre aux besoins des étudiants (et des enseigna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5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mise en forme de contenus en cours de développ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5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mutualisation, diffusion, uniformisation des conten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temps de la Science et de la Technologie 2008 - NANC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145D8-672C-423F-B04A-E9650E50BE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0720" y="1219320"/>
            <a:ext cx="822708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cc"/>
                </a:solidFill>
                <a:latin typeface="Times New Roman"/>
              </a:rPr>
              <a:t>Avancées de la phas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5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Réunions plénières (physiques et visio-conférenc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5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Mise en évidence des difficultés d’unific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5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Mise en place de groupes de travail pour les planches « formation générale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5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Choix d’un cas test pilote (comportement longitudinal véhicule + G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5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Scénarisation des cours sur la mécatro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5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Scénarisation du cas d’étude pil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000" y="3352680"/>
            <a:ext cx="862776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cc"/>
                </a:solidFill>
                <a:latin typeface="Times New Roman"/>
              </a:rPr>
              <a:t>Objectifs pour la continuité du proje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Scénarisation des planches « formation générale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40000"/>
              </a:lnSpc>
              <a:spcBef>
                <a:spcPts val="1125"/>
              </a:spcBef>
              <a:buClr>
                <a:srgbClr val="003366"/>
              </a:buClr>
              <a:buFont typeface="Wingdings" charset="2"/>
              <a:buChar char=""/>
              <a:tabLst>
                <a:tab algn="l" pos="235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mécatronique, approches de simulation (SCENAR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40000"/>
              </a:lnSpc>
              <a:spcBef>
                <a:spcPts val="1125"/>
              </a:spcBef>
              <a:buClr>
                <a:srgbClr val="003366"/>
              </a:buClr>
              <a:buFont typeface="Wingdings" charset="2"/>
              <a:buChar char=""/>
              <a:tabLst>
                <a:tab algn="l" pos="235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fin phas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Le portail apprentiss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40000"/>
              </a:lnSpc>
              <a:spcBef>
                <a:spcPts val="1125"/>
              </a:spcBef>
              <a:buClr>
                <a:srgbClr val="003366"/>
              </a:buClr>
              <a:buFont typeface="Wingdings" charset="2"/>
              <a:buChar char=""/>
              <a:tabLst>
                <a:tab algn="l" pos="235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Cas test paramétrables par l’apprenant (perspectives du projet Phase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40000"/>
              </a:lnSpc>
              <a:spcBef>
                <a:spcPts val="1125"/>
              </a:spcBef>
              <a:buClr>
                <a:srgbClr val="003366"/>
              </a:buClr>
              <a:buFont typeface="Wingdings" charset="2"/>
              <a:buChar char=""/>
              <a:tabLst>
                <a:tab algn="l" pos="235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mise en ligne de grains didactiques développés par les partenaires (phase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40000"/>
              </a:lnSpc>
              <a:spcBef>
                <a:spcPts val="1125"/>
              </a:spcBef>
              <a:buClr>
                <a:srgbClr val="003366"/>
              </a:buClr>
              <a:buFont typeface="Wingdings" charset="2"/>
              <a:buChar char=""/>
              <a:tabLst>
                <a:tab algn="l" pos="235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Problématique d’uniformisation et de licences logiciels chez les parten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40000"/>
              </a:lnSpc>
              <a:spcBef>
                <a:spcPts val="1125"/>
              </a:spcBef>
              <a:buClr>
                <a:srgbClr val="003366"/>
              </a:buClr>
              <a:buFont typeface="Wingdings" charset="2"/>
              <a:buChar char=""/>
              <a:tabLst>
                <a:tab algn="l" pos="235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Difficile à mettre en place sous SCEN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40000"/>
              </a:lnSpc>
              <a:spcBef>
                <a:spcPts val="1125"/>
              </a:spcBef>
              <a:buClr>
                <a:srgbClr val="003366"/>
              </a:buClr>
              <a:buFont typeface="Wingdings" charset="2"/>
              <a:buChar char=""/>
              <a:tabLst>
                <a:tab algn="l" pos="235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Solution : utilisation du logiciel libre ECLIP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temps de la Science et de la Technologie 2008 - NANC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781C5-CD10-4D21-9FB7-221441FD8E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666880" y="76320"/>
            <a:ext cx="6248520" cy="6553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13400" y="5257800"/>
            <a:ext cx="31647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cc"/>
                </a:solidFill>
                <a:latin typeface="Times New Roman"/>
              </a:rPr>
              <a:t>Exemple de réalisation Eclip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Times New Roman"/>
              </a:rPr>
              <a:t>Système masses-ress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temps de la Science et de la Technologie 2008 - NANC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817C2-3504-4E3F-8E25-F40A6BCAF4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1591200"/>
            <a:ext cx="836604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Times New Roman"/>
              </a:rPr>
              <a:t>étude d’un système de suspension de véhicule 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Times New Roman"/>
              </a:rPr>
              <a:t>étude d’un mécanisme vis-écrou 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Times New Roman"/>
              </a:rPr>
              <a:t>étude de servocommandes électro-hydrauliques </a:t>
            </a:r>
            <a:r>
              <a:rPr b="0" lang="fr-FR" sz="1600" spc="-1" strike="noStrike">
                <a:solidFill>
                  <a:srgbClr val="ff3300"/>
                </a:solidFill>
                <a:latin typeface="Times New Roman"/>
              </a:rPr>
              <a:t>(banc expérimental)</a:t>
            </a:r>
            <a:r>
              <a:rPr b="0" lang="fr-FR" sz="1600" spc="-1" strike="noStrike">
                <a:solidFill>
                  <a:srgbClr val="003366"/>
                </a:solidFill>
                <a:latin typeface="Times New Roman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Times New Roman"/>
              </a:rPr>
              <a:t>étude d’une centrale de cogénération </a:t>
            </a:r>
            <a:r>
              <a:rPr b="0" lang="fr-FR" sz="1600" spc="-1" strike="noStrike">
                <a:solidFill>
                  <a:srgbClr val="ff3300"/>
                </a:solidFill>
                <a:latin typeface="Times New Roman"/>
              </a:rPr>
              <a:t>(banc expérimental)</a:t>
            </a:r>
            <a:r>
              <a:rPr b="0" lang="fr-FR" sz="1600" spc="-1" strike="noStrike">
                <a:solidFill>
                  <a:srgbClr val="003366"/>
                </a:solidFill>
                <a:latin typeface="Times New Roman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Times New Roman"/>
              </a:rPr>
              <a:t>étude de la gouverne d’avion actionné hydrauliquement </a:t>
            </a:r>
            <a:r>
              <a:rPr b="0" lang="fr-FR" sz="1600" spc="-1" strike="noStrike">
                <a:solidFill>
                  <a:srgbClr val="ff3300"/>
                </a:solidFill>
                <a:latin typeface="Times New Roman"/>
              </a:rPr>
              <a:t>(banc expérimental)</a:t>
            </a:r>
            <a:r>
              <a:rPr b="0" lang="fr-FR" sz="1600" spc="-1" strike="noStrike">
                <a:solidFill>
                  <a:srgbClr val="003366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Times New Roman"/>
              </a:rPr>
              <a:t>Transmission hydrostatique à récupération d’énergie pour autor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Times New Roman"/>
              </a:rPr>
              <a:t>modélisation d’un système de freinage électro-mécanique pour une automobile 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Times New Roman"/>
              </a:rPr>
              <a:t>modélisation d’un moteur à combustion interne 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Times New Roman"/>
              </a:rPr>
              <a:t>modélisation d’acoustique dans des tubulures d’admission moteur 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Times New Roman"/>
              </a:rPr>
              <a:t>comportement longitudinal véhicule + GMP et analyse d’émissions polluantes sur cycle de condu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52640" y="380880"/>
            <a:ext cx="26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cc"/>
                </a:solidFill>
                <a:latin typeface="Times New Roman"/>
              </a:rPr>
              <a:t>Les exemples de cas rée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6056280" y="2322360"/>
            <a:ext cx="420840" cy="4208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20840"/>
              <a:gd name="textAreaBottom" fmla="*/ 393840 h 42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5218200" y="2644920"/>
            <a:ext cx="420480" cy="42048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20480"/>
              <a:gd name="textAreaBottom" fmla="*/ 393480 h 42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905520" y="299880"/>
            <a:ext cx="1704960" cy="2249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343400" y="1803240"/>
            <a:ext cx="2325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7086600" y="3048120"/>
            <a:ext cx="2023920" cy="1568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743440" y="3632040"/>
            <a:ext cx="1266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temps de la Science et de la Technologie 2008 - NANC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110C8-6F45-474A-A527-8DCAC2A417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43200" y="966960"/>
            <a:ext cx="1219320" cy="1090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84120" y="13280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ean Cous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552760" y="2297160"/>
            <a:ext cx="1600200" cy="863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84480" y="2133360"/>
            <a:ext cx="203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ic Bide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Xavier Br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chael di Lor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hamed Smao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rcRect l="0" t="0" r="6063" b="0"/>
          <a:stretch/>
        </p:blipFill>
        <p:spPr>
          <a:xfrm>
            <a:off x="2552760" y="3619440"/>
            <a:ext cx="1600200" cy="914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4120" y="389340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ean Charles Mar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362320" y="4921200"/>
            <a:ext cx="1981080" cy="397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3760" y="493632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illes Harr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2476440" y="5486400"/>
            <a:ext cx="1752840" cy="1276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3400" y="594144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édéric Mo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5029200" y="1116000"/>
            <a:ext cx="1828800" cy="792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084440" y="1190160"/>
            <a:ext cx="20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ain Char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Yann Chamaillar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5029200" y="2411280"/>
            <a:ext cx="1828800" cy="633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082280" y="25441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c Bon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332320" y="3429000"/>
            <a:ext cx="1222560" cy="1295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082280" y="397584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ick Serrafe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9"/>
          <a:srcRect l="0" t="0" r="36490" b="0"/>
          <a:stretch/>
        </p:blipFill>
        <p:spPr>
          <a:xfrm>
            <a:off x="4876920" y="4876920"/>
            <a:ext cx="2133360" cy="484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083000" y="49348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ierre Blazev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4991040" y="5853240"/>
            <a:ext cx="1905120" cy="541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083360" y="5667120"/>
            <a:ext cx="185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ncent Braib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e Chamb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el Lebr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838080"/>
            <a:ext cx="0" cy="59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6781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838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2209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3352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47242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55627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067680" y="838080"/>
            <a:ext cx="0" cy="59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838080"/>
            <a:ext cx="0" cy="59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3480" y="228600"/>
            <a:ext cx="74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cc"/>
                </a:solidFill>
                <a:latin typeface="Times New Roman"/>
              </a:rPr>
              <a:t>14 enseignants chercheurs (9 établissements) déjà impliqués dans le proj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temps de la Science et de la Technologie 2008 - NANC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B90BE-644A-4B10-B120-9368CA92D5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830600" y="304920"/>
            <a:ext cx="25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cc"/>
                </a:solidFill>
                <a:latin typeface="Times New Roman"/>
              </a:rPr>
              <a:t>Budjet demandé à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73200" y="1371600"/>
          <a:ext cx="5742000" cy="2940120"/>
        </p:xfrm>
        <a:graphic>
          <a:graphicData uri="http://schemas.openxmlformats.org/drawingml/2006/table">
            <a:tbl>
              <a:tblPr/>
              <a:tblGrid>
                <a:gridCol w="3311640"/>
                <a:gridCol w="1201680"/>
                <a:gridCol w="1228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épenses tot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icipation UN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sonnels établiss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000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sonnels spécifiques au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ingénieur d’étude (4 mo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 et logici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ssions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000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00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is généraux (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550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50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550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150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temps de la Science et de la Technologie 2008 - NANC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8CE40-97D3-4136-B4B0-9A69BC45DE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usin</cp:lastModifiedBy>
  <dcterms:modified xsi:type="dcterms:W3CDTF">2009-05-11T11:21:13Z</dcterms:modified>
  <cp:revision>78</cp:revision>
  <dc:subject/>
  <dc:title>PowerPoint Presentation</dc:title>
</cp:coreProperties>
</file>