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29C-AC8E-40F0-B080-EB42C97C76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5E56-134B-4974-8338-7106AFC299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CF5C-A7B5-410C-9E88-B2CEF6E32A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6B74-9287-4996-9FD5-965353D02D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27AB-F657-4A5A-9861-3ABE31D47D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F737-A941-4099-8849-F36F4523B3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D7FC-CD75-4D28-8A89-D0FA36AEA8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10AC-9B1D-471E-879D-8FDFED9C66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F2D48-70D9-46DA-A3D7-BD26FBEC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C9660-853F-4907-8D38-BB8B8D74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BDB9B-064F-4231-94D5-9BD204EF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3FC5-2E77-4EB9-8C39-462A0CF2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92A24-52EA-4A66-961D-A862455A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391EA-86E5-4D91-8518-C66461F1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D7D48-AA61-40ED-808E-05ACE757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06BFE-785A-40B4-BA33-E28A0D0E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CF69C-2D83-4812-B5EE-86E7300D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6D837-E19C-41F1-B14B-B3F29050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12319-148C-4603-A875-F7D6E86E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176C4-F7A1-4A0B-BAAF-F603291C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E6110-6D20-4DED-B78A-1A5F347F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3E8B8-3254-401B-B56D-2DC50B33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3F5FC-4938-458E-BE15-47825F01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CBEC1-58D1-408D-A18B-A9365463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926D2-45DA-43E0-BAA4-A51E274D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A2986-BA8F-4821-82B5-ACA9EB2D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D7C6E-4CBE-4013-B2AF-DDFD6897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6B346-A420-47FB-B3AE-8C5E088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8B850-BFD7-4AC6-91AB-C7408FD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9C112-8605-4EA3-9830-3A0E34C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E1B90-4951-4E7D-AD81-15559E3E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22EA3-C3E1-4846-9483-9B7D955A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332000" y="1500120"/>
            <a:ext cx="7812000" cy="1073160"/>
          </a:xfrm>
          <a:prstGeom prst="rect">
            <a:avLst/>
          </a:prstGeom>
          <a:gradFill rotWithShape="0">
            <a:gsLst>
              <a:gs pos="0">
                <a:srgbClr val="0055a1">
                  <a:alpha val="89019"/>
                </a:srgbClr>
              </a:gs>
              <a:gs pos="100000">
                <a:srgbClr val="0055a1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7308720" y="6308640"/>
            <a:ext cx="16560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Oval 49"/>
          <p:cNvSpPr/>
          <p:nvPr/>
        </p:nvSpPr>
        <p:spPr>
          <a:xfrm>
            <a:off x="900000" y="44280"/>
            <a:ext cx="1079640" cy="1484640"/>
          </a:xfrm>
          <a:prstGeom prst="ellipse">
            <a:avLst/>
          </a:prstGeom>
          <a:solidFill>
            <a:srgbClr val="004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46"/>
          <p:cNvSpPr/>
          <p:nvPr/>
        </p:nvSpPr>
        <p:spPr>
          <a:xfrm>
            <a:off x="826920" y="0"/>
            <a:ext cx="1079640" cy="1484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47"/>
          <p:cNvSpPr/>
          <p:nvPr/>
        </p:nvSpPr>
        <p:spPr>
          <a:xfrm>
            <a:off x="755640" y="0"/>
            <a:ext cx="1079640" cy="141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8"/>
          <p:cNvSpPr/>
          <p:nvPr/>
        </p:nvSpPr>
        <p:spPr>
          <a:xfrm>
            <a:off x="0" y="73080"/>
            <a:ext cx="1332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0"/>
          <p:cNvSpPr/>
          <p:nvPr/>
        </p:nvSpPr>
        <p:spPr>
          <a:xfrm>
            <a:off x="684360" y="1357200"/>
            <a:ext cx="84596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1"/>
          <p:cNvSpPr/>
          <p:nvPr/>
        </p:nvSpPr>
        <p:spPr>
          <a:xfrm>
            <a:off x="0" y="189000"/>
            <a:ext cx="684360" cy="666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8" descr="marque UNIT rvb 6cm"/>
          <p:cNvPicPr/>
          <p:nvPr/>
        </p:nvPicPr>
        <p:blipFill>
          <a:blip r:embed="rId2"/>
          <a:stretch/>
        </p:blipFill>
        <p:spPr>
          <a:xfrm>
            <a:off x="250920" y="189000"/>
            <a:ext cx="1441440" cy="557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35"/>
          <p:cNvSpPr/>
          <p:nvPr/>
        </p:nvSpPr>
        <p:spPr>
          <a:xfrm>
            <a:off x="611280" y="907920"/>
            <a:ext cx="73080" cy="5950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8"/>
          <p:cNvSpPr/>
          <p:nvPr/>
        </p:nvSpPr>
        <p:spPr>
          <a:xfrm>
            <a:off x="0" y="1285920"/>
            <a:ext cx="914400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6"/>
          <p:cNvSpPr/>
          <p:nvPr/>
        </p:nvSpPr>
        <p:spPr>
          <a:xfrm>
            <a:off x="0" y="1357200"/>
            <a:ext cx="9144000" cy="73080"/>
          </a:xfrm>
          <a:prstGeom prst="rect">
            <a:avLst/>
          </a:prstGeom>
          <a:solidFill>
            <a:srgbClr val="005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logo section 3 72dpi"/>
          <p:cNvPicPr/>
          <p:nvPr/>
        </p:nvPicPr>
        <p:blipFill>
          <a:blip r:embed="rId2"/>
          <a:srcRect l="10404" t="0" r="0" b="19251"/>
          <a:stretch/>
        </p:blipFill>
        <p:spPr>
          <a:xfrm>
            <a:off x="-189000" y="2781360"/>
            <a:ext cx="6201000" cy="4152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d8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logo 4"/>
          <p:cNvPicPr/>
          <p:nvPr/>
        </p:nvPicPr>
        <p:blipFill>
          <a:blip r:embed="rId3"/>
          <a:stretch/>
        </p:blipFill>
        <p:spPr>
          <a:xfrm>
            <a:off x="324000" y="233280"/>
            <a:ext cx="2016000" cy="96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ftr" idx="2"/>
          </p:nvPr>
        </p:nvSpPr>
        <p:spPr>
          <a:xfrm>
            <a:off x="7009920" y="6324480"/>
            <a:ext cx="18781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99d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99d8"/>
                </a:solidFill>
                <a:latin typeface="Times New Roman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1332000" y="1500120"/>
            <a:ext cx="7812000" cy="1073160"/>
          </a:xfrm>
          <a:prstGeom prst="rect">
            <a:avLst/>
          </a:prstGeom>
          <a:gradFill rotWithShape="0">
            <a:gsLst>
              <a:gs pos="0">
                <a:srgbClr val="0055a1">
                  <a:alpha val="89019"/>
                </a:srgbClr>
              </a:gs>
              <a:gs pos="100000">
                <a:srgbClr val="0055a1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900000" y="44280"/>
            <a:ext cx="1079640" cy="1484640"/>
          </a:xfrm>
          <a:prstGeom prst="ellipse">
            <a:avLst/>
          </a:prstGeom>
          <a:solidFill>
            <a:srgbClr val="004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6"/>
          <p:cNvSpPr/>
          <p:nvPr/>
        </p:nvSpPr>
        <p:spPr>
          <a:xfrm>
            <a:off x="826920" y="0"/>
            <a:ext cx="1079640" cy="1484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7"/>
          <p:cNvSpPr/>
          <p:nvPr/>
        </p:nvSpPr>
        <p:spPr>
          <a:xfrm>
            <a:off x="755640" y="0"/>
            <a:ext cx="1079640" cy="141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0" y="73080"/>
            <a:ext cx="1332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684360" y="1357200"/>
            <a:ext cx="84596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0" y="189000"/>
            <a:ext cx="684360" cy="666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marque UNIT rvb 6cm"/>
          <p:cNvPicPr/>
          <p:nvPr/>
        </p:nvPicPr>
        <p:blipFill>
          <a:blip r:embed="rId2"/>
          <a:stretch/>
        </p:blipFill>
        <p:spPr>
          <a:xfrm>
            <a:off x="250920" y="189000"/>
            <a:ext cx="1441440" cy="557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5"/>
          <p:cNvSpPr/>
          <p:nvPr/>
        </p:nvSpPr>
        <p:spPr>
          <a:xfrm>
            <a:off x="611280" y="907920"/>
            <a:ext cx="73080" cy="5950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8"/>
          <p:cNvSpPr/>
          <p:nvPr/>
        </p:nvSpPr>
        <p:spPr>
          <a:xfrm>
            <a:off x="0" y="1285920"/>
            <a:ext cx="914400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0" y="1357200"/>
            <a:ext cx="9144000" cy="73080"/>
          </a:xfrm>
          <a:prstGeom prst="rect">
            <a:avLst/>
          </a:prstGeom>
          <a:solidFill>
            <a:srgbClr val="005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ftr" idx="3"/>
          </p:nvPr>
        </p:nvSpPr>
        <p:spPr>
          <a:xfrm>
            <a:off x="785880" y="6451200"/>
            <a:ext cx="31068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3c8c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Times New Roman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c8c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Times New Roman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5"/>
          </p:nvPr>
        </p:nvSpPr>
        <p:spPr>
          <a:xfrm>
            <a:off x="800064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c8c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DFE5-5D38-4F63-8039-4259C582D061}" type="slidenum">
              <a:rPr b="0" lang="fr-FR" sz="1200" spc="-1" strike="noStrike">
                <a:solidFill>
                  <a:srgbClr val="3c8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1332000" y="1500120"/>
            <a:ext cx="7812000" cy="1073160"/>
          </a:xfrm>
          <a:prstGeom prst="rect">
            <a:avLst/>
          </a:prstGeom>
          <a:gradFill rotWithShape="0">
            <a:gsLst>
              <a:gs pos="0">
                <a:srgbClr val="0055a1">
                  <a:alpha val="89019"/>
                </a:srgbClr>
              </a:gs>
              <a:gs pos="100000">
                <a:srgbClr val="0055a1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9"/>
          <p:cNvSpPr/>
          <p:nvPr/>
        </p:nvSpPr>
        <p:spPr>
          <a:xfrm>
            <a:off x="900000" y="44280"/>
            <a:ext cx="1079640" cy="1484640"/>
          </a:xfrm>
          <a:prstGeom prst="ellipse">
            <a:avLst/>
          </a:prstGeom>
          <a:solidFill>
            <a:srgbClr val="004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6"/>
          <p:cNvSpPr/>
          <p:nvPr/>
        </p:nvSpPr>
        <p:spPr>
          <a:xfrm>
            <a:off x="826920" y="0"/>
            <a:ext cx="1079640" cy="1484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755640" y="0"/>
            <a:ext cx="1079640" cy="141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8"/>
          <p:cNvSpPr/>
          <p:nvPr/>
        </p:nvSpPr>
        <p:spPr>
          <a:xfrm>
            <a:off x="0" y="73080"/>
            <a:ext cx="1332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684360" y="1357200"/>
            <a:ext cx="84596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0" y="189000"/>
            <a:ext cx="684360" cy="666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marque UNIT rvb 6cm"/>
          <p:cNvPicPr/>
          <p:nvPr/>
        </p:nvPicPr>
        <p:blipFill>
          <a:blip r:embed="rId2"/>
          <a:stretch/>
        </p:blipFill>
        <p:spPr>
          <a:xfrm>
            <a:off x="250920" y="189000"/>
            <a:ext cx="1441440" cy="557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5"/>
          <p:cNvSpPr/>
          <p:nvPr/>
        </p:nvSpPr>
        <p:spPr>
          <a:xfrm>
            <a:off x="611280" y="907920"/>
            <a:ext cx="73080" cy="5950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0" y="1285920"/>
            <a:ext cx="914400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0" y="1357200"/>
            <a:ext cx="9144000" cy="73080"/>
          </a:xfrm>
          <a:prstGeom prst="rect">
            <a:avLst/>
          </a:prstGeom>
          <a:solidFill>
            <a:srgbClr val="005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dt" idx="6"/>
          </p:nvPr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7"/>
          </p:nvPr>
        </p:nvSpPr>
        <p:spPr>
          <a:xfrm>
            <a:off x="713880" y="6451200"/>
            <a:ext cx="3451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8"/>
          </p:nvPr>
        </p:nvSpPr>
        <p:spPr>
          <a:xfrm>
            <a:off x="800064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E9F5-D0DE-4F05-994E-E22E81E0C805}" type="slidenum"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Catalogage Info-MathA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Arial"/>
              </a:rPr>
              <a:t>INSA Rouen – Jean-Pierre Pécuc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Arial"/>
              </a:rPr>
              <a:t>INRIA – Patrick Ram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Communauté Info-MathA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d2d8a"/>
                </a:solidFill>
                <a:latin typeface="Arial"/>
              </a:rPr>
              <a:t>Partenariat IN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ojet Fus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éveloppement de cont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2 projets conçus pour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valuation et indexation de cont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ité édito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 500 ressources repér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200 index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d2d8a"/>
                </a:solidFill>
                <a:latin typeface="Arial"/>
              </a:rPr>
              <a:t>Enquête d'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stitution complète de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es conclusions motivent le présent proj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pied de page 4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e la date 3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ADF7-B7EB-4A62-9FA4-E1AAC033BC57}" type="slidenum">
              <a:rPr b="0" lang="fr-BE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etour d'expé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Quelques constats de l'enquête de la communauté Info-MathApp (voir demai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echerche de contenu pédagogique sur le Web reste labori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0 % du contenu utile sur le Web n'est pas répertorié pa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IT est méconnu de la plupart des enseig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IT devrait faciliter la recherche de contenu en indexant et filtrant TOUT le contenu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ortail UNIT deviendra alors incontournable pour la recherche d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181D-2F41-4ED9-BEEF-4BA348254235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etour d'expérience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Autres constats de l'enquête de la communauté Info-MathApp (voir dem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herche à travers le site UNIT souffre du mapping Dew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nquête d'usage déconnectée de l'usage lui-même marche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faut revoir le mapping Unit-Dew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faut intégrer le retour d'usage au sit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74A-71ED-482B-ABE4-DA7F1B197504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Un exemple à su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CISM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ttp://www.cismef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talogue et Index des Sites MÉdicaux Franco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alue et indexe les ressources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ès de 67 000 f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ssage obligé pour toute recherche de contenu médical franc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2E73-8E22-401C-804E-31E48417B035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Pro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Evaluation et indexation de contenu francoph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nimum 500 nouveaux cont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Aide et retour d'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place de mécanismes idoines d'analyse de l'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place d'un "bureau d'accueil" en li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http://fuscia.info/accueil/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Traduction et dissé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duction des fiches en Angl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sémination à travers des partenariats cro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http://delicious.com/fus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http://cel.archives-ouvertes.f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http://www.librecours.or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Nomencl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fonte complète du mapping Unit-Dew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léments à la nomencl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B9BF-FA09-4490-962B-8950A9D5E232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Moy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 comité éditorial Fuscia (Unit-Uniciel-INRI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artenaires : INRIA, INSA Rouen, SUPELEC, UTC, Nancy 1, UPMC, Lille 1, INT 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0 permanents à 5% (autofinancement) = 30 K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Arial"/>
              </a:rPr>
              <a:t>Inde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 documentaliste CDD 100% (Isabelle Gilles-Gallet) = 48 K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Arial"/>
              </a:rPr>
              <a:t>Nomencl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 documentaliste CDD 10% (Julien Comte) = 5 K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Arial"/>
              </a:rPr>
              <a:t>Tra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Sous-traitance (autofinancement) = 10 K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Arial"/>
              </a:rPr>
              <a:t>Bureau d'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 ingénieur IST 20% (autofinancement) = 24K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Arial"/>
              </a:rPr>
              <a:t>Outils de retour d'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 IGR 10% (Vincent Bonamy) = 7 K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2 permanents 10% (autofinancement) = 30 K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mande d'aide UNIT : 60 K€ pour budget de 154 K€ soit 3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pied de page 5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Saint Eti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e la date 6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7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0231-7DF5-4A9D-8CF4-5B53DE4FA82C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7:21:56Z</dcterms:created>
  <dc:creator>jppecuchet</dc:creator>
  <dc:description/>
  <dc:language>en-US</dc:language>
  <cp:lastModifiedBy>Jean-Pierre PECUCHET</cp:lastModifiedBy>
  <dcterms:modified xsi:type="dcterms:W3CDTF">2009-05-12T13:29:51Z</dcterms:modified>
  <cp:revision>24</cp:revision>
  <dc:subject/>
  <dc:title>Catalogue ouvert Info-MathApp</dc:title>
</cp:coreProperties>
</file>