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dt" idx="39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ftr" idx="40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 type="sldNum" idx="41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EB24-E823-4A62-BA81-F890F91B3428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5556-4916-4D9F-AA81-21E948D1990B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66E8-D15D-4FF8-BC57-F79C858B15C8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463D2-F733-46A7-A840-C5699EB125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D733B-0387-412A-95F0-CA0D8B230C2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D6DEEF-14B1-4F55-9175-618F1040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88B83D-11FF-417B-854F-33D8F90D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7128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37C95E-86F9-499F-9A40-21573AA3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F55725-4C36-48DC-8CBC-F6381AF5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04FFC4-6ED1-4B66-9B4D-F7DBA1C6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279D0B-F599-4885-AC37-DD63D6A8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08D597-68D6-4963-B8F3-225CEDD7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D62D9D-8464-43E7-9BC7-F14319C8F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40992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105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714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40992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105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264966-6EF3-459A-881A-D74D1FB8C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6FD0C5-DB9F-4269-99AD-728911AAB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E77FE-440E-44C4-A6BE-C960FB5E956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7D08C8-6D73-464A-8C4A-75A29848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C3663B-8326-46AA-B14B-EF71B5FB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11045B-3EBF-48D3-B23B-26AD10B7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BCEC63-223B-4174-B226-4401381A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7128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A1F657-7282-469E-9E7C-9D7D2679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2BFF2F-9A15-47A4-A241-580ADC9B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79D0B2-990E-41B8-8695-4287F63B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BF05F5-2D84-4F32-B83A-0A3EE128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BED674-B7AF-44AE-A8E9-5923B2BE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70ECC5-A733-4559-96FC-C60749D5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992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5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4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992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5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57D79-7E02-4153-A396-C2000CC38F0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40992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05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714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40992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05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87B554-F37A-4941-A0DB-96989B585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C9A6AD-7D25-4CCE-AC47-EFC616528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C86E60-1362-4460-A1B6-18CCFF02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7925C50-BD94-4CB4-BF0D-0CE14769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79CB20-CECF-4A8E-91B4-44CC178B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8D85A2-BE0C-4691-AB89-C9A42E2F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7128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5F6896-8B7A-46ED-86A7-E5A0D090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5DBBB96-EDBE-495F-B25C-6700E8A0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50D29A1-B139-422F-9E11-6531AAAD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225264-44BB-4DC4-9759-7C43AE33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7F1B0-ECB4-4226-8BD6-4462831F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33D978-5F38-4594-8423-4A983C2C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B38911-34F7-4FA1-9015-31778B6DB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40992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105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714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40992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105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6DC6E3-B196-4C6F-9A04-A0626DA3E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1902B8A-BA5C-4628-ADA9-129F0A85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0641C7-65C5-4947-B7CC-147EC8A0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4B9B87C-7ACA-4249-B4EB-E55A0CB6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936A779-DAD0-4180-8D40-F5A05CA3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DB2BDF1-2C3A-46C6-8AFB-47B6CFFC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7128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C6DDF65-3674-44E2-9932-378022C0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2D02C4A-A5B6-4B6B-A0DB-C81A7BAF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660B4-D104-414D-A9BD-E9FD9FBE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72D131C-CBE6-4AE0-8961-83165309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903101-EECD-4E4C-BA4A-C6591441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756EEA6-22B1-4BAD-B1B4-1ECCEFAB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DF6511D-A14C-456D-B98F-75083B903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40992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05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714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40992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05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52611A1-537B-4992-9D97-624688491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DC9E22-A12F-4A38-9D93-E633D53F6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21C069-4530-4056-BE24-958ECA5A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5D641C-5063-489B-B2BF-D9D164D5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163E2C-F900-4BC8-BD53-C57B0087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660526-5564-4152-92D4-20C3415D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809C6-79EE-4B23-990E-99F3CE54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7128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BB50841-3DF4-4347-B2C9-9EB551B4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A8B547-8F90-43E3-9020-678F5D6C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F99FA1-52EA-4EF2-BE80-A843D529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E3A040-2D68-4995-890F-7CB7B5CE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73B219-AC58-42E9-8CEE-D4E48B1E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E94EC1-DA52-4E26-A63A-C8D1A7AD9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40992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105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714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40992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105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47740F-E912-433D-B8A2-EF5151F80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352A2-BF60-442D-94AE-98962345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52370-B5FA-4DE7-A34B-C7608AE9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7128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E8045-9487-4CA7-9A60-CC9C73B1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4248E-DD23-4D95-AE60-6A3BA5EC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8062B-0424-4CF7-89EE-5AC68CA444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640F3-C35A-4177-B8D0-9F711F0E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898FD-29A1-417F-B012-1FF7B349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2F4FC-3D8B-4D41-B611-37EF9C7F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EEC50-8223-45EF-B9D9-30EE91953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0992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5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14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0992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5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1A6FF-DEE4-43E3-BB44-73B66C25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E938AE-94CE-43B2-BB67-A0825A11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44FC40-0C4E-40BF-8C35-D382209C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997871-905E-4E8B-83F6-605156C2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496C94-EFBB-485E-9F3D-7F4532C8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400070-BCE5-41FD-99F6-DFD128DF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3CFE3-28DF-4FA5-85E6-FB411756AEF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7128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3D426F-DDC5-44C8-871D-33A2F294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9D4C2F-31EC-468D-A30C-D2E8DEDE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F0F6BB-4D91-497E-BBC7-347424CC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99BC40-FE5E-4F6A-BAD1-713EE0E5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326DF4-26BA-4A0C-901C-41B1AD4C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2CC089-DF37-4A02-A64F-A2B54DF1A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40992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05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714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40992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05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BB160F-2242-44E5-AEAE-BCCFA25D0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1936F4-5CFB-4C13-A0C9-8B3EAFDD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35F458-6C00-4B6B-A713-45006717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5DF51A-203C-4EFE-8961-304BB844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CBAAC-CBFA-458B-BA9A-5BE47A04023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D0015F-E2B3-4F7D-A53B-6C6E8F12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40323D-6EB1-4678-90C8-6530C0FD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7128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3765F8-7FBF-4380-866B-BC188A6F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C14FFD-49A2-4AEA-8CAD-0B04DA76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44359E-18AA-4AB3-B6C6-D4C2446F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A65D81-ECCC-4A75-B669-02D15B80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8F4BDF-5C64-4832-BB72-566EDC43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9ECBAC-3ADC-45E9-BEBA-6B00D452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40992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05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714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40992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05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202EC8-A5BD-4B58-AAAD-09BCBA785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6C1AE9-D21D-4DFE-82BA-FF0F1497A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80D5E-CF8D-4E93-8F66-083BCB9953E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755EBF-ABB2-43A8-B77D-CF9D8E15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DAF8D2-79B4-4CAA-A63C-99813D29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F0831D-B6F8-433C-B06A-5E59C573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5441F8-C497-4CFB-8838-523925B5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7128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F9614D-7230-4138-82A5-58F6DA5E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E2CF43-785B-4BE9-BF38-5E3158A6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75FCDA-AD0C-4F83-8E94-718539EC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E51494-C87C-4153-94F0-66A912B4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7BFBEC-B262-4BBE-8501-260C14DD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B62A40-E3B3-45DC-A446-F08AA9371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128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1A3ED-9379-4F22-ADA1-934965B0945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0992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05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714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0992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105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BAC4EF-2ED0-4CB1-9D21-AA5F63B61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4ACA8A-DA4A-4C21-9677-5722171EA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0CE77B-85D5-4B5D-A578-B34F837E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3D8F3C-46F3-46D8-AA9A-3CE21404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9007EA-73F5-4989-BD36-2BFA23F3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DA81E4-6563-4293-9526-5579DECF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128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1D3761-B7ED-4CA8-BFF1-56DCEE34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E500A5-944E-410B-A41B-5382879B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89CDC1-BD57-4A17-8FB9-334C9C8A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6DA3FE-76FC-44B5-BCCB-7962BCE2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2913A-FE4C-4E55-88F5-7E603D470C3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55B220-1CFB-4CA9-AA33-0593BBDD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795A39-BEC7-44E5-A3DC-2AA6FDC0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40992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05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714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40992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105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1EAFC0-5DB8-4F47-8D08-E730ECF22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A397E4-F1B4-4431-967D-4EAE39BBE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2DBCC2-28D1-4F70-9492-D0627874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3870D7-979D-4FFB-8155-01B481B8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96A361-237C-4067-97A5-18D0323B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FC6E05-B9F5-4842-9EB2-5C8A59F5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7128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190F7F-1987-4055-B03F-E65AA80D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FBD73C-857E-4987-AD1B-A916F990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2EC85-9F18-44B4-8354-07E9192FEB9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AFE602-BFD8-458C-9273-AA06E8EB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7E1FDC-9F84-4E63-82A5-D6D7D40F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7D9F87-2AAE-42D3-BF28-6E1A8E7C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2B6B5D-F36A-44C2-A2E9-19F412D1D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40992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105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714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40992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105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28CB9D-7A1C-4D9F-8A42-3CD293AF7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D03035-B51C-419C-9E33-C106B5630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33CAB4-FA61-4A41-B94F-7899B146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B8A907-F17E-42F2-9DEE-D048E28C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8B1A11-BC86-4BCB-B1CC-14E819D3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C82CE4-E53C-4325-A8D5-47F97022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697AE-ED87-4432-9086-65ECA06FBFD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7128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4C2C5C-828F-4313-A9F0-66CCFBF0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BF42D9-4CD9-4263-98E3-80510DF5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BD7AFB-E944-452C-A742-13E9AB2D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3D8B24-7CF7-47E3-9275-91A05D24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AF2D21-B65A-405B-B863-B9ABBA18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937158-1855-4AC9-8A48-D59CF0A1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40992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105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714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40992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105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E4C193-0A5A-48D7-8B2C-EA5A9C52E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621D19-1CDD-475D-9B3F-D64BC5390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37E73A-9045-419C-8F63-FC376E50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78A8AD-C1CB-416F-8B45-D1906F41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28760" y="6500520"/>
            <a:ext cx="4643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500520"/>
            <a:ext cx="21337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8542-8B85-4D0E-8D06-FC86530B3114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1600200" cy="60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1600200" cy="6001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73AF-6055-41CE-8DBE-AA57B02BAAF1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8"/>
          </p:nvPr>
        </p:nvSpPr>
        <p:spPr>
          <a:xfrm>
            <a:off x="428760" y="6500520"/>
            <a:ext cx="4643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9"/>
          </p:nvPr>
        </p:nvSpPr>
        <p:spPr>
          <a:xfrm>
            <a:off x="6552720" y="6500520"/>
            <a:ext cx="21337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6CA1-1F47-46D3-AD57-EAF3D414170B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1600200" cy="60012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5533-F44A-4885-A148-FB17E71FF53F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1"/>
          </p:nvPr>
        </p:nvSpPr>
        <p:spPr>
          <a:xfrm>
            <a:off x="428760" y="6500520"/>
            <a:ext cx="4643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2"/>
          </p:nvPr>
        </p:nvSpPr>
        <p:spPr>
          <a:xfrm>
            <a:off x="6552720" y="6500520"/>
            <a:ext cx="21337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A00B-B2DB-4E13-9A5A-25ADF4975745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1600200" cy="60012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D7BF-5531-4882-93C4-4ACB38DF39E1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4"/>
          </p:nvPr>
        </p:nvSpPr>
        <p:spPr>
          <a:xfrm>
            <a:off x="428760" y="6500520"/>
            <a:ext cx="4643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5"/>
          </p:nvPr>
        </p:nvSpPr>
        <p:spPr>
          <a:xfrm>
            <a:off x="6552720" y="6500520"/>
            <a:ext cx="21337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6007-5DA3-4184-9865-39738D0B78F1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1600200" cy="6001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6206-2B44-4A76-AA04-92B57EB4E95E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7"/>
          </p:nvPr>
        </p:nvSpPr>
        <p:spPr>
          <a:xfrm>
            <a:off x="428760" y="6500520"/>
            <a:ext cx="4643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8"/>
          </p:nvPr>
        </p:nvSpPr>
        <p:spPr>
          <a:xfrm>
            <a:off x="6552720" y="6500520"/>
            <a:ext cx="21337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15B6-DADC-4980-A5D8-F0BF35C43039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35B3-F878-4F84-90CF-B62FF94B23B1}" type="datetime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7425-FB3F-4500-B340-85F95627B07D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1600200" cy="600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445B-2FBD-45A5-A646-252699DF8769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7"/>
          </p:nvPr>
        </p:nvSpPr>
        <p:spPr>
          <a:xfrm>
            <a:off x="428760" y="6500520"/>
            <a:ext cx="4643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8"/>
          </p:nvPr>
        </p:nvSpPr>
        <p:spPr>
          <a:xfrm>
            <a:off x="6552720" y="6500520"/>
            <a:ext cx="21337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956B-281E-4C16-840E-BF2B891B805A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1600200" cy="6001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F92A-145E-4CF8-86C6-4282E22AB6F7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0"/>
          </p:nvPr>
        </p:nvSpPr>
        <p:spPr>
          <a:xfrm>
            <a:off x="428760" y="6500520"/>
            <a:ext cx="4643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1"/>
          </p:nvPr>
        </p:nvSpPr>
        <p:spPr>
          <a:xfrm>
            <a:off x="6552720" y="6500520"/>
            <a:ext cx="21337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5701-6A44-4BC8-9B9F-2CC4A1C71476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1600200" cy="6001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1A92-0418-426E-85A4-4310DAA73036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3"/>
          </p:nvPr>
        </p:nvSpPr>
        <p:spPr>
          <a:xfrm>
            <a:off x="428760" y="6500520"/>
            <a:ext cx="4643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4"/>
          </p:nvPr>
        </p:nvSpPr>
        <p:spPr>
          <a:xfrm>
            <a:off x="6552720" y="6500520"/>
            <a:ext cx="21337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DB8F-F5BA-4FCF-ACF0-F833525B55BC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1600200" cy="60012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5473-7678-4501-A1FC-FE2E136401F3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6"/>
          </p:nvPr>
        </p:nvSpPr>
        <p:spPr>
          <a:xfrm>
            <a:off x="428760" y="6500520"/>
            <a:ext cx="4643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7"/>
          </p:nvPr>
        </p:nvSpPr>
        <p:spPr>
          <a:xfrm>
            <a:off x="6552720" y="6500520"/>
            <a:ext cx="21337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1132-7976-4045-975D-9D6300306B56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1600200" cy="6001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1EF0-C23C-49A0-90C1-94C97E1BC06C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9"/>
          </p:nvPr>
        </p:nvSpPr>
        <p:spPr>
          <a:xfrm>
            <a:off x="428760" y="6500520"/>
            <a:ext cx="4643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0"/>
          </p:nvPr>
        </p:nvSpPr>
        <p:spPr>
          <a:xfrm>
            <a:off x="6552720" y="6500520"/>
            <a:ext cx="21337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AC26-FD6F-4011-8439-16F83C299C44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1600200" cy="60012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30A5-6071-423F-9F8F-62687E0C07F2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2"/>
          </p:nvPr>
        </p:nvSpPr>
        <p:spPr>
          <a:xfrm>
            <a:off x="428760" y="6500520"/>
            <a:ext cx="4643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3"/>
          </p:nvPr>
        </p:nvSpPr>
        <p:spPr>
          <a:xfrm>
            <a:off x="6552720" y="6500520"/>
            <a:ext cx="21337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60FB-EB66-4DF1-B317-09013A54172F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1600200" cy="60012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B383-D23A-4660-B3B8-1C33927E3515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5"/>
          </p:nvPr>
        </p:nvSpPr>
        <p:spPr>
          <a:xfrm>
            <a:off x="428760" y="6500520"/>
            <a:ext cx="4643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6"/>
          </p:nvPr>
        </p:nvSpPr>
        <p:spPr>
          <a:xfrm>
            <a:off x="6552720" y="6500520"/>
            <a:ext cx="21337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A1BB-D4C2-4960-80E6-F95F863D1493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214200" y="3786120"/>
            <a:ext cx="878688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98989"/>
                </a:solidFill>
                <a:latin typeface="Calibri"/>
              </a:rPr>
              <a:t>Programmation fonctionnelle sûre 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98989"/>
                </a:solidFill>
                <a:latin typeface="Calibri"/>
              </a:rPr>
              <a:t>à l'aide du système Coq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98989"/>
                </a:solidFill>
                <a:latin typeface="Calibri"/>
              </a:rPr>
              <a:t>Yves Bertot </a:t>
            </a:r>
            <a:r>
              <a:rPr b="0" lang="fr-FR" sz="2400" spc="-1" strike="noStrike">
                <a:solidFill>
                  <a:srgbClr val="898989"/>
                </a:solidFill>
                <a:latin typeface="Calibri"/>
              </a:rPr>
              <a:t>(INRIA Sophia) &amp; </a:t>
            </a:r>
            <a:r>
              <a:rPr b="1" lang="fr-FR" sz="2400" spc="-1" strike="noStrike">
                <a:solidFill>
                  <a:srgbClr val="898989"/>
                </a:solidFill>
                <a:latin typeface="Calibri"/>
              </a:rPr>
              <a:t>Patrick Rambert </a:t>
            </a:r>
            <a:r>
              <a:rPr b="0" lang="fr-FR" sz="2400" spc="-1" strike="noStrike">
                <a:solidFill>
                  <a:srgbClr val="898989"/>
                </a:solidFill>
                <a:latin typeface="Calibri"/>
              </a:rPr>
              <a:t>(INRIA fuscia)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98989"/>
                </a:solidFill>
                <a:latin typeface="Calibri"/>
              </a:rPr>
              <a:t>UNIT  Saint-Étienne 12-13 mai 2009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552" name="Picture 2" descr=""/>
          <p:cNvPicPr/>
          <p:nvPr/>
        </p:nvPicPr>
        <p:blipFill>
          <a:blip r:embed="rId1"/>
          <a:stretch/>
        </p:blipFill>
        <p:spPr>
          <a:xfrm>
            <a:off x="2571840" y="2336760"/>
            <a:ext cx="4052880" cy="1235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6666"/>
                </a:solidFill>
                <a:latin typeface="Calibri"/>
              </a:rPr>
              <a:t>contexte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785520" y="1071720"/>
            <a:ext cx="83581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utilisation croissante des méthodes formelles dans les projets industriels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Coq 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développé depuis plus de 15 ans à l’Inria &amp; Orsay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à atteint une maturité et acquis une réputation internationale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enseigné à Berkley, Princeton, Ottawa, Penn U ... : paradoxalement </a:t>
            </a:r>
            <a:r>
              <a:rPr b="1" lang="fr-FR" sz="2800" spc="-1" strike="noStrike">
                <a:solidFill>
                  <a:srgbClr val="666666"/>
                </a:solidFill>
                <a:latin typeface="Calibri"/>
              </a:rPr>
              <a:t>plus enseigné aux USA </a:t>
            </a: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qu’en France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le cours proposé est un </a:t>
            </a:r>
            <a:r>
              <a:rPr b="1" lang="fr-FR" sz="2800" spc="-1" strike="noStrike">
                <a:solidFill>
                  <a:srgbClr val="666666"/>
                </a:solidFill>
                <a:latin typeface="Calibri"/>
              </a:rPr>
              <a:t>changement d’échelle </a:t>
            </a: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(web) et une </a:t>
            </a:r>
            <a:r>
              <a:rPr b="1" lang="fr-FR" sz="2800" spc="-1" strike="noStrike">
                <a:solidFill>
                  <a:srgbClr val="666666"/>
                </a:solidFill>
                <a:latin typeface="Calibri"/>
              </a:rPr>
              <a:t>valorisation</a:t>
            </a: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 de 15 ans de recherches 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55" name="Espace réservé du numéro de diapositive 5"/>
          <p:cNvSpPr/>
          <p:nvPr/>
        </p:nvSpPr>
        <p:spPr>
          <a:xfrm>
            <a:off x="6553080" y="6500880"/>
            <a:ext cx="2133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FD4A-59E6-44D5-8505-6B068D4203E4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6666"/>
                </a:solidFill>
                <a:latin typeface="Calibri"/>
              </a:rPr>
              <a:t>objectifs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713880" y="1142640"/>
            <a:ext cx="82155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réaliser un cours multimédia : 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équivalent de 30 h de cours + 30 h de TD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organisé en 7 chapitres comprenant chacun cours magistral (séquences de 10 à 15 mn), exercices traités, exercices proposés et annexes (encarts, sommaire dynamique, autoévaluation)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condensé en environ 20 h de cours + exercices traités</a:t>
            </a:r>
            <a:br>
              <a:rPr sz="2800"/>
            </a:b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principaux partenaires : ENS Cachan (Jean Goubault-Larrecq), Ecole des Mines de Paris (Valérie Roy), univ.Bordeaux 1 (Pierre Castéran)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58" name="Espace réservé du numéro de diapositive 3"/>
          <p:cNvSpPr/>
          <p:nvPr/>
        </p:nvSpPr>
        <p:spPr>
          <a:xfrm>
            <a:off x="6553080" y="6500880"/>
            <a:ext cx="2133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0B18-92C8-467F-991F-D01B518BBA0A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6666"/>
                </a:solidFill>
                <a:latin typeface="Calibri"/>
              </a:rPr>
              <a:t>moyens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714240" y="928800"/>
            <a:ext cx="79725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Personnels : 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4 mois DR Inria, 6 mois ingénieur (édition), 12 mois docteur/ingénieur (exercices), 10 x 5j coauteurs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Moyens techniques :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équipe multimédia Inria siège : tournages plateau, postproduction et édition 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support de développement et d’édition web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le projet (18 mois) a commencé en octobre 2008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Unit a financé 30 k€ au titre de 2009 (sur 260 k€)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Il est demandé une aide complémentaire de 30 k€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61" name="Espace réservé du numéro de diapositive 3"/>
          <p:cNvSpPr/>
          <p:nvPr/>
        </p:nvSpPr>
        <p:spPr>
          <a:xfrm>
            <a:off x="6553080" y="6500880"/>
            <a:ext cx="2133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DB67-5C89-4D05-8557-565B9A3C8F2A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6666"/>
                </a:solidFill>
                <a:latin typeface="Calibri"/>
              </a:rPr>
              <a:t>enjeux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produire des ressources de </a:t>
            </a:r>
            <a:r>
              <a:rPr b="1" lang="fr-FR" sz="2800" spc="-1" strike="noStrike">
                <a:solidFill>
                  <a:srgbClr val="666666"/>
                </a:solidFill>
                <a:latin typeface="Calibri"/>
              </a:rPr>
              <a:t>qualité</a:t>
            </a: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 (contenu, auteur, forme)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pour l’Inria : une étape importante de la </a:t>
            </a:r>
            <a:r>
              <a:rPr b="1" lang="fr-FR" sz="2800" spc="-1" strike="noStrike">
                <a:solidFill>
                  <a:srgbClr val="666666"/>
                </a:solidFill>
                <a:latin typeface="Calibri"/>
              </a:rPr>
              <a:t>valorisation</a:t>
            </a: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 de résultats de recherches stratégiques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666666"/>
                </a:solidFill>
                <a:latin typeface="Calibri"/>
              </a:rPr>
              <a:t>toute formation est un spectacle</a:t>
            </a: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  (Pierre Schaffer)</a:t>
            </a:r>
            <a:br>
              <a:rPr sz="2800"/>
            </a:b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s’adapter aux réseaux, débits et objets communicants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64" name="Espace réservé du numéro de diapositive 3"/>
          <p:cNvSpPr/>
          <p:nvPr/>
        </p:nvSpPr>
        <p:spPr>
          <a:xfrm>
            <a:off x="6553080" y="6500880"/>
            <a:ext cx="2133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075B-FBB6-4042-BACC-68216227D764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6666"/>
                </a:solidFill>
                <a:latin typeface="Calibri"/>
              </a:rPr>
              <a:t>avancement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20% du cours magistral tourné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mise au point des outils et méthodes : 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séparation des flux, édition le plus tard possible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adaptabilité aux écrans / objets web et canaux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2 postdocs de 4 mois chacun réaliseront des exercices en coq (été 2010) 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67" name="Espace réservé du numéro de diapositive 3"/>
          <p:cNvSpPr/>
          <p:nvPr/>
        </p:nvSpPr>
        <p:spPr>
          <a:xfrm>
            <a:off x="6553080" y="6500880"/>
            <a:ext cx="2133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0397-D32F-45D5-958A-D76FD98E8D79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1:17:00Z</dcterms:created>
  <dc:creator>Patrick Rambert</dc:creator>
  <dc:description/>
  <dc:language>en-US</dc:language>
  <cp:lastModifiedBy>Patrick Rambert</cp:lastModifiedBy>
  <dcterms:modified xsi:type="dcterms:W3CDTF">2009-05-12T10:33:13Z</dcterms:modified>
  <cp:revision>169</cp:revision>
  <dc:subject/>
  <dc:title>Diapositive 1</dc:title>
</cp:coreProperties>
</file>