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4F6-9380-4C08-A932-4F206478F34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909-EA6D-4FD0-A271-F65D2610F6C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637-1091-4EAF-884C-B0C981E72EC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D75D-1B9D-4AC0-BF49-4856E23836A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5B1C-FEC6-400D-B120-1BD9585D304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D0CB-E49B-48F7-A9DC-5D8048770E7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1E49-B6E9-4179-B2FE-7349041B6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9EB7-809B-45AC-8B85-D6CEF02239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D3404-7967-4304-AE4E-F4728B55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FAE9A-2E08-4995-A597-1D95186F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0A925-80A2-4065-A862-291700B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168AC-9F0A-4F66-9A3E-04C0455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B48F7-C29D-4F6A-AF57-FF7127B0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E7348-3968-49CA-AABC-9C573DE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2BA3A-7452-4F99-875A-C2913BA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0326B7-26AD-4904-90F4-EC019659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3848E-3445-4AE2-B7FB-CD63EDC7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C5AEFB-3083-4E8C-AE58-3C1DB002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8383-4DB9-43C6-8038-9024CFED11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6712B-D714-4CDA-A2A9-9535323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172A55-92B1-4F60-950F-674C3FB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425FC-46B9-4EB3-9D5B-1DCAA4E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92A2F-D8CE-42C7-99E2-2FC945A0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3D462E-F8A6-46E7-91F8-22E4AB1A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1AA41E-625E-483F-A6C4-D9763842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9CAC59-61C3-410B-81A9-8965517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F6D54-7E4B-437A-955F-A731F95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76CF9-3112-4170-BCDC-4518243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12F70D-E64D-49BF-891F-F6A67162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B92C-E0F2-4A40-95F5-55E2E0FE15B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91D12-A274-48EB-AF9A-AB276FD6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C17B0A-FB9D-45FD-A2C8-53264529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7AE7B5-FBCC-4817-8801-F928BFFB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50D324-7FFE-4DCD-BEAB-5C68E73D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F2801D-A0E6-421F-B814-C704E9F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7111DD-6A9F-4032-B432-4E4CF4A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CC7ACB-06B8-4DDF-9936-E272D8A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A9AC95-A2D5-4736-B1CB-78C38290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74DF7-EF7D-46BE-848E-34C1A0C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B846D9-65AA-4184-B49C-B0718C7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D4AD9-30F6-4C2F-9A85-6ACBDF37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5EC8D8-81FF-4B86-A800-2BBF74B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CED5D-4AC7-45C6-A36F-03589BCB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6293D4-FBA7-4C10-9580-266F982F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A238CB-CA95-4C59-800E-90126046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DAF157-3F54-4B89-B3BA-47CC1D2D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66FF92-674B-4D90-9A4E-029C7F3B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56F9D8-7C69-4379-AAB1-F57CDEA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8CBBE3-B62E-4058-A37E-31F01DE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803930-31A4-42E4-9EC8-5A7F533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6A436E-3D73-460E-969A-7576DDC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82CEB-FBB1-4630-A8A6-C8D09A2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915A39-EC3A-4EE7-AB48-FE118DD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504535-4C52-4907-B2D4-9BDBBBB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665BAE-8861-48F1-8BD0-AAF4B838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0A1C7D-4326-4812-9125-283BFD97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F322B1-9A9A-41AB-85CE-A09C2367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BD44D9-7C38-4418-BBDA-4F224073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6F1D3-82F0-4C67-B131-4A0BAEE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31E1D-16F3-4708-BCEA-C4037AF3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21D6AC-5E4E-4B60-8F01-A23F30A6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D47B96-89D0-4A9A-80CD-69DB0B9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E605D-2675-4711-989E-0DDFBA1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A95AF0-B9E9-4606-8448-DCFA474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E94D92-BD18-45BB-8E4C-CEDA6C9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F9BC9-7F53-4B62-A120-3531C77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2FD394-0666-4A66-A97D-AED0EA9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69BE1-B9FB-4462-A5A5-F45F100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FBF4C1-81FA-47C0-8354-CCA7841B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95D6D4-80E2-4C15-9240-2DC4F61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53E0-9CE5-412C-A5F5-13948E38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A953F-0764-4627-B2D4-5989670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84BB-F658-4FB7-8567-20D17907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BE53B-9235-4313-BD89-585BB4D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6B67-E557-4EC5-AAAF-A721E45C4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D20F4-33EA-4184-ACF8-94979500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ED5A-D226-4FA7-9367-80C903E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7E7DC-2339-421B-A537-AE792309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2E70-182F-45B6-9590-07723F77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57470-3CEB-4F97-903C-77D79501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A21A8-3A00-41F5-96FF-453EEA88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A7BAC-A3EC-431C-AFCB-5EFCE047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19CCC-7F40-4F9B-96A4-BCA1DEB0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66423-2CD6-4D21-9A9C-44A0440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FD22-BDAC-4958-8CE9-2A121C9C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0591-E220-422A-B976-412710D4D5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40258-B089-4E95-8714-51102509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E23AD-7AFB-44DA-AA23-09F70D3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244A8-C865-463B-B4B2-F98F564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AC7B5-AAF9-4AE4-B810-BF07162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046A0-FDD8-4C91-9224-7347E3AC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EB4BC-4B80-440B-B7A1-66883B48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B62ED-E6C4-4C5F-9E4C-C14D82C1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821B4-1261-4FDD-9A55-BCF4DDBD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63AC0-0548-434F-9A36-951CF3F0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A6784-AC28-41DB-8073-E39EEEAB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C3E8-AC1F-448C-B462-4834DED4C0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C821B-9F16-4519-8DCE-7D11C27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3D4CB-A6C3-4AB4-A3D2-400A89DD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FA313-2352-46DB-89F8-9157982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0CD15-9652-4F57-B0FC-88D96CD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3184B-AD45-42F9-9059-5FA1600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44E64-1EDE-4797-803F-92E6D74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02C3E-B775-40CA-84FA-C208A0AE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090A2-6542-4485-9702-3E027937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68775-41C9-4658-AB8D-E927B583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B1A7E-2DF4-4DD5-AC69-DEAF9148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7A55-F4DE-4292-83ED-6B84A9AC71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88490-4E98-441A-90B4-E03560D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FBA05-B14E-437C-A10F-7B941A4E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CEF67-CF13-49DA-B291-6CE11C9E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F6B70-039A-4E35-A78E-47FCD03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2C8B3-52A8-4F46-91F8-8E392621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F87DC-3ADF-42BE-B002-FE32978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C4BED-71C5-4771-A17E-45AFF52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E27E3-FE95-4A7C-948E-65406AC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CC001-5717-43D0-AF75-2BDFCF6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C70D7-7691-4C94-8603-5B534132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241E-3B74-4557-A2A4-18D85E7B72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E6310-B656-4C49-977E-F041E898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31AC5-2B0A-4FE6-B907-A99DFE30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E3F9C-2773-45D8-86AE-62EEB35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A4B56-1B82-4A8B-B329-8AC684C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033C6-118B-4423-B1D6-D459F19D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BEF36-2C7F-4BE0-B91B-25040729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8E557-7783-482A-A1F2-9833DB0B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54C3B-B28C-47F6-A945-F92CEBE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76A7E-EC59-471D-92C5-CAF9E9C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68A0E-CF73-4BD7-A545-7AC8E85F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575D-1B43-41A3-A030-F3B8E14E29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D878C-DC1C-4FC4-826E-B85CF52D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B7DEA-C002-483C-9679-41CF9172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881B0-23E3-477B-AA4C-6F7FCE4E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5112A-3C19-4422-82DF-BC415CD4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C4CD1-8BF7-46FD-B311-6C58E29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37880-FC47-402C-8B6D-53BCB8F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6B2EE-4185-4CAC-85DE-5146A0B4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F7576-9B63-43E7-BCD6-C6F770BC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9BA15-823C-4BAC-A732-8B49DC1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D49A8-8087-42F0-8D94-15B3CFC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DEAB-9712-40B3-8540-22464B9B28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E224F-0F33-4C08-9E6C-3AF18BF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D7434-F2E1-4B15-A064-0C9A862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34C23-0D07-403D-98E7-476D309C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D328F-BB09-450B-976A-EB8B37F9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3E660-4BC6-4C08-A5D9-BEC11CF4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21AD09-D0E3-440F-B73D-DBEAD67C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086B0-D133-417A-B7FE-FBB1D7AB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D253EE-11E6-4996-976B-F4A211F1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FDD6A2-84AB-43DC-8D09-1EF9DE1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5AF90-10C6-4D3B-BD48-0C4102A7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48FD-5A24-4803-8388-18DB00375C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73FE5-CFC4-4EB6-BDE1-C99A485D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F38770-D111-406E-BD32-70DA8D4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5E5AB-47C7-4623-9867-51E9DAC3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006F9-D864-4F4A-893C-59F89F57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4AC77-0D18-4C9F-94A9-1B614DD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F3532E-FD74-4E2A-AD90-9CBAB3A3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F8324-303C-4B27-9EF6-8B5091F2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1E2E2-26BD-4258-8205-55DCF5F6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9528E-E378-43B0-855C-13C6D518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0A95C-7528-40EC-9C1E-84352F6A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B734-7E92-433E-94ED-6C470DB8F62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9DAA-685E-4958-A492-123CB5C63300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ACDD-22DA-4D54-AE8E-92838504240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7174-D255-4DEA-9E46-5DA21EBFC427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1AB-6F06-4441-B316-931D3009B8D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C8F3-2CAE-4AF8-B8C0-8C72176633FB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B5F-C771-4786-89A3-7713A961394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77A-56A9-42C2-B54A-DC2F9970DE73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2E1-F3EE-49A5-AA5E-58F6BA389E6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3EF-1619-4581-81C4-0C1939BAC5F5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ECE-0353-4521-B0D1-7018DAA2A7C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FF04-C558-4D45-977B-E8D659BD367D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1BB-02B8-4706-8212-E2A8F763330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8AE-9F61-4107-A676-24727184D28B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407-0C59-4DC6-8599-AC03F4DA322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133-4EBD-42F2-9BFD-86AA85AF9388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1FC-825F-4145-8E37-6FD78BB584D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045B-6C0A-4439-A4D8-87F4DE48207B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563-3781-40FE-80AE-1A5383BBCF4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3A3D-3CA6-4B02-9110-DB3B7AC62FD8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698-488E-4A60-9846-A811DF16489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266B-FF8F-4E63-B644-B743FE2C39C8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E77-51F3-41A9-842C-0509B416655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7C56-6D77-4C29-9154-4BDED1193A34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0A79-74A2-44A6-BF89-3267DE9064A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214200" y="3786120"/>
            <a:ext cx="87868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Intergiciels et systèmes réparti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Michel Riveil </a:t>
            </a: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(univ. Nice) &amp; </a:t>
            </a: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Thierry Viéville </a:t>
            </a: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(INRIA fuscia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UNIT  Saint-Étienne 12-13 mai 2009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571840" y="2336760"/>
            <a:ext cx="4052880" cy="12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problématique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855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'évolution des systèmes informatiques conduit au développement de plus en plus important des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intergiciels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: logiciel servant d'intermédiaire de communication entre plusieurs applications, généralement complexes ou distribuées, sur un réseau informatique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ces techniques sont actuellement enseignés de manière diverse, parfois sous des intitulés différents. Les normes et standards ne sont pas toujours bien fixés.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1D66-874E-41BE-9352-2D1B544077C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855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auteur :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Michel RIVEILL 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rofesseur d'informatique à Polytech'Nice - Sophia / Directeur du département sciences informatique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artenaires :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équipe Marge, Michel Simatic, T&amp;MSP 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équipe Rainbow, Michel Riveill, UNS,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équipe SMAC, Philippe Mathieu, U. Lille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département d'Informatique, ETC Lyon, a.b.s. Tahar Limane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8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1082-D084-47B9-BEA6-4702CC1AF72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communauté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85520" y="1143000"/>
            <a:ext cx="8358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communauté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soudée et active depuis longtemp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ICAR École d'été 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sur les Intergiciels et sur la Construction d'Applications Réparties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est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organisée régulièrement depuis 15 ans (Balter, Krakowiack, Riveil … / Inria Imag alt.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le point sur les méthodes (1/4 public constitué d’ingénieurs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Michel Riveil entretient une 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page de bookmarks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(+400 réf.) sur l’enseignement des prérequis et des fondamentaux. </a:t>
            </a:r>
            <a:br>
              <a:rPr sz="2400"/>
            </a:b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Il reçoit une centaine de mails /mois à ce sujet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Sacha Krakowiack écrit un livre électronique 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Intergiciel et Construction d'Applications Réparties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sous licence creative common (400 pages existantes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1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D11D-EB1D-4CE5-8CA9-5C4CC7560853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5880" y="107172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e projet vise à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capitaliser et pérenniser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cette école et son enseignement qui semble fragilisé depuis quelque temp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il consistera principalement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à extraire et enrichir les contenus du livre,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à ajouter des exercices et des visualisations,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à mettre en place un interface web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et un service « SAV » à l’image du bureau d’accueil fuscia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4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C68C-6CC4-48E1-B141-DD697C94E01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le proje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14240" y="114264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e projet Unit 2008-13 a été commencé début avril :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identification des parcours et des contenus existant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liste des grains à restructurer ou à enrichir et des productions nécessaire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uis réalisation des grains, visualisation et gamelets (2eme année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e projet était prévu sur 2 ans, il est demandé à Unit pour la phase 2 : 44 k€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7" name="Espace réservé du numéro de diapositive 3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C827-172D-4E95-AA7A-EDA5C8515E9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17:00Z</dcterms:created>
  <dc:creator>Patrick Rambert</dc:creator>
  <dc:description/>
  <dc:language>en-US</dc:language>
  <cp:lastModifiedBy>Patrick Rambert</cp:lastModifiedBy>
  <dcterms:modified xsi:type="dcterms:W3CDTF">2009-05-12T10:03:27Z</dcterms:modified>
  <cp:revision>179</cp:revision>
  <dc:subject/>
  <dc:title>Diapositive 1</dc:title>
</cp:coreProperties>
</file>