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37C-480B-4172-8321-C69A4ED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04E-3987-48EE-8396-E187C081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0B4-8E34-49EA-8BEF-872CE31B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F63-218F-4F58-8CC8-5B92FD7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4C-3A6A-4BF1-B015-C4F92443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AE1-A482-4B9C-AA1F-5C9B631C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288-4233-48C4-A117-D815CCE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551-9C76-4AB4-98F8-46AB98FD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9E8-9A91-4396-A188-7F5BEDFC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7A9-1F22-422F-882D-8AA34E1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553-2336-461D-9F19-4509E37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EBE-1811-4AE5-A2ED-B9767AF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BCB-42C0-4317-AD26-9CB6D35ACDF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3240" y="1060560"/>
            <a:ext cx="824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4880" y="288144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Bruno Montcel 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André Briguet 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Nora Van Reeth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Christophe Batier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5040" y="104760"/>
            <a:ext cx="21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intemps d’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39480" y="11916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int Etienne, 12 mai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4735440"/>
            <a:ext cx="69087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Jean-Michel Franconi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versité Bordeaux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François Langevin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versité Technologique de Compièg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atrick Poulet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versité de Strasbo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29160" y="2728800"/>
            <a:ext cx="271476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97360" y="3578400"/>
            <a:ext cx="191628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30400" y="156780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us value par rapport à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2440" y="2075760"/>
            <a:ext cx="74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t de l’art sur le web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9840" y="3029040"/>
            <a:ext cx="344520" cy="0"/>
          </a:xfrm>
          <a:prstGeom prst="line">
            <a:avLst/>
          </a:prstGeom>
          <a:ln w="4428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6280" y="284940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est facile de s’y perdre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60480" y="323028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tes spécialisés (IRM, Imagerie cérébrale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4880" y="3767040"/>
            <a:ext cx="344160" cy="0"/>
          </a:xfrm>
          <a:prstGeom prst="line">
            <a:avLst/>
          </a:prstGeom>
          <a:ln w="4428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0960" y="3587760"/>
            <a:ext cx="60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u limité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39240" y="2519280"/>
            <a:ext cx="42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tes généralistes pouvant être très comp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062240"/>
            <a:ext cx="78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imations flash parfois de qualité ma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rement suffisamment interactives pour être considérées comme de véritables T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27320" y="4835520"/>
            <a:ext cx="62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Il n’existe pas à notre connaissance de véritable TP interactifs de RMN en ligne librement accessible actuell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14440" y="2340000"/>
            <a:ext cx="74120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ptembre 2009 - janvier 20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éalisation du T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Calendrier prévi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1120" y="1544760"/>
            <a:ext cx="54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n - sept. 2009 à oct.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3363120"/>
            <a:ext cx="74120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Février 2010 - Juillet 201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alisation d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0040" y="4298400"/>
            <a:ext cx="7412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ptembre 20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se à disposition du pro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 auprès des étud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7720" y="1537920"/>
            <a:ext cx="754380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quipe pédagog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 Enseignants-Chercheur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uno Montcel et André Briguet - Université Lyo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lorent Goutailler (ATER) et 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Anoop Ramgolam (Monite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ean Michel Franconi - Université Bordeau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ançois Langevin - Université Technologique de Compiè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atrick Poulet – Université de Strasbo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Ressources hu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4155480"/>
            <a:ext cx="75438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quipe techni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CAP - Université Lyo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stion technique du projet: Christophe Batier et Nora Van Re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ultimédia Flash: Aurélien Chantioux et Fabien Biz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IGE Infograph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IGE Développ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42480"/>
            <a:ext cx="77263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te d’un projet UNIT positivement accueilli par 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P interactifs: Matériel pédagogique très inno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Arial"/>
              </a:rPr>
              <a:t>Actuellement introuvable en 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loration des innovations pédagogiques permises par les 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ence du service I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colas Coltice, Nora Van Reeth et Christophe Ba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bien Bizot et Aurélien Chantio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erture future vers d’autres techniques d’imag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ourquoi ce proj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32040" y="3211200"/>
            <a:ext cx="786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MN biomédicale, un sujet complexe et pluridisciplin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0120" y="3776760"/>
            <a:ext cx="344520" cy="0"/>
          </a:xfrm>
          <a:prstGeom prst="line">
            <a:avLst/>
          </a:prstGeom>
          <a:ln w="4428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4240" y="3622320"/>
            <a:ext cx="6351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és d’apprentissage pour l’étud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01680" y="4513320"/>
            <a:ext cx="327240" cy="7920"/>
          </a:xfrm>
          <a:prstGeom prst="line">
            <a:avLst/>
          </a:prstGeom>
          <a:ln w="4428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4360" y="4343040"/>
            <a:ext cx="7248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ème RMN et IRM difficile d’accè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en 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01920" y="4119480"/>
            <a:ext cx="344520" cy="0"/>
          </a:xfrm>
          <a:prstGeom prst="line">
            <a:avLst/>
          </a:prstGeom>
          <a:ln w="4428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86040" y="3965040"/>
            <a:ext cx="6351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marche type ingénierie pour la san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204920" y="4929120"/>
            <a:ext cx="326880" cy="7920"/>
          </a:xfrm>
          <a:prstGeom prst="line">
            <a:avLst/>
          </a:prstGeom>
          <a:ln w="4428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7600" y="4758840"/>
            <a:ext cx="7248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isponibilité du L3 au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3480" y="1466640"/>
            <a:ext cx="786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te du projet BAPHYR financé par l’UNIT en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76480" y="1907280"/>
            <a:ext cx="7400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/200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 en ligne - animations flash explic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/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u projet auprès des étud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/20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 interactifs en li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0680" y="1432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Communauté impliq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54040" y="1740240"/>
            <a:ext cx="706284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é Lyon 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: Bruno Montcel (MCU) et André Briguet (P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aboratoir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REATIS-LR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NRS UMR5220 INSERM U630, Univ Lyon 1, INSA Ly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STI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 des Sciences et Techniques de l’Ingénieur de Ly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épartement Génie Bioméd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22480" y="32601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0000" y="3624120"/>
            <a:ext cx="650844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é Bordeaux 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: Jean-Michel Franconi (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irecteur du Centre de Résonance Magnétique des Système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Biologiques CNRS UMR55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é Technologique de Compièg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: François Langevin (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irecteur du Centre d’Imagerie Médicale Avan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versité de Strasbourg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Patrick Poulet (MCU-P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boratoire LINC: CNRS UMR7191 - Institut de Physique Biologiqu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400" y="156780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urs at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tilisateurs 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14360" y="2311200"/>
            <a:ext cx="64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ud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esoin de Travaux Pratiques car la RMN est 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jet 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imations intera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68360" y="4117680"/>
            <a:ext cx="67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marche Sciences pour l’Ingénieur pour la Biologie et la Médecine. But professionnalisant pour de futurs techniciens, ingénieurs médecins et cherch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Utilisateurs 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140904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i sont i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0080" y="1779120"/>
            <a:ext cx="70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udiants se destinant à des carrières médicales, biomédic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édicales - niveau L3 au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31880" y="2427120"/>
            <a:ext cx="751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 Lyon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ISTIL Département Génie Biomédical: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é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à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née. M1 EEA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M Sciences Médicales, M2 Physique Médicale, Ecoles Doctorales EEA et EDI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M2 Génie Biomédical, M2 d’Ingénierie Biomédicale et Hospita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 Bordeaux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- L Biologie Santé,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 Strasbou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PCEM2,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0600" y="4540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cheurs du do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7720" y="4937760"/>
            <a:ext cx="735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ts Européens : Sessions de formations pour deux RTN  (FAST et PHELI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01760" y="52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ormations continues en entrepr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7080" y="3679200"/>
            <a:ext cx="77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uverture à l’international - sphère franco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4010400"/>
            <a:ext cx="75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Cluj-Napoca (Roumanie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- M Physique Médi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Technologiques Tlemcen, Mohammedia, Settat, Beyrouth, Alep, Abomey-Cala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0400" y="1567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émarche pédag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372420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rchitecture non linéaire du cours afin de permettre les allers ret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 le cours et les TP interactifs et animations explic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000" y="2114280"/>
            <a:ext cx="728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déal pour l’étudiant: TP sur des systèmes RMN et IRM ré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62160" y="4455360"/>
            <a:ext cx="724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corrélations avec des produits UNIT existants ou en c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’élaboration (Biotechnologies, Biologie, Electronique, Physique, Trai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 Signal et de l’Image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13040" y="2752560"/>
            <a:ext cx="344520" cy="0"/>
          </a:xfrm>
          <a:prstGeom prst="line">
            <a:avLst/>
          </a:prstGeom>
          <a:ln w="4428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84280" y="2558520"/>
            <a:ext cx="54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ème : Disponibilités limités et couts exorbit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50960" y="3125880"/>
            <a:ext cx="327240" cy="7920"/>
          </a:xfrm>
          <a:prstGeom prst="line">
            <a:avLst/>
          </a:prstGeom>
          <a:ln w="4428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0760" y="2949480"/>
            <a:ext cx="54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 : TP virt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 interactifs disponibles en li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30400" y="1567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oix de 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63760" y="1991520"/>
            <a:ext cx="74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s flash intera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6400" y="238608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 TP  concernant un point complexe et source d’incompréhension du cours de R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08200" y="299880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s TP sont une première étape dans la création d’une série plus complète de TP couvrant l’intégralité des sujets du cou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0400" y="379656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1000" y="4205880"/>
            <a:ext cx="57150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1 Mesures des temps de relaxation spin-milieu 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: 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2 Mesures des temps de relaxation spin-spin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: 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6880" y="73836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77280"/>
            <a:ext cx="81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emple de TP virtuel actuellement utilisé à Strasbourg et L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6520" y="1709640"/>
            <a:ext cx="6939000" cy="4335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4880" y="588960"/>
            <a:ext cx="7829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6880" y="73836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3120" y="1440"/>
            <a:ext cx="83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277280"/>
            <a:ext cx="81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emple d’idée de TP virtuel Envisageable par la sui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8492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93680" y="5972040"/>
            <a:ext cx="1920960" cy="717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29388"/>
          <a:stretch/>
        </p:blipFill>
        <p:spPr>
          <a:xfrm>
            <a:off x="3409920" y="4202280"/>
            <a:ext cx="4272120" cy="2198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3552" r="0" b="28415"/>
          <a:stretch/>
        </p:blipFill>
        <p:spPr>
          <a:xfrm>
            <a:off x="3402000" y="1828800"/>
            <a:ext cx="4299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45:42Z</dcterms:created>
  <dc:creator>Ramstein Stéphane</dc:creator>
  <dc:description/>
  <dc:language>en-US</dc:language>
  <cp:lastModifiedBy> </cp:lastModifiedBy>
  <dcterms:modified xsi:type="dcterms:W3CDTF">2009-05-11T22:35:39Z</dcterms:modified>
  <cp:revision>382</cp:revision>
  <dc:subject/>
  <dc:title>Présentation PowerPoint</dc:title>
</cp:coreProperties>
</file>