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80A4-D7B0-49C7-803D-64228D5AC4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6606-EF1F-498F-8B58-0540D38377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A7AD-94A7-41E9-BC02-7A09E0CC10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6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AB15-1C6C-4353-BB8E-567ADC2008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17FA-6FDE-4BD2-AA38-7EFA858103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8F33-C712-403F-8B74-3A2961D0E6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A501-829E-4DC8-871A-43578945BD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1DE2-081F-4CFB-A7B8-9563727F1B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6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A5BF-064E-4459-A12E-1A2216E70C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0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90D4-381C-41DF-8140-611B846605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C549-F1F1-4102-80B2-F3804AC96C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87A7-68E8-49DE-BFB3-3E091F0D94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F5B1-9BB7-4F6F-A4C6-52C4AD9F51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4280-D3BB-4646-A226-69D45B1D46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861 D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24B3-0F69-46E3-8CE1-6225847915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9004-2FC8-424F-8FA7-E99857D373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F39-0370-475D-AE83-5903341E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FD6-49F0-49B0-B222-1151F365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FFC-0B0B-43C6-84D2-11CACE85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2CE-043E-4432-9F29-FF517816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0EE-1BCE-41AD-B103-99C1B21E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338-B339-45E7-9BDF-DC44F8DE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D13-B910-475E-A451-C3BE2944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5B8-621A-4664-BAAD-30CB8154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90A-867C-41CF-8582-1920EEBD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E03-5FCF-4603-B9DF-C144A2F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0D7-3753-455B-9417-52B73705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604-1BBB-417B-BE1D-5C16DEC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Sciences et Technologies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539D-AB3A-4792-9334-9ECE6BF3069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3"/>
          <p:cNvSpPr/>
          <p:nvPr/>
        </p:nvSpPr>
        <p:spPr>
          <a:xfrm>
            <a:off x="-19080" y="5540400"/>
            <a:ext cx="4054680" cy="1343160"/>
          </a:xfrm>
          <a:prstGeom prst="pie">
            <a:avLst/>
          </a:prstGeom>
          <a:solidFill>
            <a:srgbClr val="899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"/>
          <p:cNvSpPr/>
          <p:nvPr/>
        </p:nvSpPr>
        <p:spPr>
          <a:xfrm rot="10800000">
            <a:off x="4429080" y="-14400"/>
            <a:ext cx="4743360" cy="358632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4"/>
          <p:cNvSpPr/>
          <p:nvPr/>
        </p:nvSpPr>
        <p:spPr>
          <a:xfrm rot="10800000">
            <a:off x="5103360" y="-360"/>
            <a:ext cx="4054680" cy="134316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7aa0cd"/>
              </a:gs>
            </a:gsLst>
            <a:lin ang="12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9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9097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543800" y="5450040"/>
            <a:ext cx="1447920" cy="12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t THERMOPTIM-UNIT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econception pédagogique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e l’enseignement de l’énergéti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41911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. GICQ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INES ParisT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ésultats pédagog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rte motivation des élè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illeure assimilation, et surtout meilleure structuration des connaiss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ticipation beaucoup plus a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acts plus intéressants avec les élè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010280" cy="5248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70920"/>
            <a:ext cx="5572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réquentation du port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7391160" y="403848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+ 100/m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78320" y="266688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+ 500 Mo/m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stimation util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885680"/>
            <a:ext cx="88394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iches remplies par partenaires UN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Nombre de machines, d’élè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urée d’utilis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stimation CPGE (nb lycées, nb classes, duré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35 stagiaires LIESSE (profs CPGE) depuis 20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trapolation partenaires, plus CP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Utilisation pédag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Autour de 250 enseignants impliqués par 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lus de 7 000 élèves par 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lus de 57 000 heures-élèves par 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position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52352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) explicitation des principales stratégies pédagogique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ils d’Ariane pédagogiques (compréhension qualitative et phénoménologique des concepts-clé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gérierie pédagogique hybride (présentiel / en lig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) accompagnement des enseignants dans cette démarche novatrice en rupture conceptuelle avec leurs prat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) formations aux outils et à la nouvelle pédagogi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merci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27" descr="Z:\images\Logo_GEM_nouveau.jpg"/>
          <p:cNvPicPr/>
          <p:nvPr/>
        </p:nvPicPr>
        <p:blipFill>
          <a:blip r:embed="rId1"/>
          <a:stretch/>
        </p:blipFill>
        <p:spPr>
          <a:xfrm>
            <a:off x="2514600" y="2438280"/>
            <a:ext cx="2666880" cy="13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28" descr=""/>
          <p:cNvPicPr/>
          <p:nvPr/>
        </p:nvPicPr>
        <p:blipFill>
          <a:blip r:embed="rId2"/>
          <a:stretch/>
        </p:blipFill>
        <p:spPr>
          <a:xfrm>
            <a:off x="5638680" y="2438280"/>
            <a:ext cx="2743200" cy="13431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29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D:\TravailKatia\Utile\Logos\EMP\logo-MinesParisTech.gif"/>
          <p:cNvPicPr/>
          <p:nvPr/>
        </p:nvPicPr>
        <p:blipFill>
          <a:blip r:embed="rId3"/>
          <a:stretch/>
        </p:blipFill>
        <p:spPr>
          <a:xfrm>
            <a:off x="500040" y="2428920"/>
            <a:ext cx="1628640" cy="1352520"/>
          </a:xfrm>
          <a:prstGeom prst="rect">
            <a:avLst/>
          </a:prstGeom>
          <a:ln w="0">
            <a:noFill/>
          </a:ln>
        </p:spPr>
      </p:pic>
      <p:sp>
        <p:nvSpPr>
          <p:cNvPr id="114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840" y="151920"/>
            <a:ext cx="67150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énover l'enseignement d'une discipline redoutée : la thermodynam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904760"/>
            <a:ext cx="84582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éthode d’apprentissage originale et extrêmement simplifié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 innovations pédagogique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imulateur Thermoptim (spécifiq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odules de formation à distance sonorisés Diapas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génériqu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 outil de déploiement : portail Thermoptim-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4737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URBINE A GA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3581280" cy="2063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1" name="Rectangle 4"/>
          <p:cNvSpPr/>
          <p:nvPr/>
        </p:nvSpPr>
        <p:spPr>
          <a:xfrm>
            <a:off x="341460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1765440" cy="2133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3" name="Line 7"/>
          <p:cNvSpPr/>
          <p:nvPr/>
        </p:nvSpPr>
        <p:spPr>
          <a:xfrm>
            <a:off x="457200" y="914400"/>
            <a:ext cx="152388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533520" y="990720"/>
            <a:ext cx="137160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7848720" cy="325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5943600" y="1981080"/>
            <a:ext cx="2971800" cy="1920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7" name="Line 13"/>
          <p:cNvSpPr/>
          <p:nvPr/>
        </p:nvSpPr>
        <p:spPr>
          <a:xfrm flipV="1">
            <a:off x="2514600" y="2437920"/>
            <a:ext cx="457200" cy="3505320"/>
          </a:xfrm>
          <a:prstGeom prst="line">
            <a:avLst/>
          </a:prstGeom>
          <a:ln w="255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4"/>
          <p:cNvSpPr/>
          <p:nvPr/>
        </p:nvSpPr>
        <p:spPr>
          <a:xfrm flipH="1" flipV="1">
            <a:off x="4800600" y="2514240"/>
            <a:ext cx="990720" cy="3429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4114800" y="2057040"/>
            <a:ext cx="0" cy="3886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>
            <a:off x="6095880" y="2286000"/>
            <a:ext cx="259092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6172200" y="1981080"/>
            <a:ext cx="2286000" cy="175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5"/>
          <a:stretch/>
        </p:blipFill>
        <p:spPr>
          <a:xfrm>
            <a:off x="6791400" y="0"/>
            <a:ext cx="2352600" cy="2130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ntérêt pédagogique de Therm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ide les élèves à structurer leurs schè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met une approche visuelle très féco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charge les élèves des difficultés calculatoires sans nécessiter des simplifications outranciè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ut traiter des cas réels : simulateur professionnel doublé d’un didactici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d les élèves opérationnels (fondamental pour leur motivat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Utilisateurs de Therm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1356840"/>
            <a:ext cx="85341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gt; 120 établissements d’enseignement supéri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lasses préparato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UT, Ecoles d’ingénieur, Universi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 licences industrielles (CEA, EDF, Areva, CETIM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ngues : français, allemand, anglais, catalan, espagnol, italien, portug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7105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éances sonorisées Diap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1280" y="990360"/>
            <a:ext cx="762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odules structurés en étapes, séances, parcours et cur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ésentations théoriques, méthodologiques et technologiqu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64772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20120" cy="470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ntérêt des séances DIAP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85480" y="1356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xcellente efficacité pédagogique :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lèves plus actifs qu'en salle de cou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hoisissent eux-mêmes les moments où ils étud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euvent travailler à leur rythme, seuls ou en group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t accès à tout moment aux explications orales de l'enseigna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128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ortail </a:t>
            </a:r>
            <a:r>
              <a:rPr b="1" lang="fr-FR" sz="3200" spc="-1" strike="noStrike">
                <a:solidFill>
                  <a:srgbClr val="0000cc"/>
                </a:solidFill>
                <a:latin typeface="Calibri"/>
              </a:rPr>
              <a:t>www.thermoptim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Sciences et Technologies 2008, 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153640" cy="593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1600" y="213840"/>
            <a:ext cx="5084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ssources du port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ances Diapaso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poramas Pédagogiques Animés et Sonorisé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s-guides de T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s thématiques synthé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s méthodologiqu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délothè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 relatives à la pédagogie de la thermo-dyna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écri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intemps d’UNIT 2009, Saint Eti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8:41:34Z</dcterms:created>
  <dc:creator>R. Gicquel</dc:creator>
  <dc:description/>
  <dc:language>en-US</dc:language>
  <cp:lastModifiedBy>gicquel</cp:lastModifiedBy>
  <cp:lastPrinted>2003-02-05T11:17:40Z</cp:lastPrinted>
  <dcterms:modified xsi:type="dcterms:W3CDTF">2009-05-12T03:26:21Z</dcterms:modified>
  <cp:revision>209</cp:revision>
  <dc:subject/>
  <dc:title>Thermoptim et la GEV</dc:title>
</cp:coreProperties>
</file>