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8.jpeg" ContentType="image/jpeg"/>
  <Override PartName="/ppt/media/image10.jpeg" ContentType="image/jpeg"/>
  <Override PartName="/ppt/media/image9.jpeg" ContentType="image/jpeg"/>
  <Override PartName="/ppt/media/image2.png" ContentType="image/png"/>
  <Override PartName="/ppt/media/image4.jpeg" ContentType="image/jpeg"/>
  <Override PartName="/ppt/media/image6.jpeg" ContentType="image/jpeg"/>
  <Override PartName="/ppt/media/image13.png" ContentType="image/png"/>
  <Override PartName="/ppt/media/image7.jpeg" ContentType="image/jpeg"/>
  <Override PartName="/ppt/media/image1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dt" idx="1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Helvetica Neue"/>
              </a:rPr>
              <a:t>Click to move the slide</a:t>
            </a:r>
            <a:endParaRPr b="0" lang="en-US" sz="2800" spc="-1" strike="noStrike">
              <a:solidFill>
                <a:srgbClr val="ffffcc"/>
              </a:solidFill>
              <a:latin typeface="Helvetica Neue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 type="ftr" idx="1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 type="sldNum" idx="1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8DF2A-5DEC-40F0-87D2-35C6CB095C5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0E90C-95BF-47F4-B596-49E6CC7C8A5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3BC73-F143-4E62-BCA9-E48D33593E1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BE79E-CD59-492A-B164-04114EC2314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235D19-BE9B-4EB8-80BF-9182C74715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458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Helvetica Neu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3059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1140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92040"/>
            <a:ext cx="83059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1140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E6F9C0-D458-456A-BCBB-BD724833D840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458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Helvetica Neu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532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1140f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713480" y="1523880"/>
            <a:ext cx="40532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1140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9E0260-F642-4AD4-8FEF-CB020ACC6005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458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19B40A-DC04-4AA2-A526-8EF9D3FCD8AF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685440" y="-360"/>
            <a:ext cx="84582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1140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ECE65E-09A8-467D-B99C-7DCE87E32596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458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Helvetica Neue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1140f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713480" y="1523880"/>
            <a:ext cx="40532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1140f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399204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1140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02839A-0236-414B-9F23-6D1ACCC632EE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458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Helvetica Neue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532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1140f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713480" y="152388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1140f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713480" y="399204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1140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E87B8B-D2D4-4E13-B691-DE47CA0D8B5C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458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Helvetica Neue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1140f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713480" y="152388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1140f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3992040"/>
            <a:ext cx="83059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1140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AF1461-4A0A-4C83-9570-D8047EA35829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458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Helvetica Neue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3059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1140f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57200" y="3992040"/>
            <a:ext cx="83059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1140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2B0B41-AD23-4E78-88DF-C34C0BEBA96E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458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Helvetica Neue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1140f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713480" y="152388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1140f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399204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1140f"/>
              </a:solidFill>
              <a:latin typeface="Arial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713480" y="399204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1140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4C8B44-8080-4DD5-8026-9134365850FD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458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Helvetica Neue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26744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1140f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265920" y="1523880"/>
            <a:ext cx="26744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1140f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6074280" y="1523880"/>
            <a:ext cx="26744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1140f"/>
              </a:solidFill>
              <a:latin typeface="Arial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57200" y="3992040"/>
            <a:ext cx="26744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1140f"/>
              </a:solidFill>
              <a:latin typeface="Arial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265920" y="3992040"/>
            <a:ext cx="26744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1140f"/>
              </a:solidFill>
              <a:latin typeface="Arial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6074280" y="3992040"/>
            <a:ext cx="26744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1140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9F2C92-8720-4BF4-BADF-938287172B9D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E0AE0BA-B6ED-4021-AE95-1667BE8AE4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458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Helvetica Neu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1140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13480" y="152388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1140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9204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1140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13480" y="399204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1140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3DF710-138B-4DCB-A6A2-0957D85AD324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458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Helvetica Neue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457200" y="1523880"/>
            <a:ext cx="830592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1140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E2881F6-F2D1-4BB9-BF8A-C6E3F3703C46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458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Helvetica Neue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3059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1140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24245EA-3C06-4D3B-A664-E39DA18C41D8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458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Helvetica Neue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532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1140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713480" y="1523880"/>
            <a:ext cx="40532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1140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F2ADC0A-28CC-4B42-BD1B-F957D07D5A1F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458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D1473A1-1811-4524-9771-AF6FA3067679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685440" y="-360"/>
            <a:ext cx="84582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1140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A05671F-C6CF-430C-ABD2-A50E95F119A0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458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Helvetica Neue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1140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713480" y="1523880"/>
            <a:ext cx="40532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1140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99204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1140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4381FBD-5A05-4040-8796-D81AF9ACF5C4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458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Helvetica Neue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532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1140f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713480" y="152388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1140f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713480" y="399204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1140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96979B3-1FDF-417C-8577-CBD1ED150F36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458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Helvetica Neue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1140f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713480" y="152388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1140f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992040"/>
            <a:ext cx="83059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1140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0DB443D-EA53-4364-9B81-758AE04215E4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458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Helvetica Neue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3059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1140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57200" y="3992040"/>
            <a:ext cx="83059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1140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E09D5BB-63A3-4DB8-9139-6643D748469A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458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Helvetica Neue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1140f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713480" y="152388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1140f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99204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1140f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713480" y="399204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1140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453D90D-262A-48B8-BB07-38456F4285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458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Helvetica Neu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26744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1140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65920" y="1523880"/>
            <a:ext cx="26744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1140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74280" y="1523880"/>
            <a:ext cx="26744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1140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92040"/>
            <a:ext cx="26744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1140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65920" y="3992040"/>
            <a:ext cx="26744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1140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74280" y="3992040"/>
            <a:ext cx="26744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1140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C015E1-EABA-470B-85A7-E66383FC374D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458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Helvetica Neue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26744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1140f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265920" y="1523880"/>
            <a:ext cx="26744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1140f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074280" y="1523880"/>
            <a:ext cx="26744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1140f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457200" y="3992040"/>
            <a:ext cx="26744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1140f"/>
              </a:solidFill>
              <a:latin typeface="Arial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265920" y="3992040"/>
            <a:ext cx="26744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1140f"/>
              </a:solidFill>
              <a:latin typeface="Arial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074280" y="3992040"/>
            <a:ext cx="26744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1140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EF3C1AD-D130-4461-902B-1F762D6A7439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D8AD4EB-8FEC-4274-83ED-989BD76745F5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458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Helvetica Neue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457200" y="1523880"/>
            <a:ext cx="830592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1140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9FB45E0-87D0-46AA-AE10-946247CCC7B4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458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Helvetica Neue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3059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1140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A56507E-073B-43A0-A935-5711ED7A0C1E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458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Helvetica Neue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532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1140f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713480" y="1523880"/>
            <a:ext cx="40532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1140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5A2B92E-6A88-417C-B1C9-B741A71EF519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458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D6D53C2-C561-48F2-9AA2-6A6C63FD649D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ubTitle"/>
          </p:nvPr>
        </p:nvSpPr>
        <p:spPr>
          <a:xfrm>
            <a:off x="685440" y="-360"/>
            <a:ext cx="84582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1140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AADF459-73DA-48F7-AFC7-39621E334E1D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458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Helvetica Neue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1140f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713480" y="1523880"/>
            <a:ext cx="40532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1140f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99204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1140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0EA7E01-961E-42CB-8F22-401B9A79401C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458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Helvetica Neue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532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1140f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713480" y="152388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1140f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713480" y="399204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1140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50E09BA-923E-481A-A9A8-177941613919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458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Helvetica Neue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1140f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713480" y="152388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1140f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7200" y="3992040"/>
            <a:ext cx="83059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1140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6216B4D-077D-4E60-9F33-412D6615C8C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6B6EB2-74AB-4102-9429-901773EE86AC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458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Helvetica Neue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3059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1140f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57200" y="3992040"/>
            <a:ext cx="83059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1140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5CC10A5-C9D3-48D0-97B8-8331B3BBC757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458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Helvetica Neue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1140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713480" y="152388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1140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57200" y="399204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1140f"/>
              </a:solidFill>
              <a:latin typeface="Arial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713480" y="399204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1140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9BCA05E-90C7-45FF-931D-BB036C891BE4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458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Helvetica Neue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26744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1140f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3265920" y="1523880"/>
            <a:ext cx="26744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1140f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6074280" y="1523880"/>
            <a:ext cx="26744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1140f"/>
              </a:solidFill>
              <a:latin typeface="Arial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457200" y="3992040"/>
            <a:ext cx="26744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1140f"/>
              </a:solidFill>
              <a:latin typeface="Arial"/>
            </a:endParaRPr>
          </a:p>
        </p:txBody>
      </p:sp>
      <p:sp>
        <p:nvSpPr>
          <p:cNvPr id="471" name="PlaceHolder 6"/>
          <p:cNvSpPr>
            <a:spLocks noGrp="1"/>
          </p:cNvSpPr>
          <p:nvPr>
            <p:ph/>
          </p:nvPr>
        </p:nvSpPr>
        <p:spPr>
          <a:xfrm>
            <a:off x="3265920" y="3992040"/>
            <a:ext cx="26744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1140f"/>
              </a:solidFill>
              <a:latin typeface="Arial"/>
            </a:endParaRPr>
          </a:p>
        </p:txBody>
      </p:sp>
      <p:sp>
        <p:nvSpPr>
          <p:cNvPr id="472" name="PlaceHolder 7"/>
          <p:cNvSpPr>
            <a:spLocks noGrp="1"/>
          </p:cNvSpPr>
          <p:nvPr>
            <p:ph/>
          </p:nvPr>
        </p:nvSpPr>
        <p:spPr>
          <a:xfrm>
            <a:off x="6074280" y="3992040"/>
            <a:ext cx="26744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1140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F5B2501-C804-4176-A451-3E66C39DC59C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03A54B-B468-4FE1-B665-AD1055A0B54E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458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Helvetica Neue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457200" y="1523880"/>
            <a:ext cx="830592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1140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87B7A0-5C16-4E6A-A2C5-A904571EC5D9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458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Helvetica Neue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3059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1140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DF511A-E7ED-4B47-B9C6-1D9D82B009CE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458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Helvetica Neue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532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1140f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713480" y="1523880"/>
            <a:ext cx="40532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1140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12528E-FE9A-4084-AB4D-C224DB63F401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458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0C6221-4465-4C2F-B7C5-1C97866952FA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685440" y="-360"/>
            <a:ext cx="84582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1140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DDB889-3B6F-4A5C-A1AB-C99402F8708A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458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Helvetica Neue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1140f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713480" y="1523880"/>
            <a:ext cx="40532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1140f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57200" y="399204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1140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5F640E-79A8-4A84-9E46-5BD18444319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458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Helvetica Neu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23880"/>
            <a:ext cx="830592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1140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6092DC-79E7-4613-8672-CC353FC17880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458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Helvetica Neue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532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1140f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713480" y="152388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1140f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713480" y="399204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1140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7984BD-BE81-438C-BECF-5AEBCD4C94F9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458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Helvetica Neue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1140f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713480" y="152388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1140f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992040"/>
            <a:ext cx="83059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1140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259DB8-9CA8-4D64-9BD0-C301F3D67ED7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458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Helvetica Neue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3059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1140f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57200" y="3992040"/>
            <a:ext cx="83059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1140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44F100-390F-40F4-ADD5-4E0976B25238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458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Helvetica Neue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1140f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713480" y="152388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1140f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57200" y="399204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1140f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713480" y="399204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1140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86C2F7-4324-4F9B-B33B-3118A9A276A5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458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Helvetica Neue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26744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1140f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265920" y="1523880"/>
            <a:ext cx="26744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1140f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074280" y="1523880"/>
            <a:ext cx="26744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1140f"/>
              </a:solidFill>
              <a:latin typeface="Aria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457200" y="3992040"/>
            <a:ext cx="26744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1140f"/>
              </a:solidFill>
              <a:latin typeface="Arial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265920" y="3992040"/>
            <a:ext cx="26744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1140f"/>
              </a:solidFill>
              <a:latin typeface="Arial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6074280" y="3992040"/>
            <a:ext cx="26744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1140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1FEB84-D5A4-4019-BD27-5EDC1727025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458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Helvetica Neu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3059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1140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2ABB9F-AF08-4818-97D2-856D18C2D6E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458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Helvetica Neu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532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1140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13480" y="1523880"/>
            <a:ext cx="40532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1140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9FB88E-4AB5-4A1E-9EB2-C3D689D2688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458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0B4B2F-93EB-4B82-8F8F-D208094A8D2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440" y="-360"/>
            <a:ext cx="84582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1140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520939-8828-40A1-9E37-3CA45C06E93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458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Helvetica Neu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1140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13480" y="1523880"/>
            <a:ext cx="40532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1140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9204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1140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6CC1C4-BFEE-4545-9FCE-F58FCAEF6E2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458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Helvetica Neu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23880"/>
            <a:ext cx="830592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1140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1EEE53-EE6F-4CFB-BF38-9AF74C1644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458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Helvetica Neu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532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1140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3480" y="152388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1140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13480" y="399204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1140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8A19D6-0210-4C66-833E-AC8A7ACCBED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458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Helvetica Neu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1140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3480" y="152388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1140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92040"/>
            <a:ext cx="83059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1140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775B3D-A4FB-40A4-9E74-5158113D1D5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458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Helvetica Neu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3059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1140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92040"/>
            <a:ext cx="83059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1140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512E0A-757F-4B18-B72E-164733E570D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458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Helvetica Neu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1140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13480" y="152388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1140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9204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1140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13480" y="399204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1140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32FCD0-57F9-4FF7-B5A0-10537E59DD9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458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Helvetica Neu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26744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1140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65920" y="1523880"/>
            <a:ext cx="26744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1140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74280" y="1523880"/>
            <a:ext cx="26744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1140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92040"/>
            <a:ext cx="26744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1140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65920" y="3992040"/>
            <a:ext cx="26744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1140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74280" y="3992040"/>
            <a:ext cx="26744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1140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A1EC03-7EF1-41CA-9E04-84289B89D822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613F2-0C4A-4D00-B79D-2D33CBCE26A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458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Helvetica Neue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523880"/>
            <a:ext cx="830592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1140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47B41-99EA-4AA1-B0C5-3E118ADDC70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458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Helvetica Neue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3059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1140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425DA-3150-4304-BEF9-24E3237AAE8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458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Helvetica Neu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532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1140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713480" y="1523880"/>
            <a:ext cx="40532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1140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4EF01-83B7-4437-9C2A-6CCF27BC6E8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458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B5EF4-12F4-45A9-AADE-37692B34E5D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458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Helvetica Neu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3059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1140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58F4E3-15F8-4437-97E5-3394206130B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685440" y="-360"/>
            <a:ext cx="84582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1140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8DE3D-9E6E-48B4-ABB7-6F56CCE58F3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458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Helvetica Neu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1140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713480" y="1523880"/>
            <a:ext cx="40532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1140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9204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1140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91DB9-1584-4D3F-873F-A5C1CCBE981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458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Helvetica Neue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532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1140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713480" y="152388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1140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713480" y="399204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1140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6B8A4-222C-4CD1-9184-6C2D90C93CB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458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Helvetica Neu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1140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713480" y="152388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1140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92040"/>
            <a:ext cx="83059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1140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D9F7D-8369-47ED-9584-3DA81DE957C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458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Helvetica Neu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3059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1140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92040"/>
            <a:ext cx="83059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1140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FF343-D773-4EFA-BF64-BEF5B6F4C65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458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Helvetica Neu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1140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13480" y="152388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1140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9204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1140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713480" y="399204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1140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8D89B-CA1E-449D-AA2E-004588D45A5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458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Helvetica Neu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26744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1140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65920" y="1523880"/>
            <a:ext cx="26744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1140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74280" y="1523880"/>
            <a:ext cx="26744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1140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92040"/>
            <a:ext cx="26744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1140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65920" y="3992040"/>
            <a:ext cx="26744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1140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74280" y="3992040"/>
            <a:ext cx="26744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1140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FF4AE-B30D-4B11-AF13-2E1AAE3A21B7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091501-6D28-4EF9-BCAF-DB95BF3E4A15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458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Helvetica Neu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457200" y="1523880"/>
            <a:ext cx="830592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1140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5F2A88-B00E-470B-BB30-288A2ADAE3D5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458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Helvetica Neu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3059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1140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858597-B2B0-4D5E-B900-BA4FDEFC49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458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Helvetica Neu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532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1140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13480" y="1523880"/>
            <a:ext cx="40532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1140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D97393-BFB5-467B-9D5A-1777CF57E45F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458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Helvetica Neue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532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1140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713480" y="1523880"/>
            <a:ext cx="40532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1140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ED01CC-4B82-49F1-BD51-DF7C924D30EC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458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0D4EF2-9722-4FD3-A42E-C136353F7C70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685440" y="-360"/>
            <a:ext cx="84582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1140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47DA8D-F507-4F53-BA5B-2A89296A8A4D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458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Helvetica Neu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1140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713480" y="1523880"/>
            <a:ext cx="40532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1140f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9204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1140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89FE68-5C10-4DC5-8466-73E263743E26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458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Helvetica Neue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532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1140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13480" y="152388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1140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713480" y="399204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1140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3487B4-0AC9-41CB-AE64-B388F98C83A9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458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Helvetica Neue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1140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13480" y="152388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1140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92040"/>
            <a:ext cx="83059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1140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38B122-572B-4480-92DB-C205B19DAE69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458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Helvetica Neue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3059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1140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57200" y="3992040"/>
            <a:ext cx="83059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1140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0EBE61-1F1C-4AFE-AC3D-CA760F9ED092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458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Helvetica Neu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1140f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713480" y="152388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1140f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99204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1140f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713480" y="399204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1140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9B2E15-5902-49B8-A47E-9DE960EC4E42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458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Helvetica Neu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26744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1140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265920" y="1523880"/>
            <a:ext cx="26744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1140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74280" y="1523880"/>
            <a:ext cx="26744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1140f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57200" y="3992040"/>
            <a:ext cx="26744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1140f"/>
              </a:solidFill>
              <a:latin typeface="Arial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265920" y="3992040"/>
            <a:ext cx="26744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1140f"/>
              </a:solidFill>
              <a:latin typeface="Arial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074280" y="3992040"/>
            <a:ext cx="26744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1140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8040AD-FDBB-4111-B7CC-A2AF166B3CA3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F96B79-3285-4A44-926F-421546487A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458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9E66F4-F548-48A6-8E17-2907D29232EB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458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Helvetica Neu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523880"/>
            <a:ext cx="830592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1140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BA1F3E-F7AD-41BC-9408-17CEDA51C5EA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458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Helvetica Neue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3059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1140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277C20-B199-4B2C-825E-2B439C2EA90A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458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Helvetica Neue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532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1140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713480" y="1523880"/>
            <a:ext cx="40532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1140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F3B14A-4053-4359-82B5-998849BC9CC4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458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375925-3CFA-49A4-B2AB-6C70AB594283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685440" y="-360"/>
            <a:ext cx="84582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1140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1005C9-EF6F-4E39-B93C-907AE01AF4F5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458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Helvetica Neu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1140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13480" y="1523880"/>
            <a:ext cx="40532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1140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9204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1140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8B1DF9-761A-4766-B880-DB1813EEE238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458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Helvetica Neu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532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1140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713480" y="152388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1140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713480" y="399204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1140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4CEB92-E45B-4BFA-A011-A1C3F9D15E80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458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Helvetica Neue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1140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713480" y="152388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1140f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92040"/>
            <a:ext cx="83059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1140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607669-3AAF-428F-986D-6BEC5299F73D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458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Helvetica Neue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3059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1140f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3992040"/>
            <a:ext cx="83059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1140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C43724-6E2F-4E91-A859-6ECBF54C5F77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458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Helvetica Neue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1140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713480" y="152388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1140f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99204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1140f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713480" y="399204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1140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0DFAB9-C8A3-40F0-A5F1-9734C5305C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440" y="-360"/>
            <a:ext cx="84582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1140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ABCCD5-EFF7-4CAD-9E64-5473C3A13ECC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458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Helvetica Neu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26744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1140f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65920" y="1523880"/>
            <a:ext cx="26744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1140f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74280" y="1523880"/>
            <a:ext cx="26744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1140f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3992040"/>
            <a:ext cx="26744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1140f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65920" y="3992040"/>
            <a:ext cx="26744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1140f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74280" y="3992040"/>
            <a:ext cx="26744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1140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928FCD-E5B8-4FF8-B52B-59DFD82FA9CF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79D0F-DF7B-436B-A02B-0C36DF2FEA5E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458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Helvetica Neue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457200" y="1523880"/>
            <a:ext cx="830592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1140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B6996-56F4-4310-821F-ED69332A8FBC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458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Helvetica Neue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3059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1140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EE736-1F97-44F5-B8C3-E127F6330CF0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458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Helvetica Neu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532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1140f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713480" y="1523880"/>
            <a:ext cx="40532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1140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D18B5-4DC1-406C-B60E-3DE76E074AC2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458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7932B-F410-4101-8E00-5E9F8A5A4A02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685440" y="-360"/>
            <a:ext cx="84582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1140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01740-DF0D-4826-A138-B7077B68A171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458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Helvetica Neue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1140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713480" y="1523880"/>
            <a:ext cx="40532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1140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99204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1140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A99E5-68BE-43F1-99A0-5CB998EDED18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458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Helvetica Neue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532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1140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713480" y="152388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1140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713480" y="399204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1140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9A9D0-CE7A-46B5-8EE7-D2C5D78AEE04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458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Helvetica Neu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1140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713480" y="152388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1140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992040"/>
            <a:ext cx="83059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1140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4F38E-E0CF-4647-A12C-EFBBC73C61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458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Helvetica Neu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1140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13480" y="1523880"/>
            <a:ext cx="40532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1140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9204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1140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A5D3C3-2D83-4A83-B816-47D3E056CA3E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458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Helvetica Neue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3059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1140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57200" y="3992040"/>
            <a:ext cx="83059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1140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3125E-FD2F-44CA-834A-39D25F593000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458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Helvetica Neu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1140f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13480" y="152388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1140f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399204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1140f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713480" y="399204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1140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B043B-CC82-4C6A-A9BC-9F077DEE9CC9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458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Helvetica Neue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26744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1140f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65920" y="1523880"/>
            <a:ext cx="26744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1140f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74280" y="1523880"/>
            <a:ext cx="26744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1140f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57200" y="3992040"/>
            <a:ext cx="26744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1140f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65920" y="3992040"/>
            <a:ext cx="26744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1140f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74280" y="3992040"/>
            <a:ext cx="26744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1140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31D44-6806-44DD-83C6-AE2C546782A0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84941FF-A67B-44B3-B022-95A88044183C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458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Helvetica Neu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523880"/>
            <a:ext cx="830592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1140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839F3A4-3496-4970-9471-E39E100127D5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458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Helvetica Neue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3059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1140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C33BD4C-694D-4A5F-8055-8A7144FB823F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458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Helvetica Neue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532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1140f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713480" y="1523880"/>
            <a:ext cx="40532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1140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5F91FC9-E77F-4FB0-9B76-ABEFECB19576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458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80E2232-DF27-4858-B445-269EB42C8199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685440" y="-360"/>
            <a:ext cx="84582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1140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A1E745D-1B1E-4C7D-A603-0C0E1422A413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458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Helvetica Neu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1140f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13480" y="1523880"/>
            <a:ext cx="40532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1140f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99204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1140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631DEE5-48BD-4764-9EEA-4C819B1B1E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458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Helvetica Neu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532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1140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13480" y="152388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1140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3480" y="399204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1140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916393-EED3-41B5-80AB-1CBDBFA378BD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458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Helvetica Neue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532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1140f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713480" y="152388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1140f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713480" y="399204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1140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6DDBE41-C6FA-495C-915C-238E695367D3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458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Helvetica Neue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1140f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713480" y="152388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1140f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992040"/>
            <a:ext cx="83059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1140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3DACC4D-D504-4748-B9DA-46E8E34338A9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458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Helvetica Neue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3059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1140f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3992040"/>
            <a:ext cx="83059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1140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8C646B7-F164-4D63-BA6A-6C2B004B8082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458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Helvetica Neu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1140f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713480" y="152388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1140f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99204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1140f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713480" y="399204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1140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9876E0B-C142-45FB-9CBF-03A5E638137E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458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Helvetica Neu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26744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1140f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65920" y="1523880"/>
            <a:ext cx="26744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1140f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74280" y="1523880"/>
            <a:ext cx="26744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1140f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3992040"/>
            <a:ext cx="26744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1140f"/>
              </a:solidFill>
              <a:latin typeface="Arial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65920" y="3992040"/>
            <a:ext cx="26744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1140f"/>
              </a:solidFill>
              <a:latin typeface="Arial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74280" y="3992040"/>
            <a:ext cx="26744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1140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C6CEEF3-1328-4BC6-9219-810969716AE0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0157550-B33B-4C96-8383-5A4B9B69815E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458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Helvetica Neue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523880"/>
            <a:ext cx="830592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1140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73C3AE8-3CAA-4B56-8201-EE1DF8A29AAA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458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Helvetica Neue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3059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1140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475BCC2-3650-4EE7-84C4-A7E6AF550960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458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Helvetica Neue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532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1140f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713480" y="1523880"/>
            <a:ext cx="40532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1140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4AB8273-A677-4BEF-8507-78F872BD83D1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458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91D0B91-5DFC-4A82-8BF3-9CA67513E3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458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Helvetica Neu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1140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3480" y="152388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1140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92040"/>
            <a:ext cx="83059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1140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9B8BD6-DEBD-4E3E-8400-5345E6FAC367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685440" y="-360"/>
            <a:ext cx="84582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1140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DF64DE-C220-45D5-BF77-99DAF0C3C25A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458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Helvetica Neue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1140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713480" y="1523880"/>
            <a:ext cx="40532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1140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9204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1140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1D72034-5613-4DAE-BC85-80850E0E22A7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458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Helvetica Neue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532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1140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713480" y="152388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1140f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713480" y="399204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1140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D078980-E800-4539-BBBA-999BE0070AD1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458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Helvetica Neue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1140f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713480" y="152388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1140f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992040"/>
            <a:ext cx="83059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1140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9D47912-B617-451F-BAFA-0F022A32FE27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458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Helvetica Neu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3059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1140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992040"/>
            <a:ext cx="83059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1140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86DE24-0BE7-4DA8-BDD8-4704729825F6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458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Helvetica Neue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1140f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713480" y="152388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1140f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99204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1140f"/>
              </a:solidFill>
              <a:latin typeface="Arial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713480" y="399204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1140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D045751-56BB-4620-BEE1-82D98BEF62A7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458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Helvetica Neu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26744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1140f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65920" y="1523880"/>
            <a:ext cx="26744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1140f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74280" y="1523880"/>
            <a:ext cx="26744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1140f"/>
              </a:solidFill>
              <a:latin typeface="Aria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992040"/>
            <a:ext cx="26744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1140f"/>
              </a:solidFill>
              <a:latin typeface="Arial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65920" y="3992040"/>
            <a:ext cx="26744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1140f"/>
              </a:solidFill>
              <a:latin typeface="Arial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74280" y="3992040"/>
            <a:ext cx="26744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1140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4F06575-98DC-418A-9882-CE6EC042CF5F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41C7AA-E423-40BC-9ED7-D4E936C6116E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458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Helvetica Neu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457200" y="1523880"/>
            <a:ext cx="830592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1140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0F14CD-E4C6-41C9-ADEA-D8F994F07C15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458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Helvetica Neue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3059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1140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F1C680-2FE5-4425-B44D-2F57AB43C0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3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Rectangle 33"/>
            <p:cNvSpPr/>
            <p:nvPr/>
          </p:nvSpPr>
          <p:spPr>
            <a:xfrm>
              <a:off x="0" y="0"/>
              <a:ext cx="9144000" cy="1050840"/>
            </a:xfrm>
            <a:prstGeom prst="rect">
              <a:avLst/>
            </a:prstGeom>
            <a:solidFill>
              <a:srgbClr val="a114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Rectangle 34"/>
            <p:cNvSpPr/>
            <p:nvPr/>
          </p:nvSpPr>
          <p:spPr>
            <a:xfrm>
              <a:off x="0" y="2971800"/>
              <a:ext cx="749160" cy="3886200"/>
            </a:xfrm>
            <a:prstGeom prst="rect">
              <a:avLst/>
            </a:prstGeom>
            <a:solidFill>
              <a:srgbClr val="d8cd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" name="Picture 35" descr="_x0013_arabesque_rouge.gif                                            0028AC3E_x000c_Macintosh HD                   B746CC0A: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4703760" cy="303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sldNum" idx="1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666633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95584-16DC-4E5A-847A-7DBC80A8FF53}" type="slidenum">
              <a:rPr b="1" lang="fr-FR" sz="1200" spc="-1" strike="noStrike">
                <a:solidFill>
                  <a:srgbClr val="666633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523880"/>
            <a:ext cx="83059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1140f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a1140f"/>
              </a:solidFill>
              <a:latin typeface="Arial"/>
            </a:endParaRPr>
          </a:p>
          <a:p>
            <a:pPr lvl="1" marL="343080" indent="-343080">
              <a:spcBef>
                <a:spcPts val="451"/>
              </a:spcBef>
              <a:buClr>
                <a:srgbClr val="88100a"/>
              </a:buClr>
              <a:buFont typeface="Wingdings" charset="2"/>
              <a:buChar char="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1140f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a1140f"/>
              </a:solidFill>
              <a:latin typeface="Arial"/>
            </a:endParaRPr>
          </a:p>
          <a:p>
            <a:pPr lvl="2" marL="343080" indent="-343080">
              <a:spcBef>
                <a:spcPts val="451"/>
              </a:spcBef>
              <a:buClr>
                <a:srgbClr val="a1140f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1140f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a1140f"/>
              </a:solidFill>
              <a:latin typeface="Arial"/>
            </a:endParaRPr>
          </a:p>
          <a:p>
            <a:pPr lvl="3" marL="343080" indent="-343080">
              <a:spcBef>
                <a:spcPts val="451"/>
              </a:spcBef>
              <a:buClr>
                <a:srgbClr val="a1140f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1140f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a1140f"/>
              </a:solidFill>
              <a:latin typeface="Arial"/>
            </a:endParaRPr>
          </a:p>
          <a:p>
            <a:pPr lvl="4" marL="343080" indent="-343080">
              <a:spcBef>
                <a:spcPts val="451"/>
              </a:spcBef>
              <a:buClr>
                <a:srgbClr val="393939"/>
              </a:buClr>
              <a:buSzPct val="8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1140f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a1140f"/>
              </a:solidFill>
              <a:latin typeface="Arial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SzPct val="8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1140f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a1140f"/>
              </a:solidFill>
              <a:latin typeface="Arial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SzPct val="8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1140f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a1140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title"/>
          </p:nvPr>
        </p:nvSpPr>
        <p:spPr>
          <a:xfrm>
            <a:off x="685440" y="-360"/>
            <a:ext cx="8458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Helvetica Neue"/>
              </a:rPr>
              <a:t>Click to edit the title text format</a:t>
            </a:r>
            <a:endParaRPr b="0" lang="en-US" sz="2800" spc="-1" strike="noStrike">
              <a:solidFill>
                <a:srgbClr val="ffffcc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7" name="Group 3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388" name="Rectangle 33"/>
            <p:cNvSpPr/>
            <p:nvPr/>
          </p:nvSpPr>
          <p:spPr>
            <a:xfrm>
              <a:off x="0" y="0"/>
              <a:ext cx="9144000" cy="1050840"/>
            </a:xfrm>
            <a:prstGeom prst="rect">
              <a:avLst/>
            </a:prstGeom>
            <a:solidFill>
              <a:srgbClr val="a114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Rectangle 34"/>
            <p:cNvSpPr/>
            <p:nvPr/>
          </p:nvSpPr>
          <p:spPr>
            <a:xfrm>
              <a:off x="0" y="2971800"/>
              <a:ext cx="749160" cy="3886200"/>
            </a:xfrm>
            <a:prstGeom prst="rect">
              <a:avLst/>
            </a:prstGeom>
            <a:solidFill>
              <a:srgbClr val="d8cd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90" name="Picture 35" descr="_x0013_arabesque_rouge.gif                                            0028AC3E_x000c_Macintosh HD                   B746CC0A: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4703760" cy="303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91" name="PlaceHolder 1"/>
          <p:cNvSpPr>
            <a:spLocks noGrp="1"/>
          </p:cNvSpPr>
          <p:nvPr>
            <p:ph type="body"/>
          </p:nvPr>
        </p:nvSpPr>
        <p:spPr>
          <a:xfrm>
            <a:off x="457200" y="1523880"/>
            <a:ext cx="83059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1140f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a1140f"/>
              </a:solidFill>
              <a:latin typeface="Arial"/>
            </a:endParaRPr>
          </a:p>
          <a:p>
            <a:pPr lvl="1" marL="343080" indent="-343080">
              <a:spcBef>
                <a:spcPts val="451"/>
              </a:spcBef>
              <a:buClr>
                <a:srgbClr val="88100a"/>
              </a:buClr>
              <a:buFont typeface="Wingdings" charset="2"/>
              <a:buChar char="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1140f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a1140f"/>
              </a:solidFill>
              <a:latin typeface="Arial"/>
            </a:endParaRPr>
          </a:p>
          <a:p>
            <a:pPr lvl="2" marL="343080" indent="-343080">
              <a:spcBef>
                <a:spcPts val="451"/>
              </a:spcBef>
              <a:buClr>
                <a:srgbClr val="a1140f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1140f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a1140f"/>
              </a:solidFill>
              <a:latin typeface="Arial"/>
            </a:endParaRPr>
          </a:p>
          <a:p>
            <a:pPr lvl="3" marL="343080" indent="-343080">
              <a:spcBef>
                <a:spcPts val="451"/>
              </a:spcBef>
              <a:buClr>
                <a:srgbClr val="a1140f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1140f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a1140f"/>
              </a:solidFill>
              <a:latin typeface="Arial"/>
            </a:endParaRPr>
          </a:p>
          <a:p>
            <a:pPr lvl="4" marL="343080" indent="-343080">
              <a:spcBef>
                <a:spcPts val="451"/>
              </a:spcBef>
              <a:buClr>
                <a:srgbClr val="393939"/>
              </a:buClr>
              <a:buSzPct val="8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1140f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a1140f"/>
              </a:solidFill>
              <a:latin typeface="Arial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SzPct val="8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1140f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a1140f"/>
              </a:solidFill>
              <a:latin typeface="Arial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SzPct val="8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1140f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a1140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title"/>
          </p:nvPr>
        </p:nvSpPr>
        <p:spPr>
          <a:xfrm>
            <a:off x="685440" y="-360"/>
            <a:ext cx="8458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Helvetica Neue"/>
              </a:rPr>
              <a:t>Click to edit the title text format</a:t>
            </a:r>
            <a:endParaRPr b="0" lang="en-US" sz="2800" spc="-1" strike="noStrike">
              <a:solidFill>
                <a:srgbClr val="ffffcc"/>
              </a:solidFill>
              <a:latin typeface="Helvetica Neue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sldNum" idx="10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9BC8C-4006-4955-9089-95274D7EFD13}" type="slidenum">
              <a:rPr b="0" lang="fr-FR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3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31" name="Rectangle 33"/>
            <p:cNvSpPr/>
            <p:nvPr/>
          </p:nvSpPr>
          <p:spPr>
            <a:xfrm>
              <a:off x="0" y="0"/>
              <a:ext cx="9144000" cy="1050840"/>
            </a:xfrm>
            <a:prstGeom prst="rect">
              <a:avLst/>
            </a:prstGeom>
            <a:solidFill>
              <a:srgbClr val="a114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Rectangle 34"/>
            <p:cNvSpPr/>
            <p:nvPr/>
          </p:nvSpPr>
          <p:spPr>
            <a:xfrm>
              <a:off x="0" y="2971800"/>
              <a:ext cx="749160" cy="3886200"/>
            </a:xfrm>
            <a:prstGeom prst="rect">
              <a:avLst/>
            </a:prstGeom>
            <a:solidFill>
              <a:srgbClr val="d8cd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33" name="Picture 35" descr="_x0013_arabesque_rouge.gif                                            0028AC3E_x000c_Macintosh HD                   B746CC0A: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4703760" cy="303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34" name="PlaceHolder 1"/>
          <p:cNvSpPr>
            <a:spLocks noGrp="1"/>
          </p:cNvSpPr>
          <p:nvPr>
            <p:ph type="body"/>
          </p:nvPr>
        </p:nvSpPr>
        <p:spPr>
          <a:xfrm>
            <a:off x="457200" y="1523880"/>
            <a:ext cx="83059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1140f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a1140f"/>
              </a:solidFill>
              <a:latin typeface="Arial"/>
            </a:endParaRPr>
          </a:p>
          <a:p>
            <a:pPr lvl="1" marL="343080" indent="-343080">
              <a:spcBef>
                <a:spcPts val="451"/>
              </a:spcBef>
              <a:buClr>
                <a:srgbClr val="88100a"/>
              </a:buClr>
              <a:buFont typeface="Wingdings" charset="2"/>
              <a:buChar char="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1140f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a1140f"/>
              </a:solidFill>
              <a:latin typeface="Arial"/>
            </a:endParaRPr>
          </a:p>
          <a:p>
            <a:pPr lvl="2" marL="343080" indent="-343080">
              <a:spcBef>
                <a:spcPts val="451"/>
              </a:spcBef>
              <a:buClr>
                <a:srgbClr val="a1140f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1140f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a1140f"/>
              </a:solidFill>
              <a:latin typeface="Arial"/>
            </a:endParaRPr>
          </a:p>
          <a:p>
            <a:pPr lvl="3" marL="343080" indent="-343080">
              <a:spcBef>
                <a:spcPts val="451"/>
              </a:spcBef>
              <a:buClr>
                <a:srgbClr val="a1140f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1140f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a1140f"/>
              </a:solidFill>
              <a:latin typeface="Arial"/>
            </a:endParaRPr>
          </a:p>
          <a:p>
            <a:pPr lvl="4" marL="343080" indent="-343080">
              <a:spcBef>
                <a:spcPts val="451"/>
              </a:spcBef>
              <a:buClr>
                <a:srgbClr val="393939"/>
              </a:buClr>
              <a:buSzPct val="8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1140f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a1140f"/>
              </a:solidFill>
              <a:latin typeface="Arial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SzPct val="8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1140f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a1140f"/>
              </a:solidFill>
              <a:latin typeface="Arial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SzPct val="8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1140f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a1140f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title"/>
          </p:nvPr>
        </p:nvSpPr>
        <p:spPr>
          <a:xfrm>
            <a:off x="685440" y="-360"/>
            <a:ext cx="8458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Helvetica Neue"/>
              </a:rPr>
              <a:t>Click to edit the title text format</a:t>
            </a:r>
            <a:endParaRPr b="0" lang="en-US" sz="2800" spc="-1" strike="noStrike">
              <a:solidFill>
                <a:srgbClr val="ffffcc"/>
              </a:solidFill>
              <a:latin typeface="Helvetica Neue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 type="sldNum" idx="11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2986D-0399-4841-88F1-B68FA982D1E9}" type="slidenum">
              <a:rPr b="0" lang="fr-FR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3" name="Group 3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74" name="Rectangle 33"/>
            <p:cNvSpPr/>
            <p:nvPr/>
          </p:nvSpPr>
          <p:spPr>
            <a:xfrm>
              <a:off x="0" y="0"/>
              <a:ext cx="9144000" cy="1050840"/>
            </a:xfrm>
            <a:prstGeom prst="rect">
              <a:avLst/>
            </a:prstGeom>
            <a:solidFill>
              <a:srgbClr val="a114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Rectangle 34"/>
            <p:cNvSpPr/>
            <p:nvPr/>
          </p:nvSpPr>
          <p:spPr>
            <a:xfrm>
              <a:off x="0" y="2971800"/>
              <a:ext cx="749160" cy="3886200"/>
            </a:xfrm>
            <a:prstGeom prst="rect">
              <a:avLst/>
            </a:prstGeom>
            <a:solidFill>
              <a:srgbClr val="d8cd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76" name="Picture 35" descr="_x0013_arabesque_rouge.gif                                            0028AC3E_x000c_Macintosh HD                   B746CC0A: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4703760" cy="303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7" name="PlaceHolder 1"/>
          <p:cNvSpPr>
            <a:spLocks noGrp="1"/>
          </p:cNvSpPr>
          <p:nvPr>
            <p:ph type="body"/>
          </p:nvPr>
        </p:nvSpPr>
        <p:spPr>
          <a:xfrm>
            <a:off x="457200" y="1523880"/>
            <a:ext cx="83059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1140f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a1140f"/>
              </a:solidFill>
              <a:latin typeface="Arial"/>
            </a:endParaRPr>
          </a:p>
          <a:p>
            <a:pPr lvl="1" marL="343080" indent="-343080">
              <a:spcBef>
                <a:spcPts val="451"/>
              </a:spcBef>
              <a:buClr>
                <a:srgbClr val="88100a"/>
              </a:buClr>
              <a:buFont typeface="Wingdings" charset="2"/>
              <a:buChar char="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1140f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a1140f"/>
              </a:solidFill>
              <a:latin typeface="Arial"/>
            </a:endParaRPr>
          </a:p>
          <a:p>
            <a:pPr lvl="2" marL="343080" indent="-343080">
              <a:spcBef>
                <a:spcPts val="451"/>
              </a:spcBef>
              <a:buClr>
                <a:srgbClr val="a1140f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1140f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a1140f"/>
              </a:solidFill>
              <a:latin typeface="Arial"/>
            </a:endParaRPr>
          </a:p>
          <a:p>
            <a:pPr lvl="3" marL="343080" indent="-343080">
              <a:spcBef>
                <a:spcPts val="451"/>
              </a:spcBef>
              <a:buClr>
                <a:srgbClr val="a1140f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1140f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a1140f"/>
              </a:solidFill>
              <a:latin typeface="Arial"/>
            </a:endParaRPr>
          </a:p>
          <a:p>
            <a:pPr lvl="4" marL="343080" indent="-343080">
              <a:spcBef>
                <a:spcPts val="451"/>
              </a:spcBef>
              <a:buClr>
                <a:srgbClr val="393939"/>
              </a:buClr>
              <a:buSzPct val="8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1140f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a1140f"/>
              </a:solidFill>
              <a:latin typeface="Arial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SzPct val="8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1140f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a1140f"/>
              </a:solidFill>
              <a:latin typeface="Arial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SzPct val="8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1140f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a1140f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title"/>
          </p:nvPr>
        </p:nvSpPr>
        <p:spPr>
          <a:xfrm>
            <a:off x="685440" y="-360"/>
            <a:ext cx="8458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Helvetica Neue"/>
              </a:rPr>
              <a:t>Click to edit the title text format</a:t>
            </a:r>
            <a:endParaRPr b="0" lang="en-US" sz="2800" spc="-1" strike="noStrike">
              <a:solidFill>
                <a:srgbClr val="ffffcc"/>
              </a:solidFill>
              <a:latin typeface="Helvetica Neue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 type="sldNum" idx="12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CEEBF-3704-48A3-B4D7-7F45A44C20AC}" type="slidenum">
              <a:rPr b="0" lang="fr-FR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Group 3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4" name="Rectangle 33"/>
            <p:cNvSpPr/>
            <p:nvPr/>
          </p:nvSpPr>
          <p:spPr>
            <a:xfrm>
              <a:off x="0" y="0"/>
              <a:ext cx="9144000" cy="1050840"/>
            </a:xfrm>
            <a:prstGeom prst="rect">
              <a:avLst/>
            </a:prstGeom>
            <a:solidFill>
              <a:srgbClr val="a114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Rectangle 34"/>
            <p:cNvSpPr/>
            <p:nvPr/>
          </p:nvSpPr>
          <p:spPr>
            <a:xfrm>
              <a:off x="0" y="2971800"/>
              <a:ext cx="749160" cy="3886200"/>
            </a:xfrm>
            <a:prstGeom prst="rect">
              <a:avLst/>
            </a:prstGeom>
            <a:solidFill>
              <a:srgbClr val="d8cd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6" name="Picture 35" descr="_x0013_arabesque_rouge.gif                                            0028AC3E_x000c_Macintosh HD                   B746CC0A: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4703760" cy="303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body"/>
          </p:nvPr>
        </p:nvSpPr>
        <p:spPr>
          <a:xfrm>
            <a:off x="457200" y="1523880"/>
            <a:ext cx="83059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1140f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a1140f"/>
              </a:solidFill>
              <a:latin typeface="Arial"/>
            </a:endParaRPr>
          </a:p>
          <a:p>
            <a:pPr lvl="1" marL="343080" indent="-343080">
              <a:spcBef>
                <a:spcPts val="451"/>
              </a:spcBef>
              <a:buClr>
                <a:srgbClr val="88100a"/>
              </a:buClr>
              <a:buFont typeface="Wingdings" charset="2"/>
              <a:buChar char="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1140f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a1140f"/>
              </a:solidFill>
              <a:latin typeface="Arial"/>
            </a:endParaRPr>
          </a:p>
          <a:p>
            <a:pPr lvl="2" marL="343080" indent="-343080">
              <a:spcBef>
                <a:spcPts val="451"/>
              </a:spcBef>
              <a:buClr>
                <a:srgbClr val="a1140f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1140f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a1140f"/>
              </a:solidFill>
              <a:latin typeface="Arial"/>
            </a:endParaRPr>
          </a:p>
          <a:p>
            <a:pPr lvl="3" marL="343080" indent="-343080">
              <a:spcBef>
                <a:spcPts val="451"/>
              </a:spcBef>
              <a:buClr>
                <a:srgbClr val="a1140f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1140f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a1140f"/>
              </a:solidFill>
              <a:latin typeface="Arial"/>
            </a:endParaRPr>
          </a:p>
          <a:p>
            <a:pPr lvl="4" marL="343080" indent="-343080">
              <a:spcBef>
                <a:spcPts val="451"/>
              </a:spcBef>
              <a:buClr>
                <a:srgbClr val="393939"/>
              </a:buClr>
              <a:buSzPct val="8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1140f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a1140f"/>
              </a:solidFill>
              <a:latin typeface="Arial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SzPct val="8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1140f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a1140f"/>
              </a:solidFill>
              <a:latin typeface="Arial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SzPct val="8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1140f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a1140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title"/>
          </p:nvPr>
        </p:nvSpPr>
        <p:spPr>
          <a:xfrm>
            <a:off x="685440" y="-360"/>
            <a:ext cx="8458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Helvetica Neue"/>
              </a:rPr>
              <a:t>Click to edit the title text format</a:t>
            </a:r>
            <a:endParaRPr b="0" lang="en-US" sz="2800" spc="-1" strike="noStrike">
              <a:solidFill>
                <a:srgbClr val="ffffcc"/>
              </a:solidFill>
              <a:latin typeface="Helvetica Neue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2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167EC-EE81-455D-BA3B-6C44885DFA40}" type="slidenum">
              <a:rPr b="0" lang="fr-FR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Group 3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87" name="Rectangle 33"/>
            <p:cNvSpPr/>
            <p:nvPr/>
          </p:nvSpPr>
          <p:spPr>
            <a:xfrm>
              <a:off x="0" y="0"/>
              <a:ext cx="9144000" cy="1050840"/>
            </a:xfrm>
            <a:prstGeom prst="rect">
              <a:avLst/>
            </a:prstGeom>
            <a:solidFill>
              <a:srgbClr val="a114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Rectangle 34"/>
            <p:cNvSpPr/>
            <p:nvPr/>
          </p:nvSpPr>
          <p:spPr>
            <a:xfrm>
              <a:off x="0" y="2971800"/>
              <a:ext cx="749160" cy="3886200"/>
            </a:xfrm>
            <a:prstGeom prst="rect">
              <a:avLst/>
            </a:prstGeom>
            <a:solidFill>
              <a:srgbClr val="d8cd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9" name="Picture 35" descr="_x0013_arabesque_rouge.gif                                            0028AC3E_x000c_Macintosh HD                   B746CC0A: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4703760" cy="303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0" name="PlaceHolder 1"/>
          <p:cNvSpPr>
            <a:spLocks noGrp="1"/>
          </p:cNvSpPr>
          <p:nvPr>
            <p:ph type="body"/>
          </p:nvPr>
        </p:nvSpPr>
        <p:spPr>
          <a:xfrm>
            <a:off x="457200" y="1523880"/>
            <a:ext cx="83059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1140f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a1140f"/>
              </a:solidFill>
              <a:latin typeface="Arial"/>
            </a:endParaRPr>
          </a:p>
          <a:p>
            <a:pPr lvl="1" marL="343080" indent="-343080">
              <a:spcBef>
                <a:spcPts val="451"/>
              </a:spcBef>
              <a:buClr>
                <a:srgbClr val="88100a"/>
              </a:buClr>
              <a:buFont typeface="Wingdings" charset="2"/>
              <a:buChar char="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1140f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a1140f"/>
              </a:solidFill>
              <a:latin typeface="Arial"/>
            </a:endParaRPr>
          </a:p>
          <a:p>
            <a:pPr lvl="2" marL="343080" indent="-343080">
              <a:spcBef>
                <a:spcPts val="451"/>
              </a:spcBef>
              <a:buClr>
                <a:srgbClr val="a1140f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1140f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a1140f"/>
              </a:solidFill>
              <a:latin typeface="Arial"/>
            </a:endParaRPr>
          </a:p>
          <a:p>
            <a:pPr lvl="3" marL="343080" indent="-343080">
              <a:spcBef>
                <a:spcPts val="451"/>
              </a:spcBef>
              <a:buClr>
                <a:srgbClr val="a1140f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1140f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a1140f"/>
              </a:solidFill>
              <a:latin typeface="Arial"/>
            </a:endParaRPr>
          </a:p>
          <a:p>
            <a:pPr lvl="4" marL="343080" indent="-343080">
              <a:spcBef>
                <a:spcPts val="451"/>
              </a:spcBef>
              <a:buClr>
                <a:srgbClr val="393939"/>
              </a:buClr>
              <a:buSzPct val="8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1140f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a1140f"/>
              </a:solidFill>
              <a:latin typeface="Arial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SzPct val="8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1140f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a1140f"/>
              </a:solidFill>
              <a:latin typeface="Arial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SzPct val="8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1140f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a1140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685440" y="-360"/>
            <a:ext cx="8458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Helvetica Neue"/>
              </a:rPr>
              <a:t>Click to edit the title text format</a:t>
            </a:r>
            <a:endParaRPr b="0" lang="en-US" sz="2800" spc="-1" strike="noStrike">
              <a:solidFill>
                <a:srgbClr val="ffffcc"/>
              </a:solidFill>
              <a:latin typeface="Helvetica Neue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02113-AC3A-4E0D-B1FD-914BC274D1AF}" type="slidenum">
              <a:rPr b="0" lang="fr-FR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Group 3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30" name="Rectangle 33"/>
            <p:cNvSpPr/>
            <p:nvPr/>
          </p:nvSpPr>
          <p:spPr>
            <a:xfrm>
              <a:off x="0" y="0"/>
              <a:ext cx="9144000" cy="1050840"/>
            </a:xfrm>
            <a:prstGeom prst="rect">
              <a:avLst/>
            </a:prstGeom>
            <a:solidFill>
              <a:srgbClr val="a114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Rectangle 34"/>
            <p:cNvSpPr/>
            <p:nvPr/>
          </p:nvSpPr>
          <p:spPr>
            <a:xfrm>
              <a:off x="0" y="2971800"/>
              <a:ext cx="749160" cy="3886200"/>
            </a:xfrm>
            <a:prstGeom prst="rect">
              <a:avLst/>
            </a:prstGeom>
            <a:solidFill>
              <a:srgbClr val="d8cd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32" name="Picture 35" descr="_x0013_arabesque_rouge.gif                                            0028AC3E_x000c_Macintosh HD                   B746CC0A: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4703760" cy="303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3" name="PlaceHolder 1"/>
          <p:cNvSpPr>
            <a:spLocks noGrp="1"/>
          </p:cNvSpPr>
          <p:nvPr>
            <p:ph type="body"/>
          </p:nvPr>
        </p:nvSpPr>
        <p:spPr>
          <a:xfrm>
            <a:off x="457200" y="1523880"/>
            <a:ext cx="83059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1140f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a1140f"/>
              </a:solidFill>
              <a:latin typeface="Arial"/>
            </a:endParaRPr>
          </a:p>
          <a:p>
            <a:pPr lvl="1" marL="343080" indent="-343080">
              <a:spcBef>
                <a:spcPts val="451"/>
              </a:spcBef>
              <a:buClr>
                <a:srgbClr val="88100a"/>
              </a:buClr>
              <a:buFont typeface="Wingdings" charset="2"/>
              <a:buChar char="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1140f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a1140f"/>
              </a:solidFill>
              <a:latin typeface="Arial"/>
            </a:endParaRPr>
          </a:p>
          <a:p>
            <a:pPr lvl="2" marL="343080" indent="-343080">
              <a:spcBef>
                <a:spcPts val="451"/>
              </a:spcBef>
              <a:buClr>
                <a:srgbClr val="a1140f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1140f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a1140f"/>
              </a:solidFill>
              <a:latin typeface="Arial"/>
            </a:endParaRPr>
          </a:p>
          <a:p>
            <a:pPr lvl="3" marL="343080" indent="-343080">
              <a:spcBef>
                <a:spcPts val="451"/>
              </a:spcBef>
              <a:buClr>
                <a:srgbClr val="a1140f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1140f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a1140f"/>
              </a:solidFill>
              <a:latin typeface="Arial"/>
            </a:endParaRPr>
          </a:p>
          <a:p>
            <a:pPr lvl="4" marL="343080" indent="-343080">
              <a:spcBef>
                <a:spcPts val="451"/>
              </a:spcBef>
              <a:buClr>
                <a:srgbClr val="393939"/>
              </a:buClr>
              <a:buSzPct val="8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1140f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a1140f"/>
              </a:solidFill>
              <a:latin typeface="Arial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SzPct val="8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1140f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a1140f"/>
              </a:solidFill>
              <a:latin typeface="Arial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SzPct val="8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1140f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a1140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685440" y="-360"/>
            <a:ext cx="8458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Helvetica Neue"/>
              </a:rPr>
              <a:t>Click to edit the title text format</a:t>
            </a:r>
            <a:endParaRPr b="0" lang="en-US" sz="2800" spc="-1" strike="noStrike">
              <a:solidFill>
                <a:srgbClr val="ffffcc"/>
              </a:solidFill>
              <a:latin typeface="Helvetica Neu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sldNum" idx="4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E2C18-5EB7-4B18-B470-B903DF0C8234}" type="slidenum">
              <a:rPr b="0" lang="fr-FR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Group 3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73" name="Rectangle 33"/>
            <p:cNvSpPr/>
            <p:nvPr/>
          </p:nvSpPr>
          <p:spPr>
            <a:xfrm>
              <a:off x="0" y="0"/>
              <a:ext cx="9144000" cy="1050840"/>
            </a:xfrm>
            <a:prstGeom prst="rect">
              <a:avLst/>
            </a:prstGeom>
            <a:solidFill>
              <a:srgbClr val="a114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34"/>
            <p:cNvSpPr/>
            <p:nvPr/>
          </p:nvSpPr>
          <p:spPr>
            <a:xfrm>
              <a:off x="0" y="2971800"/>
              <a:ext cx="749160" cy="3886200"/>
            </a:xfrm>
            <a:prstGeom prst="rect">
              <a:avLst/>
            </a:prstGeom>
            <a:solidFill>
              <a:srgbClr val="d8cd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75" name="Picture 35" descr="_x0013_arabesque_rouge.gif                                            0028AC3E_x000c_Macintosh HD                   B746CC0A: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4703760" cy="303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6" name="PlaceHolder 1"/>
          <p:cNvSpPr>
            <a:spLocks noGrp="1"/>
          </p:cNvSpPr>
          <p:nvPr>
            <p:ph type="body"/>
          </p:nvPr>
        </p:nvSpPr>
        <p:spPr>
          <a:xfrm>
            <a:off x="457200" y="1523880"/>
            <a:ext cx="83059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1140f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a1140f"/>
              </a:solidFill>
              <a:latin typeface="Arial"/>
            </a:endParaRPr>
          </a:p>
          <a:p>
            <a:pPr lvl="1" marL="343080" indent="-343080">
              <a:spcBef>
                <a:spcPts val="451"/>
              </a:spcBef>
              <a:buClr>
                <a:srgbClr val="88100a"/>
              </a:buClr>
              <a:buFont typeface="Wingdings" charset="2"/>
              <a:buChar char="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1140f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a1140f"/>
              </a:solidFill>
              <a:latin typeface="Arial"/>
            </a:endParaRPr>
          </a:p>
          <a:p>
            <a:pPr lvl="2" marL="343080" indent="-343080">
              <a:spcBef>
                <a:spcPts val="451"/>
              </a:spcBef>
              <a:buClr>
                <a:srgbClr val="a1140f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1140f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a1140f"/>
              </a:solidFill>
              <a:latin typeface="Arial"/>
            </a:endParaRPr>
          </a:p>
          <a:p>
            <a:pPr lvl="3" marL="343080" indent="-343080">
              <a:spcBef>
                <a:spcPts val="451"/>
              </a:spcBef>
              <a:buClr>
                <a:srgbClr val="a1140f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1140f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a1140f"/>
              </a:solidFill>
              <a:latin typeface="Arial"/>
            </a:endParaRPr>
          </a:p>
          <a:p>
            <a:pPr lvl="4" marL="343080" indent="-343080">
              <a:spcBef>
                <a:spcPts val="451"/>
              </a:spcBef>
              <a:buClr>
                <a:srgbClr val="393939"/>
              </a:buClr>
              <a:buSzPct val="8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1140f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a1140f"/>
              </a:solidFill>
              <a:latin typeface="Arial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SzPct val="8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1140f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a1140f"/>
              </a:solidFill>
              <a:latin typeface="Arial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SzPct val="8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1140f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a1140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title"/>
          </p:nvPr>
        </p:nvSpPr>
        <p:spPr>
          <a:xfrm>
            <a:off x="685440" y="-360"/>
            <a:ext cx="8458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Helvetica Neue"/>
              </a:rPr>
              <a:t>Click to edit the title text format</a:t>
            </a:r>
            <a:endParaRPr b="0" lang="en-US" sz="2800" spc="-1" strike="noStrike">
              <a:solidFill>
                <a:srgbClr val="ffffcc"/>
              </a:solidFill>
              <a:latin typeface="Helvetica Neue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sldNum" idx="5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84944-B6F0-4043-B6D5-18FE832315EC}" type="slidenum">
              <a:rPr b="0" lang="fr-FR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5" name="Group 3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16" name="Rectangle 33"/>
            <p:cNvSpPr/>
            <p:nvPr/>
          </p:nvSpPr>
          <p:spPr>
            <a:xfrm>
              <a:off x="0" y="0"/>
              <a:ext cx="9144000" cy="1050840"/>
            </a:xfrm>
            <a:prstGeom prst="rect">
              <a:avLst/>
            </a:prstGeom>
            <a:solidFill>
              <a:srgbClr val="a114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Rectangle 34"/>
            <p:cNvSpPr/>
            <p:nvPr/>
          </p:nvSpPr>
          <p:spPr>
            <a:xfrm>
              <a:off x="0" y="2971800"/>
              <a:ext cx="749160" cy="3886200"/>
            </a:xfrm>
            <a:prstGeom prst="rect">
              <a:avLst/>
            </a:prstGeom>
            <a:solidFill>
              <a:srgbClr val="d8cd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18" name="Picture 35" descr="_x0013_arabesque_rouge.gif                                            0028AC3E_x000c_Macintosh HD                   B746CC0A: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4703760" cy="303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9" name="PlaceHolder 1"/>
          <p:cNvSpPr>
            <a:spLocks noGrp="1"/>
          </p:cNvSpPr>
          <p:nvPr>
            <p:ph type="body"/>
          </p:nvPr>
        </p:nvSpPr>
        <p:spPr>
          <a:xfrm>
            <a:off x="457200" y="1523880"/>
            <a:ext cx="83059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1140f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a1140f"/>
              </a:solidFill>
              <a:latin typeface="Arial"/>
            </a:endParaRPr>
          </a:p>
          <a:p>
            <a:pPr lvl="1" marL="343080" indent="-343080">
              <a:spcBef>
                <a:spcPts val="451"/>
              </a:spcBef>
              <a:buClr>
                <a:srgbClr val="88100a"/>
              </a:buClr>
              <a:buFont typeface="Wingdings" charset="2"/>
              <a:buChar char="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1140f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a1140f"/>
              </a:solidFill>
              <a:latin typeface="Arial"/>
            </a:endParaRPr>
          </a:p>
          <a:p>
            <a:pPr lvl="2" marL="343080" indent="-343080">
              <a:spcBef>
                <a:spcPts val="451"/>
              </a:spcBef>
              <a:buClr>
                <a:srgbClr val="a1140f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1140f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a1140f"/>
              </a:solidFill>
              <a:latin typeface="Arial"/>
            </a:endParaRPr>
          </a:p>
          <a:p>
            <a:pPr lvl="3" marL="343080" indent="-343080">
              <a:spcBef>
                <a:spcPts val="451"/>
              </a:spcBef>
              <a:buClr>
                <a:srgbClr val="a1140f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1140f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a1140f"/>
              </a:solidFill>
              <a:latin typeface="Arial"/>
            </a:endParaRPr>
          </a:p>
          <a:p>
            <a:pPr lvl="4" marL="343080" indent="-343080">
              <a:spcBef>
                <a:spcPts val="451"/>
              </a:spcBef>
              <a:buClr>
                <a:srgbClr val="393939"/>
              </a:buClr>
              <a:buSzPct val="8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1140f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a1140f"/>
              </a:solidFill>
              <a:latin typeface="Arial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SzPct val="8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1140f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a1140f"/>
              </a:solidFill>
              <a:latin typeface="Arial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SzPct val="8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1140f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a1140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title"/>
          </p:nvPr>
        </p:nvSpPr>
        <p:spPr>
          <a:xfrm>
            <a:off x="685440" y="-360"/>
            <a:ext cx="8458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Helvetica Neue"/>
              </a:rPr>
              <a:t>Click to edit the title text format</a:t>
            </a:r>
            <a:endParaRPr b="0" lang="en-US" sz="2800" spc="-1" strike="noStrike">
              <a:solidFill>
                <a:srgbClr val="ffffcc"/>
              </a:solidFill>
              <a:latin typeface="Helvetica Neue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28D67-21A4-4022-B11C-44C5D786CBB8}" type="slidenum">
              <a:rPr b="0" lang="fr-FR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8" name="Group 3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59" name="Rectangle 33"/>
            <p:cNvSpPr/>
            <p:nvPr/>
          </p:nvSpPr>
          <p:spPr>
            <a:xfrm>
              <a:off x="0" y="0"/>
              <a:ext cx="9144000" cy="1050840"/>
            </a:xfrm>
            <a:prstGeom prst="rect">
              <a:avLst/>
            </a:prstGeom>
            <a:solidFill>
              <a:srgbClr val="a114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Rectangle 34"/>
            <p:cNvSpPr/>
            <p:nvPr/>
          </p:nvSpPr>
          <p:spPr>
            <a:xfrm>
              <a:off x="0" y="2971800"/>
              <a:ext cx="749160" cy="3886200"/>
            </a:xfrm>
            <a:prstGeom prst="rect">
              <a:avLst/>
            </a:prstGeom>
            <a:solidFill>
              <a:srgbClr val="d8cd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61" name="Picture 35" descr="_x0013_arabesque_rouge.gif                                            0028AC3E_x000c_Macintosh HD                   B746CC0A: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4703760" cy="303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1523880"/>
            <a:ext cx="83059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1140f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a1140f"/>
              </a:solidFill>
              <a:latin typeface="Arial"/>
            </a:endParaRPr>
          </a:p>
          <a:p>
            <a:pPr lvl="1" marL="343080" indent="-343080">
              <a:spcBef>
                <a:spcPts val="451"/>
              </a:spcBef>
              <a:buClr>
                <a:srgbClr val="88100a"/>
              </a:buClr>
              <a:buFont typeface="Wingdings" charset="2"/>
              <a:buChar char="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1140f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a1140f"/>
              </a:solidFill>
              <a:latin typeface="Arial"/>
            </a:endParaRPr>
          </a:p>
          <a:p>
            <a:pPr lvl="2" marL="343080" indent="-343080">
              <a:spcBef>
                <a:spcPts val="451"/>
              </a:spcBef>
              <a:buClr>
                <a:srgbClr val="a1140f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1140f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a1140f"/>
              </a:solidFill>
              <a:latin typeface="Arial"/>
            </a:endParaRPr>
          </a:p>
          <a:p>
            <a:pPr lvl="3" marL="343080" indent="-343080">
              <a:spcBef>
                <a:spcPts val="451"/>
              </a:spcBef>
              <a:buClr>
                <a:srgbClr val="a1140f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1140f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a1140f"/>
              </a:solidFill>
              <a:latin typeface="Arial"/>
            </a:endParaRPr>
          </a:p>
          <a:p>
            <a:pPr lvl="4" marL="343080" indent="-343080">
              <a:spcBef>
                <a:spcPts val="451"/>
              </a:spcBef>
              <a:buClr>
                <a:srgbClr val="393939"/>
              </a:buClr>
              <a:buSzPct val="8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1140f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a1140f"/>
              </a:solidFill>
              <a:latin typeface="Arial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SzPct val="8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1140f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a1140f"/>
              </a:solidFill>
              <a:latin typeface="Arial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SzPct val="8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1140f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a1140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title"/>
          </p:nvPr>
        </p:nvSpPr>
        <p:spPr>
          <a:xfrm>
            <a:off x="685440" y="-360"/>
            <a:ext cx="8458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Helvetica Neue"/>
              </a:rPr>
              <a:t>Click to edit the title text format</a:t>
            </a:r>
            <a:endParaRPr b="0" lang="en-US" sz="2800" spc="-1" strike="noStrike">
              <a:solidFill>
                <a:srgbClr val="ffffcc"/>
              </a:solidFill>
              <a:latin typeface="Helvetica Neue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sldNum" idx="7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728A3-5FB6-4E77-94BD-2962A99C4B23}" type="slidenum">
              <a:rPr b="0" lang="fr-FR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1" name="Group 3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302" name="Rectangle 33"/>
            <p:cNvSpPr/>
            <p:nvPr/>
          </p:nvSpPr>
          <p:spPr>
            <a:xfrm>
              <a:off x="0" y="0"/>
              <a:ext cx="9144000" cy="1050840"/>
            </a:xfrm>
            <a:prstGeom prst="rect">
              <a:avLst/>
            </a:prstGeom>
            <a:solidFill>
              <a:srgbClr val="a114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Rectangle 34"/>
            <p:cNvSpPr/>
            <p:nvPr/>
          </p:nvSpPr>
          <p:spPr>
            <a:xfrm>
              <a:off x="0" y="2971800"/>
              <a:ext cx="749160" cy="3886200"/>
            </a:xfrm>
            <a:prstGeom prst="rect">
              <a:avLst/>
            </a:prstGeom>
            <a:solidFill>
              <a:srgbClr val="d8cd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04" name="Picture 35" descr="_x0013_arabesque_rouge.gif                                            0028AC3E_x000c_Macintosh HD                   B746CC0A: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4703760" cy="303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5" name="PlaceHolder 1"/>
          <p:cNvSpPr>
            <a:spLocks noGrp="1"/>
          </p:cNvSpPr>
          <p:nvPr>
            <p:ph type="body"/>
          </p:nvPr>
        </p:nvSpPr>
        <p:spPr>
          <a:xfrm>
            <a:off x="457200" y="1523880"/>
            <a:ext cx="83059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1140f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a1140f"/>
              </a:solidFill>
              <a:latin typeface="Arial"/>
            </a:endParaRPr>
          </a:p>
          <a:p>
            <a:pPr lvl="1" marL="343080" indent="-343080">
              <a:spcBef>
                <a:spcPts val="451"/>
              </a:spcBef>
              <a:buClr>
                <a:srgbClr val="88100a"/>
              </a:buClr>
              <a:buFont typeface="Wingdings" charset="2"/>
              <a:buChar char="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1140f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a1140f"/>
              </a:solidFill>
              <a:latin typeface="Arial"/>
            </a:endParaRPr>
          </a:p>
          <a:p>
            <a:pPr lvl="2" marL="343080" indent="-343080">
              <a:spcBef>
                <a:spcPts val="451"/>
              </a:spcBef>
              <a:buClr>
                <a:srgbClr val="a1140f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1140f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a1140f"/>
              </a:solidFill>
              <a:latin typeface="Arial"/>
            </a:endParaRPr>
          </a:p>
          <a:p>
            <a:pPr lvl="3" marL="343080" indent="-343080">
              <a:spcBef>
                <a:spcPts val="451"/>
              </a:spcBef>
              <a:buClr>
                <a:srgbClr val="a1140f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1140f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a1140f"/>
              </a:solidFill>
              <a:latin typeface="Arial"/>
            </a:endParaRPr>
          </a:p>
          <a:p>
            <a:pPr lvl="4" marL="343080" indent="-343080">
              <a:spcBef>
                <a:spcPts val="451"/>
              </a:spcBef>
              <a:buClr>
                <a:srgbClr val="393939"/>
              </a:buClr>
              <a:buSzPct val="8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1140f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a1140f"/>
              </a:solidFill>
              <a:latin typeface="Arial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SzPct val="8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1140f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a1140f"/>
              </a:solidFill>
              <a:latin typeface="Arial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SzPct val="8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1140f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a1140f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title"/>
          </p:nvPr>
        </p:nvSpPr>
        <p:spPr>
          <a:xfrm>
            <a:off x="685440" y="-360"/>
            <a:ext cx="8458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Helvetica Neue"/>
              </a:rPr>
              <a:t>Click to edit the title text format</a:t>
            </a:r>
            <a:endParaRPr b="0" lang="en-US" sz="2800" spc="-1" strike="noStrike">
              <a:solidFill>
                <a:srgbClr val="ffffcc"/>
              </a:solidFill>
              <a:latin typeface="Helvetica Neue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sldNum" idx="8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E58EA-776D-4D45-A6EA-E9346F78E779}" type="slidenum">
              <a:rPr b="0" lang="fr-FR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4" name="Group 3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345" name="Rectangle 33"/>
            <p:cNvSpPr/>
            <p:nvPr/>
          </p:nvSpPr>
          <p:spPr>
            <a:xfrm>
              <a:off x="0" y="0"/>
              <a:ext cx="9144000" cy="1050840"/>
            </a:xfrm>
            <a:prstGeom prst="rect">
              <a:avLst/>
            </a:prstGeom>
            <a:solidFill>
              <a:srgbClr val="a114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Rectangle 34"/>
            <p:cNvSpPr/>
            <p:nvPr/>
          </p:nvSpPr>
          <p:spPr>
            <a:xfrm>
              <a:off x="0" y="2971800"/>
              <a:ext cx="749160" cy="3886200"/>
            </a:xfrm>
            <a:prstGeom prst="rect">
              <a:avLst/>
            </a:prstGeom>
            <a:solidFill>
              <a:srgbClr val="d8cd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47" name="Picture 35" descr="_x0013_arabesque_rouge.gif                                            0028AC3E_x000c_Macintosh HD                   B746CC0A: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4703760" cy="303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8" name="PlaceHolder 1"/>
          <p:cNvSpPr>
            <a:spLocks noGrp="1"/>
          </p:cNvSpPr>
          <p:nvPr>
            <p:ph type="body"/>
          </p:nvPr>
        </p:nvSpPr>
        <p:spPr>
          <a:xfrm>
            <a:off x="457200" y="1523880"/>
            <a:ext cx="83059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1140f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a1140f"/>
              </a:solidFill>
              <a:latin typeface="Arial"/>
            </a:endParaRPr>
          </a:p>
          <a:p>
            <a:pPr lvl="1" marL="343080" indent="-343080">
              <a:spcBef>
                <a:spcPts val="451"/>
              </a:spcBef>
              <a:buClr>
                <a:srgbClr val="88100a"/>
              </a:buClr>
              <a:buFont typeface="Wingdings" charset="2"/>
              <a:buChar char="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1140f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a1140f"/>
              </a:solidFill>
              <a:latin typeface="Arial"/>
            </a:endParaRPr>
          </a:p>
          <a:p>
            <a:pPr lvl="2" marL="343080" indent="-343080">
              <a:spcBef>
                <a:spcPts val="451"/>
              </a:spcBef>
              <a:buClr>
                <a:srgbClr val="a1140f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1140f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a1140f"/>
              </a:solidFill>
              <a:latin typeface="Arial"/>
            </a:endParaRPr>
          </a:p>
          <a:p>
            <a:pPr lvl="3" marL="343080" indent="-343080">
              <a:spcBef>
                <a:spcPts val="451"/>
              </a:spcBef>
              <a:buClr>
                <a:srgbClr val="a1140f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1140f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a1140f"/>
              </a:solidFill>
              <a:latin typeface="Arial"/>
            </a:endParaRPr>
          </a:p>
          <a:p>
            <a:pPr lvl="4" marL="343080" indent="-343080">
              <a:spcBef>
                <a:spcPts val="451"/>
              </a:spcBef>
              <a:buClr>
                <a:srgbClr val="393939"/>
              </a:buClr>
              <a:buSzPct val="8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1140f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a1140f"/>
              </a:solidFill>
              <a:latin typeface="Arial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SzPct val="8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1140f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a1140f"/>
              </a:solidFill>
              <a:latin typeface="Arial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SzPct val="8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1140f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a1140f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title"/>
          </p:nvPr>
        </p:nvSpPr>
        <p:spPr>
          <a:xfrm>
            <a:off x="685440" y="-360"/>
            <a:ext cx="8458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Helvetica Neue"/>
              </a:rPr>
              <a:t>Click to edit the title text format</a:t>
            </a:r>
            <a:endParaRPr b="0" lang="en-US" sz="2800" spc="-1" strike="noStrike">
              <a:solidFill>
                <a:srgbClr val="ffffcc"/>
              </a:solidFill>
              <a:latin typeface="Helvetica Neue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sldNum" idx="9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739D1-BA3E-40F8-9D54-8F81B6C9A2D8}" type="slidenum">
              <a:rPr b="0" lang="fr-FR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5.jpeg"/><Relationship Id="rId8" Type="http://schemas.openxmlformats.org/officeDocument/2006/relationships/image" Target="../media/image8.jpeg"/><Relationship Id="rId9" Type="http://schemas.openxmlformats.org/officeDocument/2006/relationships/image" Target="../media/image6.jpeg"/><Relationship Id="rId10" Type="http://schemas.openxmlformats.org/officeDocument/2006/relationships/image" Target="../media/image9.jpeg"/><Relationship Id="rId11" Type="http://schemas.openxmlformats.org/officeDocument/2006/relationships/image" Target="../media/image10.jpeg"/><Relationship Id="rId12" Type="http://schemas.openxmlformats.org/officeDocument/2006/relationships/slideLayout" Target="../slideLayouts/slideLayout85.xml"/><Relationship Id="rId1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85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Espace réservé du numéro de diapositive 1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D0267-EC19-41C9-8FC7-49E48F4A7DEF}" type="slidenum">
              <a:rPr b="1" lang="fr-FR" sz="1000" spc="-1" strike="noStrike">
                <a:solidFill>
                  <a:srgbClr val="666633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4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5" name="Rectangle 3"/>
            <p:cNvSpPr/>
            <p:nvPr/>
          </p:nvSpPr>
          <p:spPr>
            <a:xfrm>
              <a:off x="0" y="3611520"/>
              <a:ext cx="9144000" cy="3246480"/>
            </a:xfrm>
            <a:prstGeom prst="rect">
              <a:avLst/>
            </a:prstGeom>
            <a:solidFill>
              <a:srgbClr val="a114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6" name="Picture 4" descr=""/>
            <p:cNvPicPr/>
            <p:nvPr/>
          </p:nvPicPr>
          <p:blipFill>
            <a:blip r:embed="rId1"/>
            <a:stretch/>
          </p:blipFill>
          <p:spPr>
            <a:xfrm>
              <a:off x="455760" y="0"/>
              <a:ext cx="7769160" cy="493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7" name="Rectangle 5"/>
            <p:cNvSpPr/>
            <p:nvPr/>
          </p:nvSpPr>
          <p:spPr>
            <a:xfrm>
              <a:off x="3276720" y="5867280"/>
              <a:ext cx="5348160" cy="914400"/>
            </a:xfrm>
            <a:prstGeom prst="rect">
              <a:avLst/>
            </a:prstGeom>
            <a:solidFill>
              <a:srgbClr val="8810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ffcc"/>
                  </a:solidFill>
                  <a:latin typeface="Arial"/>
                  <a:ea typeface="Arial"/>
                </a:rPr>
                <a:t>NANCY – UNIVERSITÉ – NUTI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8" name="Group 6"/>
            <p:cNvGrpSpPr/>
            <p:nvPr/>
          </p:nvGrpSpPr>
          <p:grpSpPr>
            <a:xfrm>
              <a:off x="0" y="841320"/>
              <a:ext cx="4495680" cy="6016680"/>
              <a:chOff x="0" y="841320"/>
              <a:chExt cx="4495680" cy="6016680"/>
            </a:xfrm>
          </p:grpSpPr>
          <p:pic>
            <p:nvPicPr>
              <p:cNvPr id="529" name="Picture 7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5791320"/>
                <a:ext cx="658800" cy="430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0" name="Picture 8" descr=""/>
              <p:cNvPicPr/>
              <p:nvPr/>
            </p:nvPicPr>
            <p:blipFill>
              <a:blip r:embed="rId3"/>
              <a:stretch/>
            </p:blipFill>
            <p:spPr>
              <a:xfrm>
                <a:off x="1057320" y="1447920"/>
                <a:ext cx="1905120" cy="1249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1" name="Picture 9" descr=""/>
              <p:cNvPicPr/>
              <p:nvPr/>
            </p:nvPicPr>
            <p:blipFill>
              <a:blip r:embed="rId4"/>
              <a:stretch/>
            </p:blipFill>
            <p:spPr>
              <a:xfrm>
                <a:off x="3276720" y="1447920"/>
                <a:ext cx="1218960" cy="799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2" name="Picture 10" descr=""/>
              <p:cNvPicPr/>
              <p:nvPr/>
            </p:nvPicPr>
            <p:blipFill>
              <a:blip r:embed="rId5"/>
              <a:stretch/>
            </p:blipFill>
            <p:spPr>
              <a:xfrm>
                <a:off x="2965320" y="841320"/>
                <a:ext cx="914400" cy="598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3" name="Picture 11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3605040"/>
                <a:ext cx="1371600" cy="893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4" name="Picture 12" descr=""/>
              <p:cNvPicPr/>
              <p:nvPr/>
            </p:nvPicPr>
            <p:blipFill>
              <a:blip r:embed="rId7"/>
              <a:stretch/>
            </p:blipFill>
            <p:spPr>
              <a:xfrm>
                <a:off x="914400" y="6208560"/>
                <a:ext cx="990720" cy="649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5" name="Picture 13" descr=""/>
              <p:cNvPicPr/>
              <p:nvPr/>
            </p:nvPicPr>
            <p:blipFill>
              <a:blip r:embed="rId8"/>
              <a:stretch/>
            </p:blipFill>
            <p:spPr>
              <a:xfrm>
                <a:off x="528480" y="4497480"/>
                <a:ext cx="1028880" cy="1295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6" name="Picture 14" descr=""/>
              <p:cNvPicPr/>
              <p:nvPr/>
            </p:nvPicPr>
            <p:blipFill>
              <a:blip r:embed="rId9"/>
              <a:stretch/>
            </p:blipFill>
            <p:spPr>
              <a:xfrm>
                <a:off x="2281320" y="5116680"/>
                <a:ext cx="676080" cy="442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7" name="Picture 15" descr=""/>
              <p:cNvPicPr/>
              <p:nvPr/>
            </p:nvPicPr>
            <p:blipFill>
              <a:blip r:embed="rId10"/>
              <a:stretch/>
            </p:blipFill>
            <p:spPr>
              <a:xfrm>
                <a:off x="1560600" y="5562720"/>
                <a:ext cx="990360" cy="650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8" name="Picture 16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65320" y="2362320"/>
                <a:ext cx="762120" cy="5094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539" name="ZoneTexte 17"/>
          <p:cNvSpPr/>
          <p:nvPr/>
        </p:nvSpPr>
        <p:spPr>
          <a:xfrm>
            <a:off x="3276720" y="4114800"/>
            <a:ext cx="533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cc"/>
                </a:solidFill>
                <a:latin typeface="Arial"/>
                <a:ea typeface="Arial"/>
              </a:rPr>
              <a:t>P2CeL - Production Collabor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cc"/>
                </a:solidFill>
                <a:latin typeface="Arial"/>
                <a:ea typeface="Arial"/>
              </a:rPr>
              <a:t>de Connaissance et eLearning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ZoneTexte 17"/>
          <p:cNvSpPr/>
          <p:nvPr/>
        </p:nvSpPr>
        <p:spPr>
          <a:xfrm>
            <a:off x="3276720" y="4927680"/>
            <a:ext cx="533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cc"/>
                </a:solidFill>
                <a:latin typeface="Arial"/>
                <a:ea typeface="Arial"/>
              </a:rPr>
              <a:t>une approche par wikis socia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cc"/>
                </a:solidFill>
                <a:latin typeface="Arial"/>
                <a:ea typeface="Arial"/>
              </a:rPr>
              <a:t>sémantiq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714640" y="-360"/>
            <a:ext cx="3429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Helvetica Neue"/>
              </a:rPr>
              <a:t>P2CeL - Objectifs</a:t>
            </a:r>
            <a:endParaRPr b="0" lang="en-US" sz="2800" spc="-1" strike="noStrike">
              <a:solidFill>
                <a:srgbClr val="ffffcc"/>
              </a:solidFill>
              <a:latin typeface="Helvetica Neue"/>
            </a:endParaRPr>
          </a:p>
        </p:txBody>
      </p:sp>
      <p:sp>
        <p:nvSpPr>
          <p:cNvPr id="542" name=""/>
          <p:cNvSpPr txBox="1"/>
          <p:nvPr/>
        </p:nvSpPr>
        <p:spPr>
          <a:xfrm>
            <a:off x="990360" y="1523880"/>
            <a:ext cx="792468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1140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1140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a1140f"/>
                </a:solidFill>
                <a:latin typeface="Arial"/>
              </a:rPr>
              <a:t>Backgrounds</a:t>
            </a:r>
            <a:endParaRPr b="1" lang="en-US" sz="2400" spc="-1" strike="noStrike">
              <a:solidFill>
                <a:srgbClr val="a1140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66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Des réservoirs de ressources pédagogiques numériques</a:t>
            </a:r>
            <a:endParaRPr b="1" lang="en-US" sz="1600" spc="-1" strike="noStrike">
              <a:solidFill>
                <a:srgbClr val="a1140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66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Caractéristiques des wikis sociaux sémantiques</a:t>
            </a:r>
            <a:endParaRPr b="1" lang="en-US" sz="1600" spc="-1" strike="noStrike">
              <a:solidFill>
                <a:srgbClr val="a1140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66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Méthodes d’analyse des réseaux comportementaux</a:t>
            </a:r>
            <a:endParaRPr b="1" lang="en-US" sz="1600" spc="-1" strike="noStrike">
              <a:solidFill>
                <a:srgbClr val="a1140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66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Méthodes d’évaluation des pratiques pédagogiques</a:t>
            </a:r>
            <a:endParaRPr b="1" lang="en-US" sz="1600" spc="-1" strike="noStrike">
              <a:solidFill>
                <a:srgbClr val="a1140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1140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a1140f"/>
                </a:solidFill>
                <a:latin typeface="Arial"/>
              </a:rPr>
              <a:t>Objectif</a:t>
            </a:r>
            <a:endParaRPr b="1" lang="en-US" sz="2400" spc="-1" strike="noStrike">
              <a:solidFill>
                <a:srgbClr val="a1140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66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Production collaborative de connaissances sur la base des usages des ressources pédagogiques existantes</a:t>
            </a:r>
            <a:endParaRPr b="1" lang="en-US" sz="1600" spc="-1" strike="noStrike">
              <a:solidFill>
                <a:srgbClr val="a1140f"/>
              </a:solidFill>
              <a:latin typeface="Arial"/>
            </a:endParaRPr>
          </a:p>
          <a:p>
            <a:pPr lvl="1" marL="762120" indent="-304920">
              <a:spcBef>
                <a:spcPts val="400"/>
              </a:spcBef>
              <a:buClr>
                <a:srgbClr val="8810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age de ces ressources (échanges synchrones, asynchrones,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ductions collaboratives, …)’</a:t>
            </a:r>
            <a:endParaRPr b="0" lang="en-US" sz="1600" spc="-1" strike="noStrike">
              <a:solidFill>
                <a:srgbClr val="393939"/>
              </a:solidFill>
              <a:latin typeface="Arial"/>
            </a:endParaRPr>
          </a:p>
          <a:p>
            <a:pPr lvl="1" marL="762120" indent="-304920">
              <a:spcBef>
                <a:spcPts val="349"/>
              </a:spcBef>
              <a:buClr>
                <a:srgbClr val="8810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Étude du moyen de réinjecter cette connaissance dans le dispositif global</a:t>
            </a:r>
            <a:endParaRPr b="0" lang="en-US" sz="1400" spc="-1" strike="noStrike">
              <a:solidFill>
                <a:srgbClr val="393939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a1140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1140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1140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66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1140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1140f"/>
              </a:solidFill>
              <a:latin typeface="Arial"/>
            </a:endParaRPr>
          </a:p>
        </p:txBody>
      </p:sp>
      <p:sp>
        <p:nvSpPr>
          <p:cNvPr id="543" name="Espace réservé du numéro de diapositive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9C960-5B29-463B-954F-281BA8D4B1A9}" type="slidenum">
              <a:rPr b="0" lang="fr-FR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4582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cc"/>
                </a:solidFill>
                <a:latin typeface="Helvetica Neue"/>
              </a:rPr>
              <a:t>P2CeL - Process</a:t>
            </a:r>
            <a:endParaRPr b="0" lang="en-US" sz="2800" spc="-1" strike="noStrike">
              <a:solidFill>
                <a:srgbClr val="ffffcc"/>
              </a:solidFill>
              <a:latin typeface="Helvetica Neue"/>
            </a:endParaRPr>
          </a:p>
        </p:txBody>
      </p:sp>
      <p:sp>
        <p:nvSpPr>
          <p:cNvPr id="545" name="Espace réservé du numéro de diapositive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18A73-F7FA-4B04-8FC6-5ACDF6776E9C}" type="slidenum">
              <a:rPr b="0" lang="fr-FR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6" name="Image 4" descr=""/>
          <p:cNvPicPr/>
          <p:nvPr/>
        </p:nvPicPr>
        <p:blipFill>
          <a:blip r:embed="rId1"/>
          <a:stretch/>
        </p:blipFill>
        <p:spPr>
          <a:xfrm>
            <a:off x="1752480" y="1752480"/>
            <a:ext cx="6629400" cy="40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Espace réservé du numéro de diapositive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EDB40-4A14-457A-85B2-EB3121658EDF}" type="slidenum">
              <a:rPr b="1" lang="fr-FR" sz="1000" spc="-1" strike="noStrike">
                <a:solidFill>
                  <a:srgbClr val="666633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800240" y="-360"/>
            <a:ext cx="4343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cc"/>
                </a:solidFill>
                <a:latin typeface="Helvetica Neue"/>
              </a:rPr>
              <a:t>P2CeL - Process</a:t>
            </a:r>
            <a:endParaRPr b="0" lang="en-US" sz="2800" spc="-1" strike="noStrike">
              <a:solidFill>
                <a:srgbClr val="ffffcc"/>
              </a:solidFill>
              <a:latin typeface="Helvetica Neue"/>
            </a:endParaRPr>
          </a:p>
        </p:txBody>
      </p:sp>
      <p:grpSp>
        <p:nvGrpSpPr>
          <p:cNvPr id="549" name="Grouper 22"/>
          <p:cNvGrpSpPr/>
          <p:nvPr/>
        </p:nvGrpSpPr>
        <p:grpSpPr>
          <a:xfrm>
            <a:off x="3390840" y="1219320"/>
            <a:ext cx="3962520" cy="1371600"/>
            <a:chOff x="3390840" y="1219320"/>
            <a:chExt cx="3962520" cy="1371600"/>
          </a:xfrm>
        </p:grpSpPr>
        <p:grpSp>
          <p:nvGrpSpPr>
            <p:cNvPr id="550" name="Flèche vers le bas 10"/>
            <p:cNvGrpSpPr/>
            <p:nvPr/>
          </p:nvGrpSpPr>
          <p:grpSpPr>
            <a:xfrm>
              <a:off x="3390840" y="1219320"/>
              <a:ext cx="3962520" cy="1371600"/>
              <a:chOff x="3390840" y="1219320"/>
              <a:chExt cx="3962520" cy="1371600"/>
            </a:xfrm>
          </p:grpSpPr>
          <p:pic>
            <p:nvPicPr>
              <p:cNvPr id="551" name="Flèche vers le bas 10" descr=""/>
              <p:cNvPicPr/>
              <p:nvPr/>
            </p:nvPicPr>
            <p:blipFill>
              <a:blip r:embed="rId1"/>
              <a:stretch/>
            </p:blipFill>
            <p:spPr>
              <a:xfrm>
                <a:off x="3390840" y="1219320"/>
                <a:ext cx="3962520" cy="137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2" name=""/>
              <p:cNvSpPr/>
              <p:nvPr/>
            </p:nvSpPr>
            <p:spPr>
              <a:xfrm rot="10800000">
                <a:off x="4430520" y="1573200"/>
                <a:ext cx="1891080" cy="944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3" name="ZoneTexte 14"/>
            <p:cNvSpPr/>
            <p:nvPr/>
          </p:nvSpPr>
          <p:spPr>
            <a:xfrm>
              <a:off x="4412520" y="1748160"/>
              <a:ext cx="1927440" cy="77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500" spc="-1" strike="noStrike">
                  <a:solidFill>
                    <a:srgbClr val="000000"/>
                  </a:solidFill>
                  <a:latin typeface="Arial"/>
                  <a:ea typeface="Arial"/>
                </a:rPr>
                <a:t>Nouvelles pratiques eLearning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4" name="Grouper 21"/>
          <p:cNvGrpSpPr/>
          <p:nvPr/>
        </p:nvGrpSpPr>
        <p:grpSpPr>
          <a:xfrm>
            <a:off x="3390840" y="5334120"/>
            <a:ext cx="3962520" cy="1371600"/>
            <a:chOff x="3390840" y="5334120"/>
            <a:chExt cx="3962520" cy="1371600"/>
          </a:xfrm>
        </p:grpSpPr>
        <p:grpSp>
          <p:nvGrpSpPr>
            <p:cNvPr id="555" name="Flèche vers le bas 13"/>
            <p:cNvGrpSpPr/>
            <p:nvPr/>
          </p:nvGrpSpPr>
          <p:grpSpPr>
            <a:xfrm>
              <a:off x="3390840" y="5334120"/>
              <a:ext cx="3962520" cy="1371600"/>
              <a:chOff x="3390840" y="5334120"/>
              <a:chExt cx="3962520" cy="1371600"/>
            </a:xfrm>
          </p:grpSpPr>
          <p:pic>
            <p:nvPicPr>
              <p:cNvPr id="556" name="Flèche vers le bas 13" descr=""/>
              <p:cNvPicPr/>
              <p:nvPr/>
            </p:nvPicPr>
            <p:blipFill>
              <a:blip r:embed="rId2"/>
              <a:stretch/>
            </p:blipFill>
            <p:spPr>
              <a:xfrm>
                <a:off x="3390840" y="5334120"/>
                <a:ext cx="3962520" cy="137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7" name=""/>
              <p:cNvSpPr/>
              <p:nvPr/>
            </p:nvSpPr>
            <p:spPr>
              <a:xfrm>
                <a:off x="4430880" y="5373000"/>
                <a:ext cx="1891080" cy="944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8" name="ZoneTexte 15"/>
            <p:cNvSpPr/>
            <p:nvPr/>
          </p:nvSpPr>
          <p:spPr>
            <a:xfrm>
              <a:off x="4467240" y="5559120"/>
              <a:ext cx="1818360" cy="5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5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duction de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5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nnaissance     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9" name="Grouper 20"/>
          <p:cNvGrpSpPr/>
          <p:nvPr/>
        </p:nvGrpSpPr>
        <p:grpSpPr>
          <a:xfrm>
            <a:off x="6781680" y="2133720"/>
            <a:ext cx="2133720" cy="3581280"/>
            <a:chOff x="6781680" y="2133720"/>
            <a:chExt cx="2133720" cy="3581280"/>
          </a:xfrm>
        </p:grpSpPr>
        <p:grpSp>
          <p:nvGrpSpPr>
            <p:cNvPr id="560" name="Flèche vers le bas 12"/>
            <p:cNvGrpSpPr/>
            <p:nvPr/>
          </p:nvGrpSpPr>
          <p:grpSpPr>
            <a:xfrm>
              <a:off x="6781680" y="2133720"/>
              <a:ext cx="2133720" cy="3581280"/>
              <a:chOff x="6781680" y="2133720"/>
              <a:chExt cx="2133720" cy="3581280"/>
            </a:xfrm>
          </p:grpSpPr>
          <p:pic>
            <p:nvPicPr>
              <p:cNvPr id="561" name="Flèche vers le bas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6781680" y="2133720"/>
                <a:ext cx="2133720" cy="3581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2" name=""/>
              <p:cNvSpPr/>
              <p:nvPr/>
            </p:nvSpPr>
            <p:spPr>
              <a:xfrm rot="5400000">
                <a:off x="7246800" y="3148200"/>
                <a:ext cx="1713240" cy="151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3" name="ZoneTexte 16"/>
            <p:cNvSpPr/>
            <p:nvPr/>
          </p:nvSpPr>
          <p:spPr>
            <a:xfrm>
              <a:off x="7130520" y="3198600"/>
              <a:ext cx="1730160" cy="191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5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s usagers,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5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s approches pédagogique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5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RMOPTIM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500" spc="-1" strike="noStrike">
                  <a:solidFill>
                    <a:srgbClr val="000000"/>
                  </a:solidFill>
                  <a:latin typeface="Arial"/>
                  <a:ea typeface="Arial"/>
                </a:rPr>
                <a:t>Nancy Université                 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4" name="Grouper 19"/>
          <p:cNvGrpSpPr/>
          <p:nvPr/>
        </p:nvGrpSpPr>
        <p:grpSpPr>
          <a:xfrm>
            <a:off x="1828800" y="2133720"/>
            <a:ext cx="2133720" cy="3581280"/>
            <a:chOff x="1828800" y="2133720"/>
            <a:chExt cx="2133720" cy="3581280"/>
          </a:xfrm>
        </p:grpSpPr>
        <p:grpSp>
          <p:nvGrpSpPr>
            <p:cNvPr id="565" name="Flèche vers le bas 11"/>
            <p:cNvGrpSpPr/>
            <p:nvPr/>
          </p:nvGrpSpPr>
          <p:grpSpPr>
            <a:xfrm>
              <a:off x="1828800" y="2133720"/>
              <a:ext cx="2133720" cy="3581280"/>
              <a:chOff x="1828800" y="2133720"/>
              <a:chExt cx="2133720" cy="3581280"/>
            </a:xfrm>
          </p:grpSpPr>
          <p:pic>
            <p:nvPicPr>
              <p:cNvPr id="566" name="Flèche vers le bas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1828800" y="2133720"/>
                <a:ext cx="2133720" cy="3581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7" name=""/>
              <p:cNvSpPr/>
              <p:nvPr/>
            </p:nvSpPr>
            <p:spPr>
              <a:xfrm rot="16200000">
                <a:off x="1789920" y="3149640"/>
                <a:ext cx="1713240" cy="150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8" name="ZoneTexte 17"/>
            <p:cNvSpPr/>
            <p:nvPr/>
          </p:nvSpPr>
          <p:spPr>
            <a:xfrm>
              <a:off x="1891800" y="3640320"/>
              <a:ext cx="1797480" cy="5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500" spc="-1" strike="noStrike">
                  <a:solidFill>
                    <a:srgbClr val="000000"/>
                  </a:solidFill>
                  <a:latin typeface="Arial"/>
                  <a:ea typeface="Arial"/>
                </a:rPr>
                <a:t>Une approche multidisciplinaire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9" name="ZoneTexte 18"/>
          <p:cNvSpPr/>
          <p:nvPr/>
        </p:nvSpPr>
        <p:spPr>
          <a:xfrm>
            <a:off x="3962520" y="3016080"/>
            <a:ext cx="2971800" cy="179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des réservoirs 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de ressour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des outi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- Wikis sémantiques sociaux</a:t>
            </a:r>
            <a:br>
              <a:rPr sz="1600"/>
            </a:br>
            <a:r>
              <a:rPr b="1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- Réseaux comportementau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800240" y="-360"/>
            <a:ext cx="4343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cc"/>
                </a:solidFill>
                <a:latin typeface="Helvetica Neue"/>
              </a:rPr>
              <a:t>P2CeL - Résultats</a:t>
            </a:r>
            <a:endParaRPr b="0" lang="en-US" sz="2800" spc="-1" strike="noStrike">
              <a:solidFill>
                <a:srgbClr val="ffffcc"/>
              </a:solidFill>
              <a:latin typeface="Helvetica Neue"/>
            </a:endParaRPr>
          </a:p>
        </p:txBody>
      </p:sp>
      <p:sp>
        <p:nvSpPr>
          <p:cNvPr id="571" name=""/>
          <p:cNvSpPr txBox="1"/>
          <p:nvPr/>
        </p:nvSpPr>
        <p:spPr>
          <a:xfrm>
            <a:off x="837720" y="1523880"/>
            <a:ext cx="815364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1140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1140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a1140f"/>
                </a:solidFill>
                <a:latin typeface="Arial"/>
              </a:rPr>
              <a:t>Résultats</a:t>
            </a:r>
            <a:endParaRPr b="1" lang="en-US" sz="2400" spc="-1" strike="noStrike">
              <a:solidFill>
                <a:srgbClr val="a1140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66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Plateforme wiki test </a:t>
            </a:r>
            <a:endParaRPr b="1" lang="en-US" sz="1600" spc="-1" strike="noStrike">
              <a:solidFill>
                <a:srgbClr val="a1140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66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Production Collaborative de Connaissance</a:t>
            </a:r>
            <a:endParaRPr b="1" lang="en-US" sz="1600" spc="-1" strike="noStrike">
              <a:solidFill>
                <a:srgbClr val="a1140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66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Indexation de la connaissance produite</a:t>
            </a:r>
            <a:endParaRPr b="1" lang="en-US" sz="1600" spc="-1" strike="noStrike">
              <a:solidFill>
                <a:srgbClr val="a1140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66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Évolution par les usages des Ressources Pédagogiques Numériques</a:t>
            </a:r>
            <a:endParaRPr b="1" lang="en-US" sz="1600" spc="-1" strike="noStrike">
              <a:solidFill>
                <a:srgbClr val="a1140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66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Évolution des pratiques eLearning</a:t>
            </a:r>
            <a:endParaRPr b="1" lang="en-US" sz="1600" spc="-1" strike="noStrike">
              <a:solidFill>
                <a:srgbClr val="a1140f"/>
              </a:solidFill>
              <a:latin typeface="Arial"/>
            </a:endParaRPr>
          </a:p>
        </p:txBody>
      </p:sp>
      <p:sp>
        <p:nvSpPr>
          <p:cNvPr id="572" name="Espace réservé du numéro de diapositive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69CF6-FB9E-4FFA-8D5D-C1049AB1CE28}" type="slidenum">
              <a:rPr b="0" lang="fr-FR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69343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cc"/>
                </a:solidFill>
                <a:latin typeface="Helvetica Neue"/>
              </a:rPr>
              <a:t>P2CeL - Un partenariat pluridisciplinaire</a:t>
            </a:r>
            <a:endParaRPr b="0" lang="en-US" sz="2800" spc="-1" strike="noStrike">
              <a:solidFill>
                <a:srgbClr val="ffffcc"/>
              </a:solidFill>
              <a:latin typeface="Helvetica Neue"/>
            </a:endParaRPr>
          </a:p>
        </p:txBody>
      </p:sp>
      <p:sp>
        <p:nvSpPr>
          <p:cNvPr id="574" name=""/>
          <p:cNvSpPr txBox="1"/>
          <p:nvPr/>
        </p:nvSpPr>
        <p:spPr>
          <a:xfrm>
            <a:off x="99072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66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1140f"/>
                </a:solidFill>
                <a:latin typeface="Arial"/>
              </a:rPr>
              <a:t>Nancy Université TICE – NUTICE</a:t>
            </a:r>
            <a:endParaRPr b="1" lang="en-US" sz="1800" spc="-1" strike="noStrike">
              <a:solidFill>
                <a:srgbClr val="a1140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66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1140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66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1140f"/>
                </a:solidFill>
                <a:latin typeface="Arial"/>
              </a:rPr>
              <a:t>LORIA – équipes KIWI et ECOO</a:t>
            </a:r>
            <a:endParaRPr b="1" lang="en-US" sz="1800" spc="-1" strike="noStrike">
              <a:solidFill>
                <a:srgbClr val="a1140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66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1140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66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1140f"/>
                </a:solidFill>
                <a:latin typeface="Arial"/>
              </a:rPr>
              <a:t>THERMOPTIM</a:t>
            </a:r>
            <a:endParaRPr b="1" lang="en-US" sz="1800" spc="-1" strike="noStrike">
              <a:solidFill>
                <a:srgbClr val="a1140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66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1140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66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1140f"/>
                </a:solidFill>
                <a:latin typeface="Arial"/>
              </a:rPr>
              <a:t>Université Nancy 2 – CEREFIGE</a:t>
            </a:r>
            <a:endParaRPr b="1" lang="en-US" sz="1800" spc="-1" strike="noStrike">
              <a:solidFill>
                <a:srgbClr val="a1140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66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1140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66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1140f"/>
                </a:solidFill>
                <a:latin typeface="Arial"/>
              </a:rPr>
              <a:t>Université Paul Verlaine de Metz - ETIC, département de psychologie</a:t>
            </a:r>
            <a:endParaRPr b="1" lang="en-US" sz="1800" spc="-1" strike="noStrike">
              <a:solidFill>
                <a:srgbClr val="a1140f"/>
              </a:solidFill>
              <a:latin typeface="Arial"/>
            </a:endParaRPr>
          </a:p>
        </p:txBody>
      </p:sp>
      <p:sp>
        <p:nvSpPr>
          <p:cNvPr id="575" name="Espace réservé du numéro de diapositive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5FE8D-4515-4AA9-A010-E97314D42B8B}" type="slidenum">
              <a:rPr b="0" lang="fr-FR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4582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cc"/>
                </a:solidFill>
                <a:latin typeface="Helvetica Neue"/>
              </a:rPr>
              <a:t>P2CeL – Organisation et Planning</a:t>
            </a:r>
            <a:endParaRPr b="0" lang="en-US" sz="2800" spc="-1" strike="noStrike">
              <a:solidFill>
                <a:srgbClr val="ffffcc"/>
              </a:solidFill>
              <a:latin typeface="Helvetica Neue"/>
            </a:endParaRPr>
          </a:p>
        </p:txBody>
      </p:sp>
      <p:sp>
        <p:nvSpPr>
          <p:cNvPr id="577" name=""/>
          <p:cNvSpPr txBox="1"/>
          <p:nvPr/>
        </p:nvSpPr>
        <p:spPr>
          <a:xfrm>
            <a:off x="838080" y="1523520"/>
            <a:ext cx="7925040" cy="376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a1140f"/>
                </a:solidFill>
                <a:latin typeface="Arial"/>
              </a:rPr>
              <a:t>Moyens humains</a:t>
            </a:r>
            <a:endParaRPr b="1" lang="en-US" sz="1800" spc="-1" strike="noStrike">
              <a:solidFill>
                <a:srgbClr val="a1140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66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1 chef de projet + 1 stagiaire (thésard) </a:t>
            </a:r>
            <a:endParaRPr b="1" lang="en-US" sz="1600" spc="-1" strike="noStrike">
              <a:solidFill>
                <a:srgbClr val="a1140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a1140f"/>
                </a:solidFill>
                <a:latin typeface="Arial"/>
              </a:rPr>
              <a:t>Moyens matériels </a:t>
            </a:r>
            <a:endParaRPr b="1" lang="en-US" sz="1800" spc="-1" strike="noStrike">
              <a:solidFill>
                <a:srgbClr val="a1140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66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serveur applicatif pour la mise en œuvre de la maquette </a:t>
            </a:r>
            <a:endParaRPr b="1" lang="en-US" sz="1600" spc="-1" strike="noStrike">
              <a:solidFill>
                <a:srgbClr val="a1140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1140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1140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a1140f"/>
                </a:solidFill>
                <a:latin typeface="Arial"/>
              </a:rPr>
              <a:t>Ce projet va comporter cinq grandes étapes à savoir : </a:t>
            </a:r>
            <a:endParaRPr b="1" lang="en-US" sz="1800" spc="-1" strike="noStrike">
              <a:solidFill>
                <a:srgbClr val="a1140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666633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Identification des ressources et populations tests </a:t>
            </a:r>
            <a:endParaRPr b="1" lang="en-US" sz="1600" spc="-1" strike="noStrike">
              <a:solidFill>
                <a:srgbClr val="a1140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666633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Mise en place des classifications et du process global </a:t>
            </a:r>
            <a:endParaRPr b="1" lang="en-US" sz="1600" spc="-1" strike="noStrike">
              <a:solidFill>
                <a:srgbClr val="a1140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666633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Développement de l’architecture WIKI </a:t>
            </a:r>
            <a:endParaRPr b="1" lang="en-US" sz="1600" spc="-1" strike="noStrike">
              <a:solidFill>
                <a:srgbClr val="a1140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666633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Phase de pré-test </a:t>
            </a:r>
            <a:endParaRPr b="1" lang="en-US" sz="1600" spc="-1" strike="noStrike">
              <a:solidFill>
                <a:srgbClr val="a1140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666633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Rapport, recommandations et perspectives </a:t>
            </a:r>
            <a:endParaRPr b="1" lang="en-US" sz="1600" spc="-1" strike="noStrike">
              <a:solidFill>
                <a:srgbClr val="a1140f"/>
              </a:solidFill>
              <a:latin typeface="Arial"/>
            </a:endParaRPr>
          </a:p>
        </p:txBody>
      </p:sp>
      <p:sp>
        <p:nvSpPr>
          <p:cNvPr id="578" name="Espace réservé du numéro de diapositive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A7F88-D81F-4345-AFEB-2A1A18D4A945}" type="slidenum">
              <a:rPr b="0" lang="fr-FR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4582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cc"/>
                </a:solidFill>
                <a:latin typeface="Helvetica Neue"/>
              </a:rPr>
              <a:t>P2CeL - Budget</a:t>
            </a:r>
            <a:endParaRPr b="0" lang="en-US" sz="2800" spc="-1" strike="noStrike">
              <a:solidFill>
                <a:srgbClr val="ffffcc"/>
              </a:solidFill>
              <a:latin typeface="Helvetica Neue"/>
            </a:endParaRPr>
          </a:p>
        </p:txBody>
      </p:sp>
      <p:sp>
        <p:nvSpPr>
          <p:cNvPr id="580" name=""/>
          <p:cNvSpPr txBox="1"/>
          <p:nvPr/>
        </p:nvSpPr>
        <p:spPr>
          <a:xfrm>
            <a:off x="914400" y="1523880"/>
            <a:ext cx="78487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1140f"/>
                </a:solidFill>
                <a:latin typeface="Arial"/>
              </a:rPr>
              <a:t>Durée 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 ans (2009 – 2013) </a:t>
            </a:r>
            <a:endParaRPr b="1" lang="en-US" sz="1800" spc="-1" strike="noStrike">
              <a:solidFill>
                <a:srgbClr val="a1140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1140f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a1140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1140f"/>
                </a:solidFill>
                <a:latin typeface="Arial"/>
              </a:rPr>
              <a:t>Année 2009 – 2010 </a:t>
            </a:r>
            <a:endParaRPr b="1" lang="en-US" sz="1800" spc="-1" strike="noStrike">
              <a:solidFill>
                <a:srgbClr val="a1140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1140f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1140f"/>
                </a:solidFill>
                <a:latin typeface="Arial"/>
              </a:rPr>
              <a:t>Recett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a1140f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66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nancements CNRS-ISCC et autres : 8000 € </a:t>
            </a:r>
            <a:endParaRPr b="1" lang="en-US" sz="1600" spc="-1" strike="noStrike">
              <a:solidFill>
                <a:srgbClr val="a1140f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66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Arial"/>
              </a:rPr>
              <a:t>Financements UNIT : 16000 € </a:t>
            </a:r>
            <a:endParaRPr b="1" lang="en-US" sz="1600" spc="-1" strike="noStrike">
              <a:solidFill>
                <a:srgbClr val="a1140f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66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nancement propre Partenaires : 8000 €</a:t>
            </a:r>
            <a:endParaRPr b="1" lang="en-US" sz="1600" spc="-1" strike="noStrike">
              <a:solidFill>
                <a:srgbClr val="a1140f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a1140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1140f"/>
                </a:solidFill>
                <a:latin typeface="Arial"/>
              </a:rPr>
              <a:t>Dépenses </a:t>
            </a:r>
            <a:endParaRPr b="1" lang="en-US" sz="1800" spc="-1" strike="noStrike">
              <a:solidFill>
                <a:srgbClr val="a1140f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66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éplacements réunions préparatoires, colloques </a:t>
            </a:r>
            <a:endParaRPr b="1" lang="en-US" sz="1600" spc="-1" strike="noStrike">
              <a:solidFill>
                <a:srgbClr val="a1140f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66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nancement de personnels (thésard et ingénieurs)</a:t>
            </a:r>
            <a:endParaRPr b="1" lang="en-US" sz="1600" spc="-1" strike="noStrike">
              <a:solidFill>
                <a:srgbClr val="a1140f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66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chat de matériel </a:t>
            </a:r>
            <a:endParaRPr b="1" lang="en-US" sz="1600" spc="-1" strike="noStrike">
              <a:solidFill>
                <a:srgbClr val="a1140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1140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1140f"/>
                </a:solidFill>
                <a:latin typeface="Arial"/>
              </a:rPr>
              <a:t>Années 2010 – 2013 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financement ANR </a:t>
            </a:r>
            <a:endParaRPr b="1" lang="en-US" sz="1800" spc="-1" strike="noStrike">
              <a:solidFill>
                <a:srgbClr val="a1140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1140f"/>
              </a:solidFill>
              <a:latin typeface="Arial"/>
            </a:endParaRPr>
          </a:p>
        </p:txBody>
      </p:sp>
      <p:sp>
        <p:nvSpPr>
          <p:cNvPr id="581" name="Espace réservé du numéro de diapositive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8466B-F1EC-4982-9B73-F94E42517732}" type="slidenum">
              <a:rPr b="0" lang="fr-FR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2" name="Group 39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83" name="Rectangle 23"/>
            <p:cNvSpPr/>
            <p:nvPr/>
          </p:nvSpPr>
          <p:spPr>
            <a:xfrm>
              <a:off x="0" y="3611520"/>
              <a:ext cx="9144000" cy="3246480"/>
            </a:xfrm>
            <a:prstGeom prst="rect">
              <a:avLst/>
            </a:prstGeom>
            <a:solidFill>
              <a:srgbClr val="a114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4" name="Picture 38" descr=""/>
            <p:cNvPicPr/>
            <p:nvPr/>
          </p:nvPicPr>
          <p:blipFill>
            <a:blip r:embed="rId1"/>
            <a:stretch/>
          </p:blipFill>
          <p:spPr>
            <a:xfrm>
              <a:off x="457200" y="0"/>
              <a:ext cx="7769160" cy="493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5" name="Rectangle 24"/>
            <p:cNvSpPr/>
            <p:nvPr/>
          </p:nvSpPr>
          <p:spPr>
            <a:xfrm>
              <a:off x="2957400" y="4648320"/>
              <a:ext cx="1544760" cy="2209680"/>
            </a:xfrm>
            <a:prstGeom prst="rect">
              <a:avLst/>
            </a:prstGeom>
            <a:solidFill>
              <a:srgbClr val="8810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6" name="Picture 28" descr=""/>
            <p:cNvPicPr/>
            <p:nvPr/>
          </p:nvPicPr>
          <p:blipFill>
            <a:blip r:embed="rId2"/>
            <a:stretch/>
          </p:blipFill>
          <p:spPr>
            <a:xfrm>
              <a:off x="1057320" y="1447920"/>
              <a:ext cx="1905120" cy="1249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7" name="Picture 29" descr=""/>
            <p:cNvPicPr/>
            <p:nvPr/>
          </p:nvPicPr>
          <p:blipFill>
            <a:blip r:embed="rId3"/>
            <a:stretch/>
          </p:blipFill>
          <p:spPr>
            <a:xfrm>
              <a:off x="3276720" y="1447920"/>
              <a:ext cx="1218960" cy="799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8" name="Picture 30" descr=""/>
            <p:cNvPicPr/>
            <p:nvPr/>
          </p:nvPicPr>
          <p:blipFill>
            <a:blip r:embed="rId4"/>
            <a:stretch/>
          </p:blipFill>
          <p:spPr>
            <a:xfrm>
              <a:off x="2965320" y="841320"/>
              <a:ext cx="914400" cy="59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9" name="Picture 36" descr=""/>
            <p:cNvPicPr/>
            <p:nvPr/>
          </p:nvPicPr>
          <p:blipFill>
            <a:blip r:embed="rId5"/>
            <a:stretch/>
          </p:blipFill>
          <p:spPr>
            <a:xfrm>
              <a:off x="2965320" y="2362320"/>
              <a:ext cx="762120" cy="509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90" name="Rectangle 20"/>
          <p:cNvSpPr/>
          <p:nvPr/>
        </p:nvSpPr>
        <p:spPr>
          <a:xfrm>
            <a:off x="4876920" y="5486400"/>
            <a:ext cx="39621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cc"/>
                </a:solidFill>
                <a:latin typeface="Helvetica Neue Light"/>
                <a:ea typeface="Times New Roman"/>
              </a:rPr>
              <a:t>Conta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cc"/>
                </a:solidFill>
                <a:latin typeface="Helvetica Neue Light"/>
                <a:ea typeface="Times New Roman"/>
              </a:rPr>
              <a:t>Samuel.nowakowski@nancy-université.f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2T07:47:57Z</dcterms:created>
  <dc:creator>bergerot</dc:creator>
  <dc:description/>
  <dc:language>en-US</dc:language>
  <cp:lastModifiedBy>Samuel Nowakowski</cp:lastModifiedBy>
  <cp:lastPrinted>2006-11-22T08:44:41Z</cp:lastPrinted>
  <dcterms:modified xsi:type="dcterms:W3CDTF">2009-05-12T12:23:59Z</dcterms:modified>
  <cp:revision>246</cp:revision>
  <dc:subject/>
  <dc:title>Présentation PowerPoint</dc:title>
</cp:coreProperties>
</file>