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600a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F665-F41F-4734-9DF4-8AFD3C6CBBC1}" type="slidenum">
              <a:rPr b="1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se en compte des remontées des utilisateurs et stabilisation de la Chaîne (hors formules de mathématiqu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se en compte des remontées des utilisateurs et stabilisation de la Chaîne (hors formules de mathématiqu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838224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960" y="4064400"/>
            <a:ext cx="838224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40903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903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2960" y="4064400"/>
            <a:ext cx="40903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120" y="4064400"/>
            <a:ext cx="40903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26989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7240" y="1981080"/>
            <a:ext cx="26989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1520" y="1981080"/>
            <a:ext cx="26989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2960" y="4064400"/>
            <a:ext cx="26989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7240" y="4064400"/>
            <a:ext cx="26989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1520" y="4064400"/>
            <a:ext cx="26989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72960" y="1981080"/>
            <a:ext cx="838224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00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8382240" cy="39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4090320" cy="39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90320" cy="39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0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40903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90320" cy="39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72960" y="4064400"/>
            <a:ext cx="40903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2960" y="1981080"/>
            <a:ext cx="838224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00a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4090320" cy="39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903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4064400"/>
            <a:ext cx="40903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40903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903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72960" y="4064400"/>
            <a:ext cx="838224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838224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2960" y="4064400"/>
            <a:ext cx="838224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40903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903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72960" y="4064400"/>
            <a:ext cx="40903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4064400"/>
            <a:ext cx="40903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26989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07240" y="1981080"/>
            <a:ext cx="26989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1520" y="1981080"/>
            <a:ext cx="26989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72960" y="4064400"/>
            <a:ext cx="26989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07240" y="4064400"/>
            <a:ext cx="26989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1520" y="4064400"/>
            <a:ext cx="26989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8382240" cy="39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4090320" cy="39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90320" cy="39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91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00a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40903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90320" cy="39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2960" y="4064400"/>
            <a:ext cx="40903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4090320" cy="39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903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120" y="4064400"/>
            <a:ext cx="40903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40903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9032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2960" y="4064400"/>
            <a:ext cx="8382240" cy="19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72960" y="1981080"/>
            <a:ext cx="8382240" cy="39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ff9327"/>
              </a:buClr>
              <a:buSzPct val="69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aa029a"/>
              </a:buClr>
              <a:buSzPct val="69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339933"/>
              </a:buClr>
              <a:buSzPct val="69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2600a0"/>
              </a:buClr>
              <a:buSzPct val="69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2600a0"/>
              </a:buClr>
              <a:buSzPct val="69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gradFill rotWithShape="0">
            <a:gsLst>
              <a:gs pos="0">
                <a:srgbClr val="fdb603"/>
              </a:gs>
              <a:gs pos="50000">
                <a:srgbClr val="ffffff"/>
              </a:gs>
              <a:gs pos="100000">
                <a:srgbClr val="fdb603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0" y="6171480"/>
            <a:ext cx="6781680" cy="685800"/>
          </a:xfrm>
          <a:custGeom>
            <a:avLst/>
            <a:gdLst/>
            <a:ahLst/>
            <a:rect l="l" t="t" r="r" b="b"/>
            <a:pathLst>
              <a:path w="5760" h="496">
                <a:moveTo>
                  <a:pt x="0" y="200"/>
                </a:moveTo>
                <a:lnTo>
                  <a:pt x="5760" y="496"/>
                </a:lnTo>
                <a:lnTo>
                  <a:pt x="5760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gradFill rotWithShape="0">
            <a:gsLst>
              <a:gs pos="0">
                <a:srgbClr val="fdb603"/>
              </a:gs>
              <a:gs pos="100000">
                <a:srgbClr val="fde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2600a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1920" y="6643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00a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72200" y="6324480"/>
            <a:ext cx="1225440" cy="360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467480" y="6248520"/>
            <a:ext cx="1295640" cy="452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79280" y="6222960"/>
            <a:ext cx="122400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bc03"/>
            </a:gs>
            <a:gs pos="100000">
              <a:srgbClr val="fcda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12880" y="0"/>
            <a:ext cx="8331120" cy="6858000"/>
          </a:xfrm>
          <a:custGeom>
            <a:avLst/>
            <a:gdLst/>
            <a:ahLst/>
            <a:rect l="l" t="t" r="r" b="b"/>
            <a:pathLst>
              <a:path w="5248" h="4304">
                <a:moveTo>
                  <a:pt x="824" y="4304"/>
                </a:moveTo>
                <a:lnTo>
                  <a:pt x="5248" y="4304"/>
                </a:lnTo>
                <a:lnTo>
                  <a:pt x="5248" y="0"/>
                </a:lnTo>
                <a:lnTo>
                  <a:pt x="0" y="0"/>
                </a:lnTo>
                <a:lnTo>
                  <a:pt x="824" y="43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600a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7000" y="337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0520" y="650700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7777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2600a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4572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Narrow"/>
              </a:rPr>
              <a:t>Logo Client (optionnel)</a:t>
            </a:r>
            <a:endParaRPr b="0" lang="en-US" sz="2400" spc="-1" strike="noStrike">
              <a:solidFill>
                <a:srgbClr val="2600a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2438280" cy="8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6019920" y="304920"/>
          <a:ext cx="2705040" cy="75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04920"/>
                    <a:ext cx="27050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ftr" idx="1"/>
          </p:nvPr>
        </p:nvSpPr>
        <p:spPr>
          <a:xfrm>
            <a:off x="4132440" y="6453360"/>
            <a:ext cx="4976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600a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00a0"/>
                </a:solidFill>
                <a:latin typeface="Times New Roman"/>
              </a:rPr>
              <a:t>Ecole des Mines de Saint-Etienne, 12,13 et 14 mai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27000" y="5799240"/>
            <a:ext cx="1952640" cy="942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00a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00a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buClr>
                <a:srgbClr val="ff9327"/>
              </a:buClr>
              <a:buSzPct val="69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buClr>
                <a:srgbClr val="aa029a"/>
              </a:buClr>
              <a:buSzPct val="69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buClr>
                <a:srgbClr val="339933"/>
              </a:buClr>
              <a:buSzPct val="69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600a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600a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bc03"/>
            </a:gs>
            <a:gs pos="100000">
              <a:srgbClr val="fcda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27000" y="337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8080"/>
                </a:solidFill>
                <a:latin typeface="Arial"/>
              </a:rPr>
              <a:t>Projet Chaîne Editoriale</a:t>
            </a: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98600" y="4521240"/>
            <a:ext cx="64008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00a0"/>
                </a:solidFill>
                <a:latin typeface="Arial"/>
              </a:rPr>
              <a:t>Les printemps UNIT 2009</a:t>
            </a:r>
            <a:endParaRPr b="1" lang="en-US" sz="2400" spc="-1" strike="noStrike">
              <a:solidFill>
                <a:srgbClr val="2600a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gradFill rotWithShape="0">
            <a:gsLst>
              <a:gs pos="0">
                <a:srgbClr val="fdb603"/>
              </a:gs>
              <a:gs pos="50000">
                <a:srgbClr val="ffffff"/>
              </a:gs>
              <a:gs pos="100000">
                <a:srgbClr val="fdb603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8080"/>
                </a:solidFill>
                <a:latin typeface="Arial"/>
              </a:rPr>
              <a:t>Budget</a:t>
            </a: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8382240" cy="39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total : 82 000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établissements : 41 000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e financement UNIT : 41 000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gradFill rotWithShape="0">
            <a:gsLst>
              <a:gs pos="0">
                <a:srgbClr val="fdb603"/>
              </a:gs>
              <a:gs pos="50000">
                <a:srgbClr val="ffffff"/>
              </a:gs>
              <a:gs pos="100000">
                <a:srgbClr val="fdb603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8080"/>
                </a:solidFill>
                <a:latin typeface="Arial"/>
              </a:rPr>
              <a:t>Projet Chaîne Editoriale 2009</a:t>
            </a: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8382240" cy="39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a publication des ressources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ir la Chaîne Edito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rer formation et assistance à la Chaîne Edito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ir et enrichir le schéma pivot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’interaction de la Chaî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c ORI-OAI et e-s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gradFill rotWithShape="0">
            <a:gsLst>
              <a:gs pos="0">
                <a:srgbClr val="fdb603"/>
              </a:gs>
              <a:gs pos="50000">
                <a:srgbClr val="ffffff"/>
              </a:gs>
              <a:gs pos="100000">
                <a:srgbClr val="fdb603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8080"/>
                </a:solidFill>
                <a:latin typeface="Arial"/>
              </a:rPr>
              <a:t>Amélioration de la publication des ressources scientifiques</a:t>
            </a: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8382240" cy="39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méliorer la qualité de publication des formules de math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du code informatiqu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ublication des formules LaTex en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dentation et coloration syntaxique du l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gradFill rotWithShape="0">
            <a:gsLst>
              <a:gs pos="0">
                <a:srgbClr val="fdb603"/>
              </a:gs>
              <a:gs pos="50000">
                <a:srgbClr val="ffffff"/>
              </a:gs>
              <a:gs pos="100000">
                <a:srgbClr val="fdb603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8080"/>
                </a:solidFill>
                <a:latin typeface="Arial"/>
              </a:rPr>
              <a:t>Maintenance de la Chaîne Editoriale</a:t>
            </a: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8382240" cy="39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ser la Chaîne suite aux évolutio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ôle qualité par les utilis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e à jour de la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gradFill rotWithShape="0">
            <a:gsLst>
              <a:gs pos="0">
                <a:srgbClr val="fdb603"/>
              </a:gs>
              <a:gs pos="50000">
                <a:srgbClr val="ffffff"/>
              </a:gs>
              <a:gs pos="100000">
                <a:srgbClr val="fdb603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8080"/>
                </a:solidFill>
                <a:latin typeface="Arial"/>
              </a:rPr>
              <a:t>Formation et assistance</a:t>
            </a:r>
            <a:br>
              <a:rPr sz="3400"/>
            </a:br>
            <a:r>
              <a:rPr b="0" lang="en-US" sz="3400" spc="-1" strike="noStrike">
                <a:solidFill>
                  <a:srgbClr val="808080"/>
                </a:solidFill>
                <a:latin typeface="Arial"/>
              </a:rPr>
              <a:t>à la Chaîne Editoriale</a:t>
            </a: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8382240" cy="39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pagner les partenaires dans leur produc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alisation de formation-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e en place d’un dispositif d’assistance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daction de procédures types pour les res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gradFill rotWithShape="0">
            <a:gsLst>
              <a:gs pos="0">
                <a:srgbClr val="fdb603"/>
              </a:gs>
              <a:gs pos="50000">
                <a:srgbClr val="ffffff"/>
              </a:gs>
              <a:gs pos="100000">
                <a:srgbClr val="fdb603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8080"/>
                </a:solidFill>
                <a:latin typeface="Arial"/>
              </a:rPr>
              <a:t>Mise à jour du schéma pivot UNIT</a:t>
            </a: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8382240" cy="39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suivre les évolutions pédagogiques du schém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e à jour suite aux évolutions de la Chaî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e à jour des exports/im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ichissement de la D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gradFill rotWithShape="0">
            <a:gsLst>
              <a:gs pos="0">
                <a:srgbClr val="fdb603"/>
              </a:gs>
              <a:gs pos="50000">
                <a:srgbClr val="ffffff"/>
              </a:gs>
              <a:gs pos="100000">
                <a:srgbClr val="fdb603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808080"/>
                </a:solidFill>
                <a:latin typeface="Arial"/>
              </a:rPr>
              <a:t>Récupération des méta-données</a:t>
            </a:r>
            <a:br>
              <a:rPr sz="3400"/>
            </a:br>
            <a:r>
              <a:rPr b="0" lang="fr-FR" sz="3400" spc="-1" strike="noStrike">
                <a:solidFill>
                  <a:srgbClr val="808080"/>
                </a:solidFill>
                <a:latin typeface="Arial"/>
              </a:rPr>
              <a:t>dans ORI-OAI</a:t>
            </a: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8382240" cy="39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érer les méta-données de la Chaîne vers ORI-OA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richissement des méta-données de la Chaî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veloppement d’un générateur de fiches L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veloppement d’un système de transmiss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ers ORI-O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gradFill rotWithShape="0">
            <a:gsLst>
              <a:gs pos="0">
                <a:srgbClr val="fdb603"/>
              </a:gs>
              <a:gs pos="50000">
                <a:srgbClr val="ffffff"/>
              </a:gs>
              <a:gs pos="100000">
                <a:srgbClr val="fdb603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8080"/>
                </a:solidFill>
                <a:latin typeface="Arial"/>
              </a:rPr>
              <a:t>Intégration dans e-sup</a:t>
            </a: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8382240" cy="39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udier les possibilités d’intégra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la Chaîne dans l’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ude sur l’authentification 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ude sur le dépôt des documents dans Nuxé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305920" cy="1143000"/>
          </a:xfrm>
          <a:prstGeom prst="rect">
            <a:avLst/>
          </a:prstGeom>
          <a:gradFill rotWithShape="0">
            <a:gsLst>
              <a:gs pos="0">
                <a:srgbClr val="fdb603"/>
              </a:gs>
              <a:gs pos="50000">
                <a:srgbClr val="ffffff"/>
              </a:gs>
              <a:gs pos="100000">
                <a:srgbClr val="fdb603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8080"/>
                </a:solidFill>
                <a:latin typeface="Arial"/>
              </a:rPr>
              <a:t>Partenaires</a:t>
            </a: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2960" y="1981080"/>
            <a:ext cx="8382240" cy="39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STIMAC,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SI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iversité de Bordeau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iversité du M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ancy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iversité des Sciences et Technologies de Lill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578fd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iversité de Valenciennes et du Hainaut Cambré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6:10:44Z</dcterms:created>
  <dc:creator>SFC</dc:creator>
  <dc:description/>
  <dc:language>en-US</dc:language>
  <cp:lastModifiedBy>velutpri</cp:lastModifiedBy>
  <cp:lastPrinted>2001-06-18T11:57:55Z</cp:lastPrinted>
  <dcterms:modified xsi:type="dcterms:W3CDTF">2009-05-11T16:34:32Z</dcterms:modified>
  <cp:revision>180</cp:revision>
  <dc:subject/>
  <dc:title>Présentation PowerPoint</dc:title>
</cp:coreProperties>
</file>