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3080" y="45997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56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02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74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030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02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74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03080" y="3962520"/>
            <a:ext cx="7740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774036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03080" y="3962520"/>
            <a:ext cx="7740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56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03080" y="45997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56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202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37480" y="39625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030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202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37480" y="4599720"/>
            <a:ext cx="2492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774036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560" y="45997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0308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560" y="3962520"/>
            <a:ext cx="37771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03080" y="4599720"/>
            <a:ext cx="7740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d9616"/>
                </a:solidFill>
                <a:latin typeface="Verdana"/>
              </a:rPr>
              <a:t>Click to edit the title text format</a:t>
            </a: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0" y="838080"/>
            <a:ext cx="9144000" cy="3240"/>
          </a:xfrm>
          <a:prstGeom prst="line">
            <a:avLst/>
          </a:prstGeom>
          <a:ln w="6480">
            <a:solidFill>
              <a:srgbClr val="36a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2565360"/>
            <a:ext cx="85690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9616"/>
                </a:solidFill>
                <a:latin typeface="Verdana"/>
              </a:rPr>
              <a:t>CONSTITUTION D’UNE COMMUNAUTE GENIE DES PROCEDES POUR LA REALISATION DE PROJETS UNIT</a:t>
            </a:r>
            <a:br>
              <a:rPr sz="3900"/>
            </a:br>
            <a:r>
              <a:rPr b="1" lang="en-US" sz="3900" spc="-1" strike="noStrike">
                <a:solidFill>
                  <a:srgbClr val="fd9616"/>
                </a:solidFill>
                <a:latin typeface="Verdana"/>
              </a:rPr>
              <a:t> </a:t>
            </a: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84250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onstitution de communauté d’enseignants 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719280" y="5877000"/>
            <a:ext cx="8424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Verdana"/>
              </a:rPr>
              <a:t>Eric Schaer, pour Thierry Cachot &amp; Fabrice Mutele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Verdana"/>
              </a:rPr>
              <a:t>ENSIC &amp; Nancy-Université TI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CONTEXTE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91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Peu de ressources numériques en Génie des Procédés en France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Initiatives isolées (ENSIC-LUNO, A7, ENSCL, EMAC…)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Lancement par la FGL dans le cadre des projets Campus Numérique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33 ressources sur UNI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Besoin réel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édérer le développement de ressources numériques en Génie des Procédés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PROJET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réation d’une communauté Génie des Procédés pour la réalisation de projets dans le cadre d’UNI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Porteurs de projet : Thierry CACHOT (PR UHP) et Fabrice MUTELET (MCF INPL), Nancy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Volonté d’intégrer les différents acteurs françai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ommunauté FGL (A7 Toulouse, ENSGTI Pau, CPE Lyon…) et autres écoles (EMAC…)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ECHEANCIER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134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Recensement des établissements pouvant être impliqués,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Prise de contact, identification des correspondants TICEs, Constitution d’une communauté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Réunion, expression des besoins, rédaction de projets concertés, rédaction d’appels ciblés (?),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uivi de l’avancement des projet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BUDGET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Projet d’une durée d’un an,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Gestion de projet : 3000 euros,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Deux réunions au moins 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Prise de contact, identification des besoins,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omité de pilotage,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Rédaction d’appels à projets,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Prise en compte des frais de déplacements : 300 euros/réunion/participant :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11314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6000 euros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565360"/>
            <a:ext cx="85690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buClr>
                <a:srgbClr val="fe339d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9616"/>
                </a:solidFill>
                <a:latin typeface="Verdana"/>
              </a:rPr>
              <a:t>MERCI POUR VOTRE ATTENTION</a:t>
            </a:r>
            <a:br>
              <a:rPr sz="3900"/>
            </a:br>
            <a:r>
              <a:rPr b="1" lang="en-US" sz="3900" spc="-1" strike="noStrike">
                <a:solidFill>
                  <a:srgbClr val="fd9616"/>
                </a:solidFill>
                <a:latin typeface="Verdana"/>
              </a:rPr>
              <a:t> </a:t>
            </a:r>
            <a:endParaRPr b="1" lang="en-US" sz="3900" spc="-1" strike="noStrike">
              <a:solidFill>
                <a:srgbClr val="fd961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84250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Verdana"/>
              </a:rPr>
              <a:t>Eric Schaer, pour Thierry Cachot &amp; Fabrice Mutele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Verdana"/>
              </a:rPr>
              <a:t>ENSIC &amp; Nancy-Université TIC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18:00:09Z</dcterms:created>
  <dc:creator>Eric SCHAER</dc:creator>
  <dc:description/>
  <dc:language>en-US</dc:language>
  <cp:lastModifiedBy>Admin</cp:lastModifiedBy>
  <dcterms:modified xsi:type="dcterms:W3CDTF">2009-05-12T07:21:42Z</dcterms:modified>
  <cp:revision>39</cp:revision>
  <dc:subject/>
  <dc:title>Diapositive 1</dc:title>
</cp:coreProperties>
</file>