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3080" y="45997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56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02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74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030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02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74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03080" y="3962520"/>
            <a:ext cx="7740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774036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03080" y="3962520"/>
            <a:ext cx="7740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56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03080" y="45997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56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202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374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030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202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374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774036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56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d9616"/>
                </a:solidFill>
                <a:latin typeface="Verdana"/>
              </a:rPr>
              <a:t>Click to edit the title text format</a:t>
            </a: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0" y="838080"/>
            <a:ext cx="9144000" cy="3240"/>
          </a:xfrm>
          <a:prstGeom prst="line">
            <a:avLst/>
          </a:prstGeom>
          <a:ln w="6480">
            <a:solidFill>
              <a:srgbClr val="36a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Cours_TICE_Echangeurs/sommaire.pd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2565360"/>
            <a:ext cx="85690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9616"/>
                </a:solidFill>
                <a:latin typeface="Verdana"/>
              </a:rPr>
              <a:t>CONCEPTION ET DIMENSIONNEMENT DES ECHANGEURS DE CHALEUR</a:t>
            </a:r>
            <a:br>
              <a:rPr sz="3900"/>
            </a:br>
            <a:r>
              <a:rPr b="1" lang="en-US" sz="3900" spc="-1" strike="noStrike">
                <a:solidFill>
                  <a:srgbClr val="fd9616"/>
                </a:solidFill>
                <a:latin typeface="Verdana"/>
              </a:rPr>
              <a:t> </a:t>
            </a: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8425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apitalisation de ressources existantes 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RESULTATS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ELEVES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48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Questionnaire de satisfaction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1051560" indent="-21024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rès bonne appréciation !!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1892520" indent="-21024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80 % de retours positif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051560" indent="-21024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rme et fond jugés très satisfaisant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051560" indent="-21024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Proposent l'extension de la méthode à certains autres cour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051560" indent="-21024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Demandent plus de temps libr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051560" indent="-21024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Demandent un projet plus conséqu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RESULTATS 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ELEVES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hiffres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Utilisations partagées des documents papier et multimédia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onsultation fréquente du forum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90% de retour sur les quizz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Entre 10 et 20 heures d'autoformation estimées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RESULTATS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ENSEIGNANTS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0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Répartition de la promo en 4 groupes (d'où 4 tuteurs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Expérience très intéressant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emps consacré supérieur à la pédagogie classiqu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Demande beaucoup de disponibilité et de réactivité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RESULTATS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ENSEIGNANTS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41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Avan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4 séances de cours (6 h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4 séances de TD (6 h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1 exame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5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Aprè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1 séance d'introduction (1h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2 séances de TD (3 h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2 séances de projet (3 h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1 soutenance de proje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RESULTATS 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ONCEPTEURS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Ecriture et scénarisation du cours assez longue,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A faire avant la réalisation !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Scénarisation basée sur l'expérience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Beaucoup d'interactions avec l'infographiste et l'informaticien,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Découvertes des possibilités au fur et à mesure.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Risque d'en vouloir toujours plus !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BILAN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9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Participation active de l'étudiant à sa formation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d9616"/>
                </a:solidFill>
                <a:latin typeface="Verdana"/>
              </a:rPr>
              <a:t>OK !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Utilisation des technologies multimédia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d9616"/>
                </a:solidFill>
                <a:latin typeface="Verdana"/>
              </a:rPr>
              <a:t>OUI !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S'affranchir des contraintes d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1892520" indent="-21024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Lieu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d9616"/>
                </a:solidFill>
                <a:latin typeface="Verdana"/>
              </a:rPr>
              <a:t>Oui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892520" indent="-21024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Temps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d9616"/>
                </a:solidFill>
                <a:latin typeface="Verdana"/>
              </a:rPr>
              <a:t>Oui, même si…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Suivi personnalisé des étudiant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d9616"/>
                </a:solidFill>
                <a:latin typeface="Verdana"/>
              </a:rPr>
              <a:t>Assuré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BILAN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0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ntraînement au travail en groupe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d9616"/>
                </a:solidFill>
                <a:latin typeface="Verdana"/>
              </a:rPr>
              <a:t>OUI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d961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d9616"/>
                </a:solidFill>
                <a:latin typeface="Verdana"/>
              </a:rPr>
              <a:t>Préparation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 à la formation tout au long de la vie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iminution du volume horaire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d9616"/>
                </a:solidFill>
                <a:latin typeface="Verdana"/>
              </a:rPr>
              <a:t>OUI, en présent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1851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851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AUJOURD’HUI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640" y="1052280"/>
            <a:ext cx="7596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nimations ne fonctionnent plu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Réalisées sous Quick-Tim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Mises à jour nécessaires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Evolutions technologiques,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Ajouts,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Corrections…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…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mais très délicat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Format PDF pour l’ensemble du cour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el à projet UN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(avec accord FGL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51664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fd961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ECHEANCIER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134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Ingénierie pédagogique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Mise à jour du contenu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Production de nouvelles animations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Intégration sous </a:t>
            </a:r>
            <a:r>
              <a:rPr b="0" i="1" lang="fr-FR" sz="3200" spc="-1" strike="noStrike">
                <a:solidFill>
                  <a:srgbClr val="808080"/>
                </a:solidFill>
                <a:latin typeface="Verdana"/>
              </a:rPr>
              <a:t>scenari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Indexation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Ajustemen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Test &amp; Bilan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Verdana"/>
              </a:rPr>
              <a:t>Corrections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BUDGET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134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Verdana"/>
              </a:rPr>
              <a:t>Ingénierie pédagogique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Verdana"/>
              </a:rPr>
              <a:t>Mise à jour du contenu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961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d9616"/>
                </a:solidFill>
                <a:latin typeface="Verdana"/>
              </a:rPr>
              <a:t>Production de nouvelles 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d9616"/>
                </a:solidFill>
                <a:latin typeface="Verdana"/>
              </a:rPr>
              <a:t>animations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961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d9616"/>
                </a:solidFill>
                <a:latin typeface="Verdana"/>
              </a:rPr>
              <a:t>Intégration sous </a:t>
            </a:r>
            <a:r>
              <a:rPr b="0" i="1" lang="fr-FR" sz="3200" spc="-1" strike="noStrike">
                <a:solidFill>
                  <a:srgbClr val="fd9616"/>
                </a:solidFill>
                <a:latin typeface="Verdana"/>
              </a:rPr>
              <a:t>scenari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961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d9616"/>
                </a:solidFill>
                <a:latin typeface="Verdana"/>
              </a:rPr>
              <a:t>Indexation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961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d9616"/>
                </a:solidFill>
                <a:latin typeface="Verdana"/>
              </a:rPr>
              <a:t>Ajustemen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961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d9616"/>
                </a:solidFill>
                <a:latin typeface="Verdana"/>
              </a:rPr>
              <a:t>Test &amp; Bilan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961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d9616"/>
                </a:solidFill>
                <a:latin typeface="Verdana"/>
              </a:rPr>
              <a:t>Corrections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72080" y="623736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Budget total : 40 keuro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4720" y="35002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9616"/>
                </a:solidFill>
                <a:latin typeface="Verdana"/>
              </a:rPr>
              <a:t>Ingénieur multimédia,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9616"/>
                </a:solidFill>
                <a:latin typeface="Verdana"/>
              </a:rPr>
              <a:t>Graphiste, intégrateur…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1484280"/>
            <a:ext cx="288720" cy="936720"/>
          </a:xfrm>
          <a:custGeom>
            <a:avLst/>
            <a:gdLst>
              <a:gd name="textAreaLeft" fmla="*/ 0 w 288720"/>
              <a:gd name="textAreaRight" fmla="*/ 202680 w 28872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2637000"/>
            <a:ext cx="433080" cy="3384360"/>
          </a:xfrm>
          <a:custGeom>
            <a:avLst/>
            <a:gdLst>
              <a:gd name="textAreaLeft" fmla="*/ 0 w 433080"/>
              <a:gd name="textAreaRight" fmla="*/ 303840 w 433080"/>
              <a:gd name="textAreaTop" fmla="*/ 140760 h 3384360"/>
              <a:gd name="textAreaBottom" fmla="*/ 324360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d9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54880" y="623736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emande UNIT : 20 keuro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1628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Enseignant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TICE ?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Verdana"/>
              </a:rPr>
              <a:t>T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echnologies de l'</a:t>
            </a:r>
            <a:r>
              <a:rPr b="1" lang="en-US" sz="3200" spc="-1" strike="noStrike">
                <a:solidFill>
                  <a:srgbClr val="80808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nformation et de la </a:t>
            </a:r>
            <a:r>
              <a:rPr b="1" lang="en-US" sz="3200" spc="-1" strike="noStrike">
                <a:solidFill>
                  <a:srgbClr val="80808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ommunication pour l'</a:t>
            </a:r>
            <a:r>
              <a:rPr b="1" lang="en-US" sz="3200" spc="-1" strike="noStrike">
                <a:solidFill>
                  <a:srgbClr val="808080"/>
                </a:solidFill>
                <a:latin typeface="Verdana"/>
              </a:rPr>
              <a:t>E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nseignement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"</a:t>
            </a:r>
            <a:r>
              <a:rPr b="1" lang="en-US" sz="3200" spc="-1" strike="noStrike">
                <a:solidFill>
                  <a:srgbClr val="808080"/>
                </a:solidFill>
                <a:latin typeface="Verdana"/>
              </a:rPr>
              <a:t>TICE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"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ours classique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ours multimédia en ligne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1913040" indent="-2124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Animations, films, sons, liens…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913040" indent="-2124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Exercices interactif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913040" indent="-2124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Progression interactive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utorat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1913040" indent="-2124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Forum de discussion (synchrone ou non),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913040" indent="-2124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Utilisation des email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2421000"/>
            <a:ext cx="1008000" cy="287280"/>
          </a:xfrm>
          <a:prstGeom prst="rightArrow">
            <a:avLst>
              <a:gd name="adj1" fmla="val 50000"/>
              <a:gd name="adj2" fmla="val 87719"/>
            </a:avLst>
          </a:prstGeom>
          <a:solidFill>
            <a:srgbClr val="fd961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2565360"/>
            <a:ext cx="85690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9616"/>
                </a:solidFill>
                <a:latin typeface="Verdana"/>
              </a:rPr>
              <a:t>MERCI POUR VOTRE ATTENTION</a:t>
            </a:r>
            <a:br>
              <a:rPr sz="3900"/>
            </a:br>
            <a:r>
              <a:rPr b="1" lang="en-US" sz="3900" spc="-1" strike="noStrike">
                <a:solidFill>
                  <a:srgbClr val="fd9616"/>
                </a:solidFill>
                <a:latin typeface="Verdana"/>
              </a:rPr>
              <a:t> </a:t>
            </a: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8425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Eric Schaer, Angélique Froger, François Marron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ENSIC &amp; Nancy-Université TIC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POURQUOI ?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9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Participation active de l'étudiant à sa formation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Utilisation des technologies multimédia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S'affranchir des contraintes 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Lieu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Temps,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Suivi personnalisé des étudiant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POURQUOI ?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0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Entraînement au travail en groupe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Entraînement à la formation tout au long de la vie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Diminution du volume horaire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Mieux retenir les informations 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86900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fd961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DEVELOPPEMENT D’UN 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OURS TICE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Par la Fédération Gay Lussac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(19 écoles de chimie et Génie Chimique françaises)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 dans le cadre des Projets Campus Numérique, en 2002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19954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Groupe de travai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3" marL="1551960" indent="-2214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2 enseignants (ENSIC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551960" indent="-2214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1 informaticien / coordonnateur (FGL)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551960" indent="-2214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1 infographiste (FGL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55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551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Appliqué au Dimensionnement des Echangeurs de Chaleu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589720"/>
            <a:ext cx="936720" cy="288720"/>
          </a:xfrm>
          <a:prstGeom prst="rightArrow">
            <a:avLst>
              <a:gd name="adj1" fmla="val 50000"/>
              <a:gd name="adj2" fmla="val 81110"/>
            </a:avLst>
          </a:prstGeom>
          <a:solidFill>
            <a:srgbClr val="fd961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ECHANGEURS DE CHALEUR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e6"/>
                </a:solidFill>
                <a:uFillTx/>
                <a:latin typeface="Verdana"/>
                <a:hlinkClick r:id="rId1"/>
              </a:rPr>
              <a:t>Cours</a:t>
            </a:r>
            <a:r>
              <a:rPr b="0" lang="en-US" sz="3200" spc="-1" strike="noStrike" u="sng">
                <a:solidFill>
                  <a:srgbClr val="808080"/>
                </a:solidFill>
                <a:uFillTx/>
                <a:latin typeface="Verdana"/>
              </a:rPr>
              <a:t> de 30 heures (élève)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8 chapitres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Introduction, Méthode Générale, Conclusion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Echangeurs tubes calandre, à plaques, condenseurs, évaporateurs, réacteur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Animations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Images interactives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Exercices avec solutions graduelles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Nomenclature interactiv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PEDAGOGIE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ours proposé depuis 2002 aux élèves de seconde année de l'ENSIC &amp; </a:t>
            </a: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Mutualisé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 au sein de la FG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uppression des cours magistraux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Poly classique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Poly multimédia en ligne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rum de discussion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Quizz en ligne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Mails aux enseignants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Possibilité de rencontrer les enseignant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PEDAGOGIE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0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1 mois d'auto apprentissage suivant la séance de présentation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1954440" indent="-21708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Possibilité pour les élèves de travailler à l'école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954440" indent="-21708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Ou chez eux (mise à disposition du cours sur intranet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3 séances de cours libérées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(temps libre pour les élèves)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onsultation croissante du s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Utilisation régulière du Foru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PEDAGOGIE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0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Deux séances de TD de consolidation, durant le mois suivant la présentation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1974960" indent="-21924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Bon niveau de participation et de compréhension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Projets (par groupes de 3) sur le dimensionnement d'un échangeur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1974960" indent="-21924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Cahier des charges,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974960" indent="-21924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Données physico-chimiques disponib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Deux séances de travail sur les projets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1974960" indent="-21924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Possibilité de contacter les enseignants hors séances de TD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18:00:09Z</dcterms:created>
  <dc:creator>Eric SCHAER</dc:creator>
  <dc:description/>
  <dc:language>en-US</dc:language>
  <cp:lastModifiedBy>Admin</cp:lastModifiedBy>
  <dcterms:modified xsi:type="dcterms:W3CDTF">2009-05-12T08:14:13Z</dcterms:modified>
  <cp:revision>34</cp:revision>
  <dc:subject/>
  <dc:title>Diapositive 1</dc:title>
</cp:coreProperties>
</file>