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B5EC-34F1-4546-9021-EEBBBBEACB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E3B4-64E0-47BB-A687-2380CF0B1C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192-8250-4B4F-8655-F78262CF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824-1DEF-425E-AC8B-B4DE450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9A0-3814-40D3-A5C9-C49F22C4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49D-B415-434A-8356-0CE99664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EA4-2A43-4AFC-9095-B0063F16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CBD-9146-4F66-AF77-EA9B3F14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CB2-8FE4-4577-ACAC-B758F74A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A4D-0860-42EA-83F1-0A44E81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C80-1A6E-4ED6-9AB4-EF71573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6C0-A25F-4300-A116-C26247C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807-E733-4B1F-A91F-FCBB15F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A15-36D5-471C-8059-107C1E9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C67-35A4-46EA-A3AB-78D5768C7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file:///fr/enpc/ecole_mouvement/sciences-humaines.htm%3Fsr=3&amp;ur=5" TargetMode="External"/><Relationship Id="rId5" Type="http://schemas.openxmlformats.org/officeDocument/2006/relationships/hyperlink" Target="file:///fr/enpc/ecole_mouvement/ingenierie-mathematique.htm%3Fsr=3&amp;ur=6" TargetMode="External"/><Relationship Id="rId6" Type="http://schemas.openxmlformats.org/officeDocument/2006/relationships/hyperlink" Target="file:///fr/enpc/ecole_mouvement/sciences-humaines.htm%3Fsr=3&amp;ur=5" TargetMode="External"/><Relationship Id="rId7" Type="http://schemas.openxmlformats.org/officeDocument/2006/relationships/hyperlink" Target="file:///fr/enpc/ecole_mouvement/genie-mecanique.htm%3Fsr=3&amp;ur=4" TargetMode="External"/><Relationship Id="rId8" Type="http://schemas.openxmlformats.org/officeDocument/2006/relationships/hyperlink" Target="file:///fr/enpc/ecole_mouvement/management-industriel.htm%3Fsr=3&amp;ur=3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hyperlink" Target="file:///fr/enpc/ecole_mouvement/environnement-ville.htm%3Fsr=3&amp;ur=1" TargetMode="External"/><Relationship Id="rId11" Type="http://schemas.openxmlformats.org/officeDocument/2006/relationships/hyperlink" Target="file:///fr/enpc/ecole_mouvement/genie-civil.htm%3Fsr=3&amp;ur=2" TargetMode="External"/><Relationship Id="rId12" Type="http://schemas.openxmlformats.org/officeDocument/2006/relationships/hyperlink" Target="file:///fr/enpc/ecole_mouvement/environnement-ville.htm%3Fsr=3&amp;ur=1" TargetMode="Externa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image" Target="../media/image2.wm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2.wmf"/><Relationship Id="rId12" Type="http://schemas.openxmlformats.org/officeDocument/2006/relationships/image" Target="../media/image5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8.png"/><Relationship Id="rId11" Type="http://schemas.openxmlformats.org/officeDocument/2006/relationships/image" Target="../media/image2.wmf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r/enpc/ecole_mouvement/sciences-humaines.htm%3Fsr=3&amp;ur=5" TargetMode="External"/><Relationship Id="rId2" Type="http://schemas.openxmlformats.org/officeDocument/2006/relationships/hyperlink" Target="file:///fr/enpc/ecole_mouvement/ingenierie-mathematique.htm%3Fsr=3&amp;ur=6" TargetMode="External"/><Relationship Id="rId3" Type="http://schemas.openxmlformats.org/officeDocument/2006/relationships/hyperlink" Target="file:///fr/enpc/ecole_mouvement/sciences-humaines.htm%3Fsr=3&amp;ur=5" TargetMode="External"/><Relationship Id="rId4" Type="http://schemas.openxmlformats.org/officeDocument/2006/relationships/hyperlink" Target="file:///fr/enpc/ecole_mouvement/genie-mecanique.htm%3Fsr=3&amp;ur=4" TargetMode="External"/><Relationship Id="rId5" Type="http://schemas.openxmlformats.org/officeDocument/2006/relationships/hyperlink" Target="file:///fr/enpc/ecole_mouvement/management-industriel.htm%3Fsr=3&amp;ur=3" TargetMode="External"/><Relationship Id="rId6" Type="http://schemas.openxmlformats.org/officeDocument/2006/relationships/hyperlink" Target="file:///fr/enpc/ecole_mouvement/environnement-ville.htm%3Fsr=3&amp;ur=1" TargetMode="External"/><Relationship Id="rId7" Type="http://schemas.openxmlformats.org/officeDocument/2006/relationships/hyperlink" Target="file:///fr/enpc/ecole_mouvement/environnement-ville.htm%3Fsr=3&amp;ur=1" TargetMode="External"/><Relationship Id="rId8" Type="http://schemas.openxmlformats.org/officeDocument/2006/relationships/hyperlink" Target="file:///fr/enpc/ecole_mouvement/genie-civil.htm%3Fsr=3&amp;ur=2" TargetMode="External"/><Relationship Id="rId9" Type="http://schemas.openxmlformats.org/officeDocument/2006/relationships/hyperlink" Target="file:///fr/enpc/ecole_mouvement/environnement-ville.htm%3Fsr=3&amp;ur=1" TargetMode="External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8" descr="Galillee3.jpg"/>
          <p:cNvPicPr/>
          <p:nvPr/>
        </p:nvPicPr>
        <p:blipFill>
          <a:blip r:embed="rId1"/>
          <a:stretch/>
        </p:blipFill>
        <p:spPr>
          <a:xfrm>
            <a:off x="2500200" y="2100240"/>
            <a:ext cx="1306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1942920" cy="954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5840" y="21430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Rockwell Extra Bold"/>
              </a:rPr>
              <a:t>ROCK MECH. 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PPUR SI MUOV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5"/>
          <p:cNvSpPr/>
          <p:nvPr/>
        </p:nvSpPr>
        <p:spPr>
          <a:xfrm>
            <a:off x="642960" y="32860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seignement par 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qu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oblèmes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ges e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our d’Expérience 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U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tion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g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2357280" y="14968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EL à PROJ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85840" y="648828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Printemps d’UNIT 2009                12 – 14 mai 2009              Ecole des Mines de Saint-Et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6600" y="162000"/>
            <a:ext cx="2471760" cy="19259640"/>
            <a:chOff x="66600" y="162000"/>
            <a:chExt cx="2471760" cy="19259640"/>
          </a:xfrm>
        </p:grpSpPr>
        <p:pic>
          <p:nvPicPr>
            <p:cNvPr id="55" name="Picture 6" descr="les domaines d'excellence de l'école : environnement, génie civil, transport, urbanisme, génie industriel, génie mécanique, économie, mathématiques, finances"/>
            <p:cNvPicPr/>
            <p:nvPr/>
          </p:nvPicPr>
          <p:blipFill>
            <a:blip r:embed="rId3"/>
            <a:stretch/>
          </p:blipFill>
          <p:spPr>
            <a:xfrm>
              <a:off x="243000" y="18440280"/>
              <a:ext cx="22953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Freeform 15">
              <a:hlinkClick r:id="rId4"/>
            </p:cNvPr>
            <p:cNvSpPr/>
            <p:nvPr/>
          </p:nvSpPr>
          <p:spPr>
            <a:xfrm>
              <a:off x="1600200" y="53352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>
              <a:hlinkClick r:id="rId5"/>
            </p:cNvPr>
            <p:cNvSpPr/>
            <p:nvPr/>
          </p:nvSpPr>
          <p:spPr>
            <a:xfrm>
              <a:off x="1428840" y="20952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>
              <a:hlinkClick r:id="rId6"/>
            </p:cNvPr>
            <p:cNvSpPr/>
            <p:nvPr/>
          </p:nvSpPr>
          <p:spPr>
            <a:xfrm>
              <a:off x="1219320" y="47628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>
              <a:hlinkClick r:id="rId7"/>
            </p:cNvPr>
            <p:cNvSpPr/>
            <p:nvPr/>
          </p:nvSpPr>
          <p:spPr>
            <a:xfrm>
              <a:off x="1028880" y="16200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>
              <a:hlinkClick r:id="rId8"/>
            </p:cNvPr>
            <p:cNvSpPr/>
            <p:nvPr/>
          </p:nvSpPr>
          <p:spPr>
            <a:xfrm>
              <a:off x="838080" y="20952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>
              <a:hlinkClick r:id="rId9"/>
            </p:cNvPr>
            <p:cNvSpPr/>
            <p:nvPr/>
          </p:nvSpPr>
          <p:spPr>
            <a:xfrm>
              <a:off x="657360" y="43812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">
              <a:hlinkClick r:id="rId10"/>
            </p:cNvPr>
            <p:cNvSpPr/>
            <p:nvPr/>
          </p:nvSpPr>
          <p:spPr>
            <a:xfrm>
              <a:off x="457200" y="4953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>
              <a:hlinkClick r:id="rId11"/>
            </p:cNvPr>
            <p:cNvSpPr/>
            <p:nvPr/>
          </p:nvSpPr>
          <p:spPr>
            <a:xfrm>
              <a:off x="257040" y="466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">
              <a:hlinkClick r:id="rId12"/>
            </p:cNvPr>
            <p:cNvSpPr/>
            <p:nvPr/>
          </p:nvSpPr>
          <p:spPr>
            <a:xfrm>
              <a:off x="66600" y="2379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7" descr="C:\Documents and Settings\Marc.Vinches\Bureau\ENPCs.gif"/>
          <p:cNvPicPr/>
          <p:nvPr/>
        </p:nvPicPr>
        <p:blipFill>
          <a:blip r:embed="rId13"/>
          <a:stretch/>
        </p:blipFill>
        <p:spPr>
          <a:xfrm>
            <a:off x="4567320" y="3424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304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897-3596-438A-A00B-2BE16E4C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14"/>
          <p:cNvSpPr/>
          <p:nvPr/>
        </p:nvSpPr>
        <p:spPr>
          <a:xfrm>
            <a:off x="1143000" y="214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PPUR SI MUOVE »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en ça coû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15"/>
          <p:cNvSpPr/>
          <p:nvPr/>
        </p:nvSpPr>
        <p:spPr>
          <a:xfrm>
            <a:off x="0" y="71424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ée 1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dget total: (12+(6 x 8))= 60 k€, subventionnés à 5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0 000€ HT demandés à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8 000 Euros HT, temps passé rédaction/médiatisation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épartis 50% UNIT et 50% établiss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 000 Euros HT, coordination 50% UNIT + 50% établissements (ENPC-MINES 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ée 2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dget total : (14+(6*11)= 80 k€, subventionnés à 5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0 000€ HT demandés à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6 000 Euros HT, temps passé rédaction/médiatisa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épartis 50% UNIT et 50% établiss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4 000 Euros HT, coordination 50% UNIT + 50% établissements (ENPC-MINES 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e 16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317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318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0" name="Image 18" descr="Galillee3.jpg"/>
            <p:cNvPicPr/>
            <p:nvPr/>
          </p:nvPicPr>
          <p:blipFill>
            <a:blip r:embed="rId11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322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637-0FEE-4A9B-8EC5-1CC1CD4E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14"/>
          <p:cNvSpPr/>
          <p:nvPr/>
        </p:nvSpPr>
        <p:spPr>
          <a:xfrm>
            <a:off x="1143000" y="214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FR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PPUR SI MUOVE » 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ù vont les sou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oneTexte 20"/>
          <p:cNvSpPr/>
          <p:nvPr/>
        </p:nvSpPr>
        <p:spPr>
          <a:xfrm>
            <a:off x="857160" y="642960"/>
            <a:ext cx="9001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se en place du comité de pilotage, et répartition affinée des tâches 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ion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mière série de cours,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ersion provisoire : 4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amen, correction, re-examen et validation finale de la première série de cours 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ion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uxième série de c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en version provisoire : 4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amen, correction, re-examen et validation finale de la deuxième série de cours 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ordination d’étape, relecture finale et mise en ligne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int d’arrêt possible à cette phase du programme par le Comité de Pilotage d’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ion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isième série de cours,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ersion provisoire : 5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amen, correction, re-examen et validation finale de la première série de cours : 2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ion de la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quatrième série de cour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, en version provisoire : 3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amen, correction, re-examen et validation finale de la quatrième série de cours 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ordination finale, relecture finale et mise en ligne: 1 m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oneTexte 21"/>
          <p:cNvSpPr/>
          <p:nvPr/>
        </p:nvSpPr>
        <p:spPr>
          <a:xfrm>
            <a:off x="285840" y="485784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synthèse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 bout de 12 mois : disponibilité de deux séries de cour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ec exercices en ligne, et progression pédagogique sur les divers concepts de base de la Mécanique des Roches et la Simulation des Ouvr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u bout de 24 mois : disponibilité de deux autres séries de cour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r des cas d’étude variés et d’une bibliographie critique et détaillée sur des sujets non traités dans les études de 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e 17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336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337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fr-FR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9" name="Image 20" descr="Galillee3.jpg"/>
            <p:cNvPicPr/>
            <p:nvPr/>
          </p:nvPicPr>
          <p:blipFill>
            <a:blip r:embed="rId11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341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"/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5A1-B4A4-468C-8138-1C4F86FF1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14"/>
          <p:cNvSpPr/>
          <p:nvPr/>
        </p:nvSpPr>
        <p:spPr>
          <a:xfrm>
            <a:off x="1143000" y="214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PPUR SI MUOVE »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ù vont les sous ?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21"/>
          <p:cNvSpPr/>
          <p:nvPr/>
        </p:nvSpPr>
        <p:spPr>
          <a:xfrm>
            <a:off x="214200" y="92880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yens humains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: Enseignants-chercheurs des établissements partenaires, avec soutien acquis de leur service NTE/ 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: Enseignants-chercheurs EMA/ENPC : un total de quatre semaines/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yens matéri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: Coût marginal pris en charge par les établiss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is de mission inclus dans les coûts charg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tion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s plénières régulières avec coordinateurs (2 fois par a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s bilatérales selon sujets tra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évision d’une fois par trimestre de l’établissement i avec coordination, i=1 à 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e 16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354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355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6" name="Picture 2" descr=""/>
              <p:cNvPicPr/>
              <p:nvPr/>
            </p:nvPicPr>
            <p:blipFill>
              <a:blip r:embed="rId7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7" name="Image 18" descr="Galillee3.jpg"/>
            <p:cNvPicPr/>
            <p:nvPr/>
          </p:nvPicPr>
          <p:blipFill>
            <a:blip r:embed="rId8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age 63" descr="Galillee3.jpg"/>
          <p:cNvPicPr/>
          <p:nvPr/>
        </p:nvPicPr>
        <p:blipFill>
          <a:blip r:embed="rId1"/>
          <a:stretch/>
        </p:blipFill>
        <p:spPr>
          <a:xfrm>
            <a:off x="2357280" y="285840"/>
            <a:ext cx="1143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e 40"/>
          <p:cNvGrpSpPr/>
          <p:nvPr/>
        </p:nvGrpSpPr>
        <p:grpSpPr>
          <a:xfrm>
            <a:off x="142920" y="500040"/>
            <a:ext cx="9144000" cy="2131200"/>
            <a:chOff x="142920" y="500040"/>
            <a:chExt cx="9144000" cy="2131200"/>
          </a:xfrm>
        </p:grpSpPr>
        <p:sp>
          <p:nvSpPr>
            <p:cNvPr id="360" name="Rectangle 3"/>
            <p:cNvSpPr/>
            <p:nvPr/>
          </p:nvSpPr>
          <p:spPr>
            <a:xfrm>
              <a:off x="2214360" y="50004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Rockwell Extra Bold"/>
                </a:rPr>
                <a:t>ROCK MECH. 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EPPUR SI MUOVE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142920" y="171432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E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nseignement par la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P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ratique :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P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roblèmes,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U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sages et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etour d’Expérience :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SIMU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lation des 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O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u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V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rag</a:t>
              </a:r>
              <a:r>
                <a:rPr b="1" lang="fr-FR" sz="1800" spc="-1" strike="noStrike">
                  <a:solidFill>
                    <a:srgbClr val="000000"/>
                  </a:solidFill>
                  <a:latin typeface="Perpetua"/>
                </a:rPr>
                <a:t>E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Connecteur droit avec flèche 6"/>
            <p:cNvCxnSpPr/>
            <p:nvPr/>
          </p:nvCxnSpPr>
          <p:spPr>
            <a:xfrm flipH="1">
              <a:off x="499680" y="1284840"/>
              <a:ext cx="321552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3" name="Connecteur droit avec flèche 7"/>
            <p:cNvCxnSpPr/>
            <p:nvPr/>
          </p:nvCxnSpPr>
          <p:spPr>
            <a:xfrm flipH="1">
              <a:off x="2142720" y="1284840"/>
              <a:ext cx="16437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4" name="Connecteur droit avec flèche 8"/>
            <p:cNvCxnSpPr/>
            <p:nvPr/>
          </p:nvCxnSpPr>
          <p:spPr>
            <a:xfrm flipH="1">
              <a:off x="3142800" y="1284840"/>
              <a:ext cx="78624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5" name="Connecteur droit avec flèche 9"/>
            <p:cNvCxnSpPr/>
            <p:nvPr/>
          </p:nvCxnSpPr>
          <p:spPr>
            <a:xfrm flipH="1">
              <a:off x="4071600" y="1285560"/>
              <a:ext cx="21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6" name="Connecteur droit avec flèche 10"/>
            <p:cNvCxnSpPr/>
            <p:nvPr/>
          </p:nvCxnSpPr>
          <p:spPr>
            <a:xfrm>
              <a:off x="4214880" y="1285560"/>
              <a:ext cx="64332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7" name="Connecteur droit avec flèche 11"/>
            <p:cNvCxnSpPr/>
            <p:nvPr/>
          </p:nvCxnSpPr>
          <p:spPr>
            <a:xfrm>
              <a:off x="4643280" y="1285560"/>
              <a:ext cx="214380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8" name="Connecteur droit avec flèche 12"/>
            <p:cNvCxnSpPr/>
            <p:nvPr/>
          </p:nvCxnSpPr>
          <p:spPr>
            <a:xfrm>
              <a:off x="4786200" y="1285560"/>
              <a:ext cx="235800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9" name="Connecteur droit avec flèche 13"/>
            <p:cNvCxnSpPr/>
            <p:nvPr/>
          </p:nvCxnSpPr>
          <p:spPr>
            <a:xfrm>
              <a:off x="5000400" y="1285560"/>
              <a:ext cx="314388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0" name="Connecteur droit avec flèche 14"/>
            <p:cNvCxnSpPr/>
            <p:nvPr/>
          </p:nvCxnSpPr>
          <p:spPr>
            <a:xfrm>
              <a:off x="5143680" y="1285560"/>
              <a:ext cx="328680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1" name="Connecteur droit avec flèche 15"/>
            <p:cNvCxnSpPr/>
            <p:nvPr/>
          </p:nvCxnSpPr>
          <p:spPr>
            <a:xfrm>
              <a:off x="5214960" y="1285560"/>
              <a:ext cx="364392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2" name="Groupe 51"/>
          <p:cNvGrpSpPr/>
          <p:nvPr/>
        </p:nvGrpSpPr>
        <p:grpSpPr>
          <a:xfrm>
            <a:off x="214200" y="2071800"/>
            <a:ext cx="8643960" cy="4713840"/>
            <a:chOff x="214200" y="2071800"/>
            <a:chExt cx="8643960" cy="4713840"/>
          </a:xfrm>
        </p:grpSpPr>
        <p:sp>
          <p:nvSpPr>
            <p:cNvPr id="373" name="Rectangle 41"/>
            <p:cNvSpPr/>
            <p:nvPr/>
          </p:nvSpPr>
          <p:spPr>
            <a:xfrm>
              <a:off x="3429000" y="6325200"/>
              <a:ext cx="4929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Cette image est dans le </a:t>
              </a:r>
              <a:r>
                <a:rPr b="1" i="1" lang="fr-FR" sz="800" spc="-1" strike="noStrike">
                  <a:solidFill>
                    <a:srgbClr val="000000"/>
                  </a:solidFill>
                  <a:latin typeface="Arial"/>
                </a:rPr>
                <a:t>domaine public</a:t>
              </a: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 car son copyright a </a:t>
              </a:r>
              <a:r>
                <a:rPr b="1" i="1" lang="fr-FR" sz="800" spc="-1" strike="noStrike">
                  <a:solidFill>
                    <a:srgbClr val="000000"/>
                  </a:solidFill>
                  <a:latin typeface="Arial"/>
                </a:rPr>
                <a:t>expiré</a:t>
              </a: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800"/>
              </a:b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Ceci est valable aux États-Unis d’Amérique, au Canada, ainsi que dans l’Union Européenne et dans les pays où le copyright a une durée de vie de </a:t>
              </a:r>
              <a:r>
                <a:rPr b="1" i="1" lang="fr-FR" sz="800" spc="-1" strike="noStrike">
                  <a:solidFill>
                    <a:srgbClr val="000000"/>
                  </a:solidFill>
                  <a:latin typeface="Arial"/>
                </a:rPr>
                <a:t>70 ans ou moins après la mort de l’auteur</a:t>
              </a: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Image 43" descr="391px-Galileo_script_arp_600pix_jpg.jpg"/>
            <p:cNvPicPr/>
            <p:nvPr/>
          </p:nvPicPr>
          <p:blipFill>
            <a:blip r:embed="rId2"/>
            <a:stretch/>
          </p:blipFill>
          <p:spPr>
            <a:xfrm>
              <a:off x="214200" y="2071800"/>
              <a:ext cx="3071880" cy="47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ZoneTexte 44"/>
            <p:cNvSpPr/>
            <p:nvPr/>
          </p:nvSpPr>
          <p:spPr>
            <a:xfrm>
              <a:off x="3429000" y="2071800"/>
              <a:ext cx="5429160" cy="40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e 7 janvier 1610, Galileo Galilei , sur la base d’observations à la lunette, découvre le premier la Mécanique de Roches gravitant autour de Jupiter … qui deviendront des « satellites » après la parution de la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« Narratio »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 Kepler, en septembre de la même année 16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Le Messager des Etoiles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era la retranscription par Galilée de ces observations. Ci-contre les notes manuscrites historiques de Galilée décrivant pour la première fois les lunes de Jupit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l y aura bientôt 400 ans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éférence : http://fr.wikipedia.org/wiki/Galileo_Galilei#De_1606_.C3.A0_16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e 62"/>
          <p:cNvGrpSpPr/>
          <p:nvPr/>
        </p:nvGrpSpPr>
        <p:grpSpPr>
          <a:xfrm>
            <a:off x="2286000" y="5715000"/>
            <a:ext cx="6724800" cy="928800"/>
            <a:chOff x="2286000" y="5715000"/>
            <a:chExt cx="6724800" cy="928800"/>
          </a:xfrm>
        </p:grpSpPr>
        <p:pic>
          <p:nvPicPr>
            <p:cNvPr id="377" name="Image 45" descr="Galillee3.jpg"/>
            <p:cNvPicPr/>
            <p:nvPr/>
          </p:nvPicPr>
          <p:blipFill>
            <a:blip r:embed="rId3"/>
            <a:stretch/>
          </p:blipFill>
          <p:spPr>
            <a:xfrm>
              <a:off x="8347680" y="5715000"/>
              <a:ext cx="663120" cy="928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8" name="Connecteur droit avec flèche 47"/>
            <p:cNvCxnSpPr/>
            <p:nvPr/>
          </p:nvCxnSpPr>
          <p:spPr>
            <a:xfrm>
              <a:off x="2286000" y="6215040"/>
              <a:ext cx="6073200" cy="2160"/>
            </a:xfrm>
            <a:prstGeom prst="straightConnector1">
              <a:avLst/>
            </a:prstGeom>
            <a:ln w="6984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Image 3" descr="Galillee3.jpg"/>
          <p:cNvPicPr/>
          <p:nvPr/>
        </p:nvPicPr>
        <p:blipFill>
          <a:blip r:embed="rId1"/>
          <a:stretch/>
        </p:blipFill>
        <p:spPr>
          <a:xfrm>
            <a:off x="1000080" y="1000080"/>
            <a:ext cx="3132360" cy="43862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2928960" y="2286000"/>
            <a:ext cx="521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ROCK MECH.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EPPUR SI MUOV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écanique des ro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67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2" descr=""/>
          <p:cNvPicPr/>
          <p:nvPr/>
        </p:nvPicPr>
        <p:blipFill>
          <a:blip r:embed="rId10"/>
          <a:stretch/>
        </p:blipFill>
        <p:spPr>
          <a:xfrm>
            <a:off x="7051680" y="6354720"/>
            <a:ext cx="87804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248E-A15F-404E-961F-031E7376C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0"/>
          <p:cNvSpPr/>
          <p:nvPr/>
        </p:nvSpPr>
        <p:spPr>
          <a:xfrm>
            <a:off x="891720" y="642960"/>
            <a:ext cx="568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e du proje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 à la demande expresse du Conseil de l’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à proj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21"/>
          <p:cNvSpPr/>
          <p:nvPr/>
        </p:nvSpPr>
        <p:spPr>
          <a:xfrm>
            <a:off x="862560" y="2714760"/>
            <a:ext cx="725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objecti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der la mécanique des roches à travers des cas réels complexes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t certains ont conduit à des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ér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avoirs mais plus encore des savoirs fai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logiques de ré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modes opéra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il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critique des modè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prise en compte de la variabilité de la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prise en compte de la nécessité des compr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ques, technico-économiques, et soci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e 17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sp>
          <p:nvSpPr>
            <p:cNvPr id="81" name="ZoneTexte 7"/>
            <p:cNvSpPr/>
            <p:nvPr/>
          </p:nvSpPr>
          <p:spPr>
            <a:xfrm>
              <a:off x="142560" y="6286320"/>
              <a:ext cx="885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ckwell Extra Bold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ckwell Extra Bold"/>
                </a:rPr>
                <a:t>ROCK MECH.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ntemps d’UNIT 2009                                       12 – 14 mai 2009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rpetua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Perpetua"/>
                </a:rPr>
                <a:t>EPPUR SI MUOVE                                                    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Ecole des Mines de Saint-Etienn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Image 16" descr="Galillee3.jpg"/>
            <p:cNvPicPr/>
            <p:nvPr/>
          </p:nvPicPr>
          <p:blipFill>
            <a:blip r:embed="rId11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84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CB8-5F29-4C95-A9F3-02039D52C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4"/>
          <p:cNvSpPr/>
          <p:nvPr/>
        </p:nvSpPr>
        <p:spPr>
          <a:xfrm>
            <a:off x="214200" y="28584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artenaires initiau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cole des Mines d’ Al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cole des Mines de 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cole des Mines de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cole Nationale des Ponts et Chaus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ytech'Grenoble (Université Grenobl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université Pierre et Marie Curie (Paris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5"/>
          <p:cNvSpPr/>
          <p:nvPr/>
        </p:nvSpPr>
        <p:spPr>
          <a:xfrm>
            <a:off x="5572080" y="500040"/>
            <a:ext cx="3143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6"/>
          <p:cNvSpPr/>
          <p:nvPr/>
        </p:nvSpPr>
        <p:spPr>
          <a:xfrm>
            <a:off x="4786200" y="422280"/>
            <a:ext cx="477072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es correspondants et responsables internes à chaque établissement, ayant signifié leur accor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c VINCHES, Maître -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ponsable du projet Géo-Mécanique et Hydr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onique MERRIEN-SOUKATCHOFF, Professe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ponsable du Département Géoingéni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chel TIJANI, Directeur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entre de Géosciences, responsable de la formation doctora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echnique et Economie de l’Exploitation du Sous-s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Pierre MAGNAN, Profe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eur Technique Géotechnique LC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dier HANTZ, Maître de Conférences 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sponsable de Spécialité Géotechnique, Polytech’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ger GUERIN, Profe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eur des Etudes de Spécialités Sciences de la T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e 22"/>
          <p:cNvGrpSpPr/>
          <p:nvPr/>
        </p:nvGrpSpPr>
        <p:grpSpPr>
          <a:xfrm>
            <a:off x="285840" y="4500720"/>
            <a:ext cx="8429400" cy="1614240"/>
            <a:chOff x="285840" y="4500720"/>
            <a:chExt cx="8429400" cy="1614240"/>
          </a:xfrm>
        </p:grpSpPr>
        <p:sp>
          <p:nvSpPr>
            <p:cNvPr id="98" name="ZoneTexte 17"/>
            <p:cNvSpPr/>
            <p:nvPr/>
          </p:nvSpPr>
          <p:spPr>
            <a:xfrm>
              <a:off x="285840" y="4500720"/>
              <a:ext cx="84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ation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ientifi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Administrati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3" descr=""/>
            <p:cNvPicPr/>
            <p:nvPr/>
          </p:nvPicPr>
          <p:blipFill>
            <a:blip r:embed="rId10"/>
            <a:stretch/>
          </p:blipFill>
          <p:spPr>
            <a:xfrm>
              <a:off x="6642720" y="4929120"/>
              <a:ext cx="1786680" cy="11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e 28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101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102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Image 26" descr="Galillee3.jpg"/>
            <p:cNvPicPr/>
            <p:nvPr/>
          </p:nvPicPr>
          <p:blipFill>
            <a:blip r:embed="rId12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 24" descr="Logo_EcoledesPonts_simple_couleur.jpg"/>
          <p:cNvPicPr/>
          <p:nvPr/>
        </p:nvPicPr>
        <p:blipFill>
          <a:blip r:embed="rId13"/>
          <a:stretch/>
        </p:blipFill>
        <p:spPr>
          <a:xfrm>
            <a:off x="2428920" y="4786200"/>
            <a:ext cx="12272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107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8E60-2758-432A-A44C-061ED84A0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4"/>
          <p:cNvSpPr/>
          <p:nvPr/>
        </p:nvSpPr>
        <p:spPr>
          <a:xfrm>
            <a:off x="50040" y="571680"/>
            <a:ext cx="9240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xistant sur le ne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cours généraux d’introd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Mécanique des Roch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les au niveau Master ou Ecoles d’Ingénieurs (peu d’exercices propos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cours/exposés de spéciali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r des aspects ponctue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vent liés à la recherch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u accessibles à des élèves de Master, ou Ecole d’Ingén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pages personnelles d’enseignants-cherche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 compris à l’étra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nt des outils, des exercices, ou des références sur des domaines cibl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lement liés à la recherche conduite par l’enseign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publications de travaux de recher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énéralement destinées à des spécialis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nécessitant des pré-requis disciplinaires que n’ont souvent pas les élèves 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en Ecole d’Ingéni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e 15"/>
          <p:cNvGrpSpPr/>
          <p:nvPr/>
        </p:nvGrpSpPr>
        <p:grpSpPr>
          <a:xfrm>
            <a:off x="142920" y="6286680"/>
            <a:ext cx="8858160" cy="520200"/>
            <a:chOff x="142920" y="6286680"/>
            <a:chExt cx="8858160" cy="520200"/>
          </a:xfrm>
        </p:grpSpPr>
        <p:pic>
          <p:nvPicPr>
            <p:cNvPr id="119" name="Picture 2" descr=""/>
            <p:cNvPicPr/>
            <p:nvPr/>
          </p:nvPicPr>
          <p:blipFill>
            <a:blip r:embed="rId10"/>
            <a:stretch/>
          </p:blipFill>
          <p:spPr>
            <a:xfrm>
              <a:off x="7051680" y="6354720"/>
              <a:ext cx="87768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ZoneTexte 7"/>
            <p:cNvSpPr/>
            <p:nvPr/>
          </p:nvSpPr>
          <p:spPr>
            <a:xfrm>
              <a:off x="142920" y="6286680"/>
              <a:ext cx="885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ckwell Extra Bold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ckwell Extra Bold"/>
                </a:rPr>
                <a:t>ROCK MECH.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ntemps d’UNIT 2009                                       12 – 14 mai 2009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rpetua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Perpetua"/>
                </a:rPr>
                <a:t>EPPUR SI MUOVE                                                    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Ecole des Mines de Saint-Etienn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e 22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122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123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Image 24" descr="Galillee3.jpg"/>
            <p:cNvPicPr/>
            <p:nvPr/>
          </p:nvPicPr>
          <p:blipFill>
            <a:blip r:embed="rId12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127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4DE9-4800-40A3-8924-5A189C576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4"/>
          <p:cNvSpPr/>
          <p:nvPr/>
        </p:nvSpPr>
        <p:spPr>
          <a:xfrm>
            <a:off x="214200" y="28584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que propose le projet « </a:t>
            </a: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ROCK MECH. 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PPUR SI MUOV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e série de cours et TD, présentant une progression, sur 30 heures, ou 5 ECTS, selon le schéma global suiva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5"/>
          <p:cNvSpPr/>
          <p:nvPr/>
        </p:nvSpPr>
        <p:spPr>
          <a:xfrm>
            <a:off x="142920" y="1571760"/>
            <a:ext cx="87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s de base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 d’approfond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iplinaire en Mécanique des Roches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: EPE : Equivalent Présentiel Elè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6"/>
          <p:cNvSpPr/>
          <p:nvPr/>
        </p:nvSpPr>
        <p:spPr>
          <a:xfrm>
            <a:off x="142920" y="3429000"/>
            <a:ext cx="87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tement de cas d’étud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 heures 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3 TD classiques de quatre heu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mini-projets de six heures un peu plus compl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écouvertes de diverses classes de problè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es, et Invitation à la 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Mécanique des Roches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e 17"/>
          <p:cNvGrpSpPr/>
          <p:nvPr/>
        </p:nvGrpSpPr>
        <p:grpSpPr>
          <a:xfrm>
            <a:off x="0" y="6257880"/>
            <a:ext cx="8929800" cy="600120"/>
            <a:chOff x="0" y="6257880"/>
            <a:chExt cx="8929800" cy="600120"/>
          </a:xfrm>
        </p:grpSpPr>
        <p:grpSp>
          <p:nvGrpSpPr>
            <p:cNvPr id="141" name="Groupe 27"/>
            <p:cNvGrpSpPr/>
            <p:nvPr/>
          </p:nvGrpSpPr>
          <p:grpSpPr>
            <a:xfrm>
              <a:off x="71280" y="6286320"/>
              <a:ext cx="8858520" cy="520200"/>
              <a:chOff x="71280" y="6286320"/>
              <a:chExt cx="8858520" cy="520200"/>
            </a:xfrm>
          </p:grpSpPr>
          <p:sp>
            <p:nvSpPr>
              <p:cNvPr id="142" name="ZoneTexte 7"/>
              <p:cNvSpPr/>
              <p:nvPr/>
            </p:nvSpPr>
            <p:spPr>
              <a:xfrm>
                <a:off x="7128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8040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4" name="Image 20" descr="Galillee3.jpg"/>
            <p:cNvPicPr/>
            <p:nvPr/>
          </p:nvPicPr>
          <p:blipFill>
            <a:blip r:embed="rId11"/>
            <a:stretch/>
          </p:blipFill>
          <p:spPr>
            <a:xfrm>
              <a:off x="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146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E54-BB59-4F39-90DC-D7AE99900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15"/>
          <p:cNvSpPr/>
          <p:nvPr/>
        </p:nvSpPr>
        <p:spPr>
          <a:xfrm>
            <a:off x="214200" y="714240"/>
            <a:ext cx="8786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ncepts de base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5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appels ou Renv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à d’autres cours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tatistique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( Cours UNIT de Th. VERDEL à Nancy par exempl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éologie géné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canique des Milieux Cont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ydraulique et Hydr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thode des Eléments Fi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urs d’approfond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isciplinaire en Mécanique des Roches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10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pel à d’autres cours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urs à créer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éologie Struc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éostatistique liné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héologie lois usuelles ( élasticité, élasto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lasticité, visco-plasticit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ouplages 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echniques de soutê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16"/>
          <p:cNvSpPr/>
          <p:nvPr/>
        </p:nvSpPr>
        <p:spPr>
          <a:xfrm>
            <a:off x="35712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PPUR SI MUOVE »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s le détail  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e 16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159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160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1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2" name="Image 18" descr="Galillee3.jpg"/>
            <p:cNvPicPr/>
            <p:nvPr/>
          </p:nvPicPr>
          <p:blipFill>
            <a:blip r:embed="rId11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164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5E0-7452-42D8-B90C-E4E332BA0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6"/>
          <p:cNvSpPr/>
          <p:nvPr/>
        </p:nvSpPr>
        <p:spPr>
          <a:xfrm>
            <a:off x="357120" y="21420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PPUR SI MUOVE »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s le détail  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7"/>
          <p:cNvSpPr/>
          <p:nvPr/>
        </p:nvSpPr>
        <p:spPr>
          <a:xfrm>
            <a:off x="0" y="428760"/>
            <a:ext cx="928692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tement de cas d’étud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 heures 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3 TD, 2 mini-projets) ( exemples liste non exhaustiv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bilité de pente en carrière à ciel ouvert, intégrant l’orientation des fractures et l’orientation relative des grad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usement d’un tunnel, sous faible recouvrement, dans un milieu homogène, peu fractur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usement d’un tunnel dans un milieu stratifié, sous fortes contraintes horizontales, et avec venues d’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bilité de carrière de pierre dimensionnelle souterra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bilité de réservoirs de gaz naturel liquéfi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bilité  des appuis de bar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bilité d’un puits de forage pétro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se en place de fracturation hydraulique dans un site de production géother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ractérisation en laboratoire du comportement à long terme d’arg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uestions liées au pilotage d’essais de cisaillement d’échantillons de roches anisotr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20"/>
          <p:cNvSpPr/>
          <p:nvPr/>
        </p:nvSpPr>
        <p:spPr>
          <a:xfrm>
            <a:off x="0" y="3798720"/>
            <a:ext cx="928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s Complex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Invitation à la Recher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heures 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sés de problématiques et fourniture de synthèses bibliographiques commentées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 divers enseignants-chercheurs partenaires du projet sur des thématiques act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s lesquelles ils travaillent en Mécanique des Roches, en lien avec des cas d’études réels, sous condition du respect de la confidentialité contractuelle, le cas éché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e 17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178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179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1" name="Image 21" descr="Galillee3.jpg"/>
            <p:cNvPicPr/>
            <p:nvPr/>
          </p:nvPicPr>
          <p:blipFill>
            <a:blip r:embed="rId11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183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ED4A-D7B6-4F15-B636-1BBBD2E0A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15"/>
          <p:cNvSpPr/>
          <p:nvPr/>
        </p:nvSpPr>
        <p:spPr>
          <a:xfrm>
            <a:off x="357120" y="592920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chéma de principe du travail d’un étudiant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e 83"/>
          <p:cNvGrpSpPr/>
          <p:nvPr/>
        </p:nvGrpSpPr>
        <p:grpSpPr>
          <a:xfrm>
            <a:off x="357120" y="3214800"/>
            <a:ext cx="7572600" cy="1143000"/>
            <a:chOff x="357120" y="3214800"/>
            <a:chExt cx="7572600" cy="1143000"/>
          </a:xfrm>
        </p:grpSpPr>
        <p:grpSp>
          <p:nvGrpSpPr>
            <p:cNvPr id="195" name="Groupe 31"/>
            <p:cNvGrpSpPr/>
            <p:nvPr/>
          </p:nvGrpSpPr>
          <p:grpSpPr>
            <a:xfrm>
              <a:off x="6643800" y="3214800"/>
              <a:ext cx="1285920" cy="500040"/>
              <a:chOff x="6643800" y="3214800"/>
              <a:chExt cx="1285920" cy="500040"/>
            </a:xfrm>
          </p:grpSpPr>
          <p:sp>
            <p:nvSpPr>
              <p:cNvPr id="196" name="Rectangle à coins arrondis 32"/>
              <p:cNvSpPr/>
              <p:nvPr/>
            </p:nvSpPr>
            <p:spPr>
              <a:xfrm>
                <a:off x="6643800" y="3214800"/>
                <a:ext cx="1071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e6b9b8">
                  <a:alpha val="12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ZoneTexte 33"/>
              <p:cNvSpPr/>
              <p:nvPr/>
            </p:nvSpPr>
            <p:spPr>
              <a:xfrm>
                <a:off x="6858000" y="3214800"/>
                <a:ext cx="107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annexe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e 37"/>
            <p:cNvGrpSpPr/>
            <p:nvPr/>
          </p:nvGrpSpPr>
          <p:grpSpPr>
            <a:xfrm>
              <a:off x="357120" y="3857760"/>
              <a:ext cx="2286000" cy="500040"/>
              <a:chOff x="357120" y="3857760"/>
              <a:chExt cx="2286000" cy="500040"/>
            </a:xfrm>
          </p:grpSpPr>
          <p:sp>
            <p:nvSpPr>
              <p:cNvPr id="199" name="Rectangle à coins arrondis 34"/>
              <p:cNvSpPr/>
              <p:nvPr/>
            </p:nvSpPr>
            <p:spPr>
              <a:xfrm>
                <a:off x="357120" y="3857760"/>
                <a:ext cx="2214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ZoneTexte 36"/>
              <p:cNvSpPr/>
              <p:nvPr/>
            </p:nvSpPr>
            <p:spPr>
              <a:xfrm>
                <a:off x="357120" y="400068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ours d’approfondissement n°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e 38"/>
            <p:cNvGrpSpPr/>
            <p:nvPr/>
          </p:nvGrpSpPr>
          <p:grpSpPr>
            <a:xfrm>
              <a:off x="2714400" y="3857760"/>
              <a:ext cx="2286000" cy="500040"/>
              <a:chOff x="2714400" y="3857760"/>
              <a:chExt cx="2286000" cy="500040"/>
            </a:xfrm>
          </p:grpSpPr>
          <p:sp>
            <p:nvSpPr>
              <p:cNvPr id="202" name="Rectangle à coins arrondis 39"/>
              <p:cNvSpPr/>
              <p:nvPr/>
            </p:nvSpPr>
            <p:spPr>
              <a:xfrm>
                <a:off x="2714400" y="3857760"/>
                <a:ext cx="2214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ZoneTexte 40"/>
              <p:cNvSpPr/>
              <p:nvPr/>
            </p:nvSpPr>
            <p:spPr>
              <a:xfrm>
                <a:off x="2714400" y="400068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ours d’approfondissement n°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e 41"/>
            <p:cNvGrpSpPr/>
            <p:nvPr/>
          </p:nvGrpSpPr>
          <p:grpSpPr>
            <a:xfrm>
              <a:off x="5072040" y="3857760"/>
              <a:ext cx="2286000" cy="500040"/>
              <a:chOff x="5072040" y="3857760"/>
              <a:chExt cx="2286000" cy="500040"/>
            </a:xfrm>
          </p:grpSpPr>
          <p:sp>
            <p:nvSpPr>
              <p:cNvPr id="205" name="Rectangle à coins arrondis 42"/>
              <p:cNvSpPr/>
              <p:nvPr/>
            </p:nvSpPr>
            <p:spPr>
              <a:xfrm>
                <a:off x="5072040" y="3857760"/>
                <a:ext cx="2214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ZoneTexte 43"/>
              <p:cNvSpPr/>
              <p:nvPr/>
            </p:nvSpPr>
            <p:spPr>
              <a:xfrm>
                <a:off x="5072040" y="400068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ours d’approfondissement n°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e 44"/>
            <p:cNvGrpSpPr/>
            <p:nvPr/>
          </p:nvGrpSpPr>
          <p:grpSpPr>
            <a:xfrm>
              <a:off x="1571400" y="3214800"/>
              <a:ext cx="2286000" cy="500040"/>
              <a:chOff x="1571400" y="3214800"/>
              <a:chExt cx="2286000" cy="500040"/>
            </a:xfrm>
          </p:grpSpPr>
          <p:sp>
            <p:nvSpPr>
              <p:cNvPr id="208" name="Rectangle à coins arrondis 45"/>
              <p:cNvSpPr/>
              <p:nvPr/>
            </p:nvSpPr>
            <p:spPr>
              <a:xfrm>
                <a:off x="1571400" y="3214800"/>
                <a:ext cx="2214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ZoneTexte 46"/>
              <p:cNvSpPr/>
              <p:nvPr/>
            </p:nvSpPr>
            <p:spPr>
              <a:xfrm>
                <a:off x="1571400" y="335772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ours d’approfondissement n° 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e 47"/>
            <p:cNvGrpSpPr/>
            <p:nvPr/>
          </p:nvGrpSpPr>
          <p:grpSpPr>
            <a:xfrm>
              <a:off x="4071960" y="3214800"/>
              <a:ext cx="2286000" cy="500040"/>
              <a:chOff x="4071960" y="3214800"/>
              <a:chExt cx="2286000" cy="500040"/>
            </a:xfrm>
          </p:grpSpPr>
          <p:sp>
            <p:nvSpPr>
              <p:cNvPr id="211" name="Rectangle à coins arrondis 48"/>
              <p:cNvSpPr/>
              <p:nvPr/>
            </p:nvSpPr>
            <p:spPr>
              <a:xfrm>
                <a:off x="4071960" y="3214800"/>
                <a:ext cx="2214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ZoneTexte 49"/>
              <p:cNvSpPr/>
              <p:nvPr/>
            </p:nvSpPr>
            <p:spPr>
              <a:xfrm>
                <a:off x="4071960" y="335772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ours d’approfondissement n° 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e 107"/>
          <p:cNvGrpSpPr/>
          <p:nvPr/>
        </p:nvGrpSpPr>
        <p:grpSpPr>
          <a:xfrm>
            <a:off x="500040" y="5143680"/>
            <a:ext cx="7500960" cy="500040"/>
            <a:chOff x="500040" y="5143680"/>
            <a:chExt cx="7500960" cy="500040"/>
          </a:xfrm>
        </p:grpSpPr>
        <p:grpSp>
          <p:nvGrpSpPr>
            <p:cNvPr id="214" name="Groupe 17"/>
            <p:cNvGrpSpPr/>
            <p:nvPr/>
          </p:nvGrpSpPr>
          <p:grpSpPr>
            <a:xfrm>
              <a:off x="1714320" y="5143680"/>
              <a:ext cx="1214280" cy="500040"/>
              <a:chOff x="1714320" y="5143680"/>
              <a:chExt cx="1214280" cy="500040"/>
            </a:xfrm>
          </p:grpSpPr>
          <p:sp>
            <p:nvSpPr>
              <p:cNvPr id="215" name="Rectangle à coins arrondis 15"/>
              <p:cNvSpPr/>
              <p:nvPr/>
            </p:nvSpPr>
            <p:spPr>
              <a:xfrm>
                <a:off x="1714320" y="5143680"/>
                <a:ext cx="1071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ZoneTexte 16"/>
              <p:cNvSpPr/>
              <p:nvPr/>
            </p:nvSpPr>
            <p:spPr>
              <a:xfrm>
                <a:off x="1856880" y="5181840"/>
                <a:ext cx="107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de base n°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e 18"/>
            <p:cNvGrpSpPr/>
            <p:nvPr/>
          </p:nvGrpSpPr>
          <p:grpSpPr>
            <a:xfrm>
              <a:off x="2928960" y="5143680"/>
              <a:ext cx="1214280" cy="500040"/>
              <a:chOff x="2928960" y="5143680"/>
              <a:chExt cx="1214280" cy="500040"/>
            </a:xfrm>
          </p:grpSpPr>
          <p:sp>
            <p:nvSpPr>
              <p:cNvPr id="218" name="Rectangle à coins arrondis 20"/>
              <p:cNvSpPr/>
              <p:nvPr/>
            </p:nvSpPr>
            <p:spPr>
              <a:xfrm>
                <a:off x="2928960" y="5143680"/>
                <a:ext cx="1071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ZoneTexte 21"/>
              <p:cNvSpPr/>
              <p:nvPr/>
            </p:nvSpPr>
            <p:spPr>
              <a:xfrm>
                <a:off x="3071520" y="5181840"/>
                <a:ext cx="107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de base n°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e 22"/>
            <p:cNvGrpSpPr/>
            <p:nvPr/>
          </p:nvGrpSpPr>
          <p:grpSpPr>
            <a:xfrm>
              <a:off x="4143240" y="5143680"/>
              <a:ext cx="1071360" cy="500040"/>
              <a:chOff x="4143240" y="5143680"/>
              <a:chExt cx="1071360" cy="500040"/>
            </a:xfrm>
          </p:grpSpPr>
          <p:sp>
            <p:nvSpPr>
              <p:cNvPr id="221" name="Rectangle à coins arrondis 23"/>
              <p:cNvSpPr/>
              <p:nvPr/>
            </p:nvSpPr>
            <p:spPr>
              <a:xfrm>
                <a:off x="4143240" y="5143680"/>
                <a:ext cx="10713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ZoneTexte 24"/>
              <p:cNvSpPr/>
              <p:nvPr/>
            </p:nvSpPr>
            <p:spPr>
              <a:xfrm>
                <a:off x="4143240" y="5181840"/>
                <a:ext cx="1071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de base n°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e 25"/>
            <p:cNvGrpSpPr/>
            <p:nvPr/>
          </p:nvGrpSpPr>
          <p:grpSpPr>
            <a:xfrm>
              <a:off x="5357880" y="5143680"/>
              <a:ext cx="1071360" cy="500040"/>
              <a:chOff x="5357880" y="5143680"/>
              <a:chExt cx="1071360" cy="500040"/>
            </a:xfrm>
          </p:grpSpPr>
          <p:sp>
            <p:nvSpPr>
              <p:cNvPr id="224" name="Rectangle à coins arrondis 26"/>
              <p:cNvSpPr/>
              <p:nvPr/>
            </p:nvSpPr>
            <p:spPr>
              <a:xfrm>
                <a:off x="5357880" y="5143680"/>
                <a:ext cx="10713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ZoneTexte 27"/>
              <p:cNvSpPr/>
              <p:nvPr/>
            </p:nvSpPr>
            <p:spPr>
              <a:xfrm>
                <a:off x="5357880" y="5181840"/>
                <a:ext cx="1071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de base n°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Rectangle à coins arrondis 29"/>
            <p:cNvSpPr/>
            <p:nvPr/>
          </p:nvSpPr>
          <p:spPr>
            <a:xfrm>
              <a:off x="500040" y="5143680"/>
              <a:ext cx="1071360" cy="5000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2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ZoneTexte 30"/>
            <p:cNvSpPr/>
            <p:nvPr/>
          </p:nvSpPr>
          <p:spPr>
            <a:xfrm>
              <a:off x="500040" y="5181840"/>
              <a:ext cx="1071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odule de base n°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e 50"/>
            <p:cNvGrpSpPr/>
            <p:nvPr/>
          </p:nvGrpSpPr>
          <p:grpSpPr>
            <a:xfrm>
              <a:off x="6715080" y="5143680"/>
              <a:ext cx="1285920" cy="500040"/>
              <a:chOff x="6715080" y="5143680"/>
              <a:chExt cx="1285920" cy="500040"/>
            </a:xfrm>
          </p:grpSpPr>
          <p:sp>
            <p:nvSpPr>
              <p:cNvPr id="229" name="Rectangle à coins arrondis 51"/>
              <p:cNvSpPr/>
              <p:nvPr/>
            </p:nvSpPr>
            <p:spPr>
              <a:xfrm>
                <a:off x="6715080" y="5143680"/>
                <a:ext cx="107172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e6b9b8">
                  <a:alpha val="12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ZoneTexte 52"/>
              <p:cNvSpPr/>
              <p:nvPr/>
            </p:nvSpPr>
            <p:spPr>
              <a:xfrm>
                <a:off x="6929280" y="5143680"/>
                <a:ext cx="107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annexe 1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e 62"/>
          <p:cNvGrpSpPr/>
          <p:nvPr/>
        </p:nvGrpSpPr>
        <p:grpSpPr>
          <a:xfrm>
            <a:off x="2071800" y="2000160"/>
            <a:ext cx="4071960" cy="500040"/>
            <a:chOff x="2071800" y="2000160"/>
            <a:chExt cx="4071960" cy="500040"/>
          </a:xfrm>
        </p:grpSpPr>
        <p:grpSp>
          <p:nvGrpSpPr>
            <p:cNvPr id="232" name="Groupe 53"/>
            <p:cNvGrpSpPr/>
            <p:nvPr/>
          </p:nvGrpSpPr>
          <p:grpSpPr>
            <a:xfrm>
              <a:off x="2071800" y="2000160"/>
              <a:ext cx="1214280" cy="500040"/>
              <a:chOff x="2071800" y="2000160"/>
              <a:chExt cx="1214280" cy="500040"/>
            </a:xfrm>
          </p:grpSpPr>
          <p:sp>
            <p:nvSpPr>
              <p:cNvPr id="233" name="Rectangle à coins arrondis 54"/>
              <p:cNvSpPr/>
              <p:nvPr/>
            </p:nvSpPr>
            <p:spPr>
              <a:xfrm>
                <a:off x="2071800" y="2000160"/>
                <a:ext cx="12142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ZoneTexte 55"/>
              <p:cNvSpPr/>
              <p:nvPr/>
            </p:nvSpPr>
            <p:spPr>
              <a:xfrm>
                <a:off x="2071800" y="2143080"/>
                <a:ext cx="1214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as d’Etude n°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e 56"/>
            <p:cNvGrpSpPr/>
            <p:nvPr/>
          </p:nvGrpSpPr>
          <p:grpSpPr>
            <a:xfrm>
              <a:off x="3500640" y="2000160"/>
              <a:ext cx="1214280" cy="500040"/>
              <a:chOff x="3500640" y="2000160"/>
              <a:chExt cx="1214280" cy="500040"/>
            </a:xfrm>
          </p:grpSpPr>
          <p:sp>
            <p:nvSpPr>
              <p:cNvPr id="236" name="Rectangle à coins arrondis 57"/>
              <p:cNvSpPr/>
              <p:nvPr/>
            </p:nvSpPr>
            <p:spPr>
              <a:xfrm>
                <a:off x="3500640" y="2000160"/>
                <a:ext cx="12142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ZoneTexte 58"/>
              <p:cNvSpPr/>
              <p:nvPr/>
            </p:nvSpPr>
            <p:spPr>
              <a:xfrm>
                <a:off x="3500640" y="2143080"/>
                <a:ext cx="1214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as d’Etude n°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e 59"/>
            <p:cNvGrpSpPr/>
            <p:nvPr/>
          </p:nvGrpSpPr>
          <p:grpSpPr>
            <a:xfrm>
              <a:off x="4929480" y="2000160"/>
              <a:ext cx="1214280" cy="500040"/>
              <a:chOff x="4929480" y="2000160"/>
              <a:chExt cx="1214280" cy="500040"/>
            </a:xfrm>
          </p:grpSpPr>
          <p:sp>
            <p:nvSpPr>
              <p:cNvPr id="239" name="Rectangle à coins arrondis 60"/>
              <p:cNvSpPr/>
              <p:nvPr/>
            </p:nvSpPr>
            <p:spPr>
              <a:xfrm>
                <a:off x="4929480" y="2000160"/>
                <a:ext cx="12142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ZoneTexte 61"/>
              <p:cNvSpPr/>
              <p:nvPr/>
            </p:nvSpPr>
            <p:spPr>
              <a:xfrm>
                <a:off x="4929480" y="2143080"/>
                <a:ext cx="1214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as d’Etude n°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e 101"/>
          <p:cNvGrpSpPr/>
          <p:nvPr/>
        </p:nvGrpSpPr>
        <p:grpSpPr>
          <a:xfrm>
            <a:off x="2000160" y="642960"/>
            <a:ext cx="7143840" cy="714240"/>
            <a:chOff x="2000160" y="642960"/>
            <a:chExt cx="7143840" cy="714240"/>
          </a:xfrm>
        </p:grpSpPr>
        <p:grpSp>
          <p:nvGrpSpPr>
            <p:cNvPr id="242" name="Groupe 63"/>
            <p:cNvGrpSpPr/>
            <p:nvPr/>
          </p:nvGrpSpPr>
          <p:grpSpPr>
            <a:xfrm>
              <a:off x="2000160" y="642960"/>
              <a:ext cx="4071960" cy="714240"/>
              <a:chOff x="2000160" y="642960"/>
              <a:chExt cx="4071960" cy="714240"/>
            </a:xfrm>
          </p:grpSpPr>
          <p:grpSp>
            <p:nvGrpSpPr>
              <p:cNvPr id="243" name="Groupe 53"/>
              <p:cNvGrpSpPr/>
              <p:nvPr/>
            </p:nvGrpSpPr>
            <p:grpSpPr>
              <a:xfrm>
                <a:off x="2000160" y="642960"/>
                <a:ext cx="1214280" cy="714240"/>
                <a:chOff x="2000160" y="642960"/>
                <a:chExt cx="1214280" cy="714240"/>
              </a:xfrm>
            </p:grpSpPr>
            <p:sp>
              <p:nvSpPr>
                <p:cNvPr id="244" name="Rectangle à coins arrondis 71"/>
                <p:cNvSpPr/>
                <p:nvPr/>
              </p:nvSpPr>
              <p:spPr>
                <a:xfrm>
                  <a:off x="2000160" y="642960"/>
                  <a:ext cx="1214280" cy="714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f81bd">
                    <a:alpha val="12000"/>
                  </a:srgbClr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ZoneTexte 72"/>
                <p:cNvSpPr/>
                <p:nvPr/>
              </p:nvSpPr>
              <p:spPr>
                <a:xfrm>
                  <a:off x="2000160" y="642960"/>
                  <a:ext cx="12142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Etude biblio complémentaire Invitation à la Recherche n° 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e 56"/>
              <p:cNvGrpSpPr/>
              <p:nvPr/>
            </p:nvGrpSpPr>
            <p:grpSpPr>
              <a:xfrm>
                <a:off x="3429000" y="642960"/>
                <a:ext cx="1214280" cy="714240"/>
                <a:chOff x="3429000" y="642960"/>
                <a:chExt cx="1214280" cy="714240"/>
              </a:xfrm>
            </p:grpSpPr>
            <p:sp>
              <p:nvSpPr>
                <p:cNvPr id="247" name="Rectangle à coins arrondis 69"/>
                <p:cNvSpPr/>
                <p:nvPr/>
              </p:nvSpPr>
              <p:spPr>
                <a:xfrm>
                  <a:off x="3429000" y="642960"/>
                  <a:ext cx="1214280" cy="714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f81bd">
                    <a:alpha val="12000"/>
                  </a:srgbClr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ZoneTexte 70"/>
                <p:cNvSpPr/>
                <p:nvPr/>
              </p:nvSpPr>
              <p:spPr>
                <a:xfrm>
                  <a:off x="3429000" y="649440"/>
                  <a:ext cx="12142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Etude biblio complémentair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Invitation à 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Recherche n° 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e 59"/>
              <p:cNvGrpSpPr/>
              <p:nvPr/>
            </p:nvGrpSpPr>
            <p:grpSpPr>
              <a:xfrm>
                <a:off x="4857840" y="642960"/>
                <a:ext cx="1214280" cy="714240"/>
                <a:chOff x="4857840" y="642960"/>
                <a:chExt cx="1214280" cy="714240"/>
              </a:xfrm>
            </p:grpSpPr>
            <p:sp>
              <p:nvSpPr>
                <p:cNvPr id="250" name="Rectangle à coins arrondis 67"/>
                <p:cNvSpPr/>
                <p:nvPr/>
              </p:nvSpPr>
              <p:spPr>
                <a:xfrm>
                  <a:off x="4857840" y="642960"/>
                  <a:ext cx="1214280" cy="714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f81bd">
                    <a:alpha val="12000"/>
                  </a:srgbClr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ZoneTexte 68"/>
                <p:cNvSpPr/>
                <p:nvPr/>
              </p:nvSpPr>
              <p:spPr>
                <a:xfrm>
                  <a:off x="4857840" y="642960"/>
                  <a:ext cx="12142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Etude biblio complémentair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Invitation à 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Arial"/>
                    </a:rPr>
                    <a:t>Recherche n° 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e 94"/>
            <p:cNvGrpSpPr/>
            <p:nvPr/>
          </p:nvGrpSpPr>
          <p:grpSpPr>
            <a:xfrm>
              <a:off x="7858080" y="642960"/>
              <a:ext cx="1285920" cy="714240"/>
              <a:chOff x="7858080" y="642960"/>
              <a:chExt cx="1285920" cy="714240"/>
            </a:xfrm>
          </p:grpSpPr>
          <p:sp>
            <p:nvSpPr>
              <p:cNvPr id="253" name="Rectangle à coins arrondis 95"/>
              <p:cNvSpPr/>
              <p:nvPr/>
            </p:nvSpPr>
            <p:spPr>
              <a:xfrm>
                <a:off x="7858080" y="642960"/>
                <a:ext cx="107172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e6b9b8">
                  <a:alpha val="12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ZoneTexte 96"/>
              <p:cNvSpPr/>
              <p:nvPr/>
            </p:nvSpPr>
            <p:spPr>
              <a:xfrm>
                <a:off x="8072280" y="642960"/>
                <a:ext cx="1071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annexe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Flèche vers le haut 97"/>
          <p:cNvSpPr/>
          <p:nvPr/>
        </p:nvSpPr>
        <p:spPr>
          <a:xfrm>
            <a:off x="9001080" y="571680"/>
            <a:ext cx="142920" cy="5429160"/>
          </a:xfrm>
          <a:prstGeom prst="up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ZoneTexte 98" descr=""/>
          <p:cNvPicPr/>
          <p:nvPr/>
        </p:nvPicPr>
        <p:blipFill>
          <a:blip r:embed="rId10"/>
          <a:stretch/>
        </p:blipFill>
        <p:spPr>
          <a:xfrm>
            <a:off x="8534520" y="993600"/>
            <a:ext cx="476280" cy="339588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e 106"/>
          <p:cNvGrpSpPr/>
          <p:nvPr/>
        </p:nvGrpSpPr>
        <p:grpSpPr>
          <a:xfrm>
            <a:off x="142920" y="428760"/>
            <a:ext cx="1571760" cy="1643040"/>
            <a:chOff x="142920" y="428760"/>
            <a:chExt cx="1571760" cy="1643040"/>
          </a:xfrm>
        </p:grpSpPr>
        <p:sp>
          <p:nvSpPr>
            <p:cNvPr id="258" name="Rectangle 99"/>
            <p:cNvSpPr/>
            <p:nvPr/>
          </p:nvSpPr>
          <p:spPr>
            <a:xfrm>
              <a:off x="142920" y="428760"/>
              <a:ext cx="1571760" cy="164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à coins arrondis 100"/>
            <p:cNvSpPr/>
            <p:nvPr/>
          </p:nvSpPr>
          <p:spPr>
            <a:xfrm>
              <a:off x="285840" y="500040"/>
              <a:ext cx="1285920" cy="5000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2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ZoneTexte 101"/>
            <p:cNvSpPr/>
            <p:nvPr/>
          </p:nvSpPr>
          <p:spPr>
            <a:xfrm>
              <a:off x="285840" y="50004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Rockwell Extra Bold"/>
                </a:rPr>
                <a:t>ROCK MECH.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e 102"/>
            <p:cNvGrpSpPr/>
            <p:nvPr/>
          </p:nvGrpSpPr>
          <p:grpSpPr>
            <a:xfrm>
              <a:off x="285840" y="1214640"/>
              <a:ext cx="1285920" cy="824040"/>
              <a:chOff x="285840" y="1214640"/>
              <a:chExt cx="1285920" cy="824040"/>
            </a:xfrm>
          </p:grpSpPr>
          <p:sp>
            <p:nvSpPr>
              <p:cNvPr id="262" name="Rectangle à coins arrondis 103"/>
              <p:cNvSpPr/>
              <p:nvPr/>
            </p:nvSpPr>
            <p:spPr>
              <a:xfrm>
                <a:off x="285840" y="1214640"/>
                <a:ext cx="12859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e6b9b8">
                  <a:alpha val="12000"/>
                </a:srgbClr>
              </a:solidFill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ZoneTexte 104"/>
              <p:cNvSpPr/>
              <p:nvPr/>
            </p:nvSpPr>
            <p:spPr>
              <a:xfrm>
                <a:off x="500040" y="1214640"/>
                <a:ext cx="1071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dule extérieu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UNIT ou aut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e 102"/>
          <p:cNvGrpSpPr/>
          <p:nvPr/>
        </p:nvGrpSpPr>
        <p:grpSpPr>
          <a:xfrm>
            <a:off x="6215040" y="642960"/>
            <a:ext cx="1571760" cy="723960"/>
            <a:chOff x="6215040" y="642960"/>
            <a:chExt cx="1571760" cy="723960"/>
          </a:xfrm>
        </p:grpSpPr>
        <p:sp>
          <p:nvSpPr>
            <p:cNvPr id="265" name="ZoneTexte 68"/>
            <p:cNvSpPr/>
            <p:nvPr/>
          </p:nvSpPr>
          <p:spPr>
            <a:xfrm>
              <a:off x="6357600" y="642960"/>
              <a:ext cx="1357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tude biblio complémentai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nvitation à 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cherche n° i &lt; 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à coins arrondis 93"/>
            <p:cNvSpPr/>
            <p:nvPr/>
          </p:nvSpPr>
          <p:spPr>
            <a:xfrm>
              <a:off x="6215040" y="642960"/>
              <a:ext cx="1428840" cy="71460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2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à coins arrondis 94"/>
            <p:cNvSpPr/>
            <p:nvPr/>
          </p:nvSpPr>
          <p:spPr>
            <a:xfrm>
              <a:off x="6429240" y="642960"/>
              <a:ext cx="1357560" cy="7239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2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à coins arrondis 96"/>
            <p:cNvSpPr/>
            <p:nvPr/>
          </p:nvSpPr>
          <p:spPr>
            <a:xfrm>
              <a:off x="6357600" y="642960"/>
              <a:ext cx="1357560" cy="71460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2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e 105"/>
          <p:cNvGrpSpPr/>
          <p:nvPr/>
        </p:nvGrpSpPr>
        <p:grpSpPr>
          <a:xfrm>
            <a:off x="6429240" y="1500120"/>
            <a:ext cx="1571760" cy="1000080"/>
            <a:chOff x="6429240" y="1500120"/>
            <a:chExt cx="1571760" cy="1000080"/>
          </a:xfrm>
        </p:grpSpPr>
        <p:grpSp>
          <p:nvGrpSpPr>
            <p:cNvPr id="270" name="Groupe 90"/>
            <p:cNvGrpSpPr/>
            <p:nvPr/>
          </p:nvGrpSpPr>
          <p:grpSpPr>
            <a:xfrm>
              <a:off x="6429240" y="2000160"/>
              <a:ext cx="1571760" cy="500040"/>
              <a:chOff x="6429240" y="2000160"/>
              <a:chExt cx="1571760" cy="500040"/>
            </a:xfrm>
          </p:grpSpPr>
          <p:sp>
            <p:nvSpPr>
              <p:cNvPr id="271" name="Rectangle à coins arrondis 85"/>
              <p:cNvSpPr/>
              <p:nvPr/>
            </p:nvSpPr>
            <p:spPr>
              <a:xfrm>
                <a:off x="6429240" y="2000160"/>
                <a:ext cx="13575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ZoneTexte 61"/>
              <p:cNvSpPr/>
              <p:nvPr/>
            </p:nvSpPr>
            <p:spPr>
              <a:xfrm>
                <a:off x="6572160" y="2143080"/>
                <a:ext cx="1357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Cas d’Etude i  &lt; 1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à coins arrondis 87"/>
              <p:cNvSpPr/>
              <p:nvPr/>
            </p:nvSpPr>
            <p:spPr>
              <a:xfrm>
                <a:off x="6500520" y="2000160"/>
                <a:ext cx="13575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à coins arrondis 88"/>
              <p:cNvSpPr/>
              <p:nvPr/>
            </p:nvSpPr>
            <p:spPr>
              <a:xfrm>
                <a:off x="6572160" y="2000160"/>
                <a:ext cx="13575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à coins arrondis 89"/>
              <p:cNvSpPr/>
              <p:nvPr/>
            </p:nvSpPr>
            <p:spPr>
              <a:xfrm>
                <a:off x="6643440" y="2000160"/>
                <a:ext cx="13575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4f81bd">
                  <a:alpha val="12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ZoneTexte 104"/>
            <p:cNvSpPr/>
            <p:nvPr/>
          </p:nvSpPr>
          <p:spPr>
            <a:xfrm>
              <a:off x="6429240" y="1500120"/>
              <a:ext cx="135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n o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e 106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278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279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fr-FR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1" name="Image 108" descr="Galillee3.jpg"/>
            <p:cNvPicPr/>
            <p:nvPr/>
          </p:nvPicPr>
          <p:blipFill>
            <a:blip r:embed="rId12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"/>
          <p:cNvGrpSpPr/>
          <p:nvPr/>
        </p:nvGrpSpPr>
        <p:grpSpPr>
          <a:xfrm>
            <a:off x="0" y="-3786120"/>
            <a:ext cx="1828800" cy="790560"/>
            <a:chOff x="0" y="-3786120"/>
            <a:chExt cx="1828800" cy="790560"/>
          </a:xfrm>
        </p:grpSpPr>
        <p:sp>
          <p:nvSpPr>
            <p:cNvPr id="283" name="Freeform 15">
              <a:hlinkClick r:id="rId1"/>
            </p:cNvPr>
            <p:cNvSpPr/>
            <p:nvPr/>
          </p:nvSpPr>
          <p:spPr>
            <a:xfrm>
              <a:off x="1533600" y="-3414600"/>
              <a:ext cx="285840" cy="39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">
              <a:hlinkClick r:id="rId2"/>
            </p:cNvPr>
            <p:cNvSpPr/>
            <p:nvPr/>
          </p:nvSpPr>
          <p:spPr>
            <a:xfrm>
              <a:off x="1362240" y="-3738600"/>
              <a:ext cx="466560" cy="70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3">
              <a:hlinkClick r:id="rId3"/>
            </p:cNvPr>
            <p:cNvSpPr/>
            <p:nvPr/>
          </p:nvSpPr>
          <p:spPr>
            <a:xfrm>
              <a:off x="1152720" y="-3471840"/>
              <a:ext cx="32364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">
              <a:hlinkClick r:id="rId4"/>
            </p:cNvPr>
            <p:cNvSpPr/>
            <p:nvPr/>
          </p:nvSpPr>
          <p:spPr>
            <a:xfrm>
              <a:off x="962280" y="-3786120"/>
              <a:ext cx="504720" cy="7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">
              <a:hlinkClick r:id="rId5"/>
            </p:cNvPr>
            <p:cNvSpPr/>
            <p:nvPr/>
          </p:nvSpPr>
          <p:spPr>
            <a:xfrm>
              <a:off x="771480" y="-3738600"/>
              <a:ext cx="486000" cy="723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>
              <a:hlinkClick r:id="rId6"/>
            </p:cNvPr>
            <p:cNvSpPr/>
            <p:nvPr/>
          </p:nvSpPr>
          <p:spPr>
            <a:xfrm>
              <a:off x="590760" y="-3510000"/>
              <a:ext cx="361800" cy="48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">
              <a:hlinkClick r:id="rId7"/>
            </p:cNvPr>
            <p:cNvSpPr/>
            <p:nvPr/>
          </p:nvSpPr>
          <p:spPr>
            <a:xfrm>
              <a:off x="390600" y="-3452760"/>
              <a:ext cx="333360" cy="43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">
              <a:hlinkClick r:id="rId8"/>
            </p:cNvPr>
            <p:cNvSpPr/>
            <p:nvPr/>
          </p:nvSpPr>
          <p:spPr>
            <a:xfrm>
              <a:off x="190440" y="-3481560"/>
              <a:ext cx="34308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">
              <a:hlinkClick r:id="rId9"/>
            </p:cNvPr>
            <p:cNvSpPr/>
            <p:nvPr/>
          </p:nvSpPr>
          <p:spPr>
            <a:xfrm>
              <a:off x="0" y="-3710160"/>
              <a:ext cx="486000" cy="71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Espace réservé du numéro de diapositive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26C-96D1-47BE-91F1-77F1D35EF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4"/>
          <p:cNvSpPr/>
          <p:nvPr/>
        </p:nvSpPr>
        <p:spPr>
          <a:xfrm>
            <a:off x="642960" y="214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FR" sz="1800" spc="-1" strike="noStrike">
                <a:solidFill>
                  <a:srgbClr val="000000"/>
                </a:solidFill>
                <a:latin typeface="Rockwell Extra Bold"/>
              </a:rPr>
              <a:t>ROCK MECH.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Arial"/>
              </a:rPr>
              <a:t>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PPUR SI MUOVE » 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’évolution ou le menu « Best of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oneTexte 15"/>
          <p:cNvSpPr/>
          <p:nvPr/>
        </p:nvSpPr>
        <p:spPr>
          <a:xfrm>
            <a:off x="642960" y="714240"/>
            <a:ext cx="77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</a:t>
            </a:r>
            <a:r>
              <a:rPr b="1" lang="fr-FR" sz="1800" spc="-1" strike="noStrike">
                <a:solidFill>
                  <a:srgbClr val="4f81bd"/>
                </a:solidFill>
                <a:latin typeface="Arial"/>
              </a:rPr>
              <a:t>intégrer des évaluation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QCM ) dans les cours de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</a:t>
            </a:r>
            <a:r>
              <a:rPr b="1" lang="fr-FR" sz="1800" spc="-1" strike="noStrike">
                <a:solidFill>
                  <a:srgbClr val="4f81bd"/>
                </a:solidFill>
                <a:latin typeface="Arial"/>
              </a:rPr>
              <a:t>intégrer des évaluation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QCM et Exercices d’application directe) dans les cours d’approfond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</a:t>
            </a:r>
            <a:r>
              <a:rPr b="1" lang="fr-FR" sz="1800" spc="-1" strike="noStrike">
                <a:solidFill>
                  <a:srgbClr val="4f81bd"/>
                </a:solidFill>
                <a:latin typeface="Arial"/>
              </a:rPr>
              <a:t>multiplier les TD et Mini-projet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façon à couvrir l’équivalent de 120 heures de présentiel élève, soit 20 à 25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</a:t>
            </a:r>
            <a:r>
              <a:rPr b="1" lang="fr-FR" sz="1800" spc="-1" strike="noStrike">
                <a:solidFill>
                  <a:srgbClr val="4f81bd"/>
                </a:solidFill>
                <a:latin typeface="Arial"/>
              </a:rPr>
              <a:t>diversifier les recherches et synthèses bibliographiqu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actualiser de 1 à 6 des 6 domaines initialement couv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e 21"/>
          <p:cNvGrpSpPr/>
          <p:nvPr/>
        </p:nvGrpSpPr>
        <p:grpSpPr>
          <a:xfrm>
            <a:off x="214200" y="3714840"/>
            <a:ext cx="8715600" cy="2654280"/>
            <a:chOff x="214200" y="3714840"/>
            <a:chExt cx="8715600" cy="2654280"/>
          </a:xfrm>
        </p:grpSpPr>
        <p:sp>
          <p:nvSpPr>
            <p:cNvPr id="296" name="ZoneTexte 17"/>
            <p:cNvSpPr/>
            <p:nvPr/>
          </p:nvSpPr>
          <p:spPr>
            <a:xfrm>
              <a:off x="214200" y="3714840"/>
              <a:ext cx="87156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u total « </a:t>
              </a:r>
              <a:r>
                <a:rPr b="0" lang="fr-FR" sz="1800" spc="-1" strike="noStrike">
                  <a:solidFill>
                    <a:srgbClr val="000000"/>
                  </a:solidFill>
                  <a:latin typeface="Rockwell Extra Bold"/>
                </a:rPr>
                <a:t>ROCK MECH. 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: </a:t>
              </a:r>
              <a:r>
                <a:rPr b="0" lang="fr-FR" sz="1800" spc="-1" strike="noStrike">
                  <a:solidFill>
                    <a:srgbClr val="000000"/>
                  </a:solidFill>
                  <a:latin typeface="Perpetua"/>
                </a:rPr>
                <a:t>EPPUR SI MUOVE »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crédits ECTS potentiels soit un semes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cours de spécialité en Mécanique des Roc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2" descr=""/>
            <p:cNvPicPr/>
            <p:nvPr/>
          </p:nvPicPr>
          <p:blipFill>
            <a:blip r:embed="rId10"/>
            <a:stretch/>
          </p:blipFill>
          <p:spPr>
            <a:xfrm>
              <a:off x="6643800" y="4500720"/>
              <a:ext cx="1500120" cy="73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e 20"/>
          <p:cNvGrpSpPr/>
          <p:nvPr/>
        </p:nvGrpSpPr>
        <p:grpSpPr>
          <a:xfrm>
            <a:off x="71280" y="6257880"/>
            <a:ext cx="8929800" cy="600120"/>
            <a:chOff x="71280" y="6257880"/>
            <a:chExt cx="8929800" cy="600120"/>
          </a:xfrm>
        </p:grpSpPr>
        <p:grpSp>
          <p:nvGrpSpPr>
            <p:cNvPr id="299" name="Groupe 27"/>
            <p:cNvGrpSpPr/>
            <p:nvPr/>
          </p:nvGrpSpPr>
          <p:grpSpPr>
            <a:xfrm>
              <a:off x="142560" y="6286320"/>
              <a:ext cx="8858520" cy="520200"/>
              <a:chOff x="142560" y="6286320"/>
              <a:chExt cx="8858520" cy="520200"/>
            </a:xfrm>
          </p:grpSpPr>
          <p:sp>
            <p:nvSpPr>
              <p:cNvPr id="300" name="ZoneTexte 7"/>
              <p:cNvSpPr/>
              <p:nvPr/>
            </p:nvSpPr>
            <p:spPr>
              <a:xfrm>
                <a:off x="142560" y="6286320"/>
                <a:ext cx="8858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Rockwell Extra Bold"/>
                  </a:rPr>
                  <a:t>ROCK MECH. </a:t>
                </a:r>
                <a:r>
                  <a:rPr b="0" lang="fr-FR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Printemps d’UNIT 2009                                       12 – 14 mai 2009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        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Perpetua"/>
                  </a:rPr>
                  <a:t>EPPUR SI MUOVE                                                    </a:t>
                </a:r>
                <a:r>
                  <a:rPr b="0" lang="fr-FR" sz="1100" spc="-1" strike="noStrike">
                    <a:solidFill>
                      <a:srgbClr val="0070c0"/>
                    </a:solidFill>
                    <a:latin typeface="Calibri"/>
                  </a:rPr>
                  <a:t>Ecole des Mines de Saint-Etienn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1" name="Picture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1680" y="6354360"/>
                <a:ext cx="8776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Image 22" descr="Galillee3.jpg"/>
            <p:cNvPicPr/>
            <p:nvPr/>
          </p:nvPicPr>
          <p:blipFill>
            <a:blip r:embed="rId12"/>
            <a:stretch/>
          </p:blipFill>
          <p:spPr>
            <a:xfrm>
              <a:off x="71280" y="6257880"/>
              <a:ext cx="428400" cy="60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19:19Z</dcterms:created>
  <dc:creator>Marc.Vinches</dc:creator>
  <dc:description/>
  <dc:language>en-US</dc:language>
  <cp:lastModifiedBy>veuillez</cp:lastModifiedBy>
  <dcterms:modified xsi:type="dcterms:W3CDTF">2009-05-12T12:32:30Z</dcterms:modified>
  <cp:revision>70</cp:revision>
  <dc:subject/>
  <dc:title>Diapositive 1</dc:title>
</cp:coreProperties>
</file>