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440" y="418284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8512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08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62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4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08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962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6705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512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440" y="418284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512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08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62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4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08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62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6705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8512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440" y="418284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8512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908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6240" y="205740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4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908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6240" y="4182840"/>
            <a:ext cx="257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6705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85120" y="418284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120" y="2057400"/>
            <a:ext cx="39042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182840"/>
            <a:ext cx="80010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3" descr="logo section 7 72dpi"/>
          <p:cNvPicPr/>
          <p:nvPr/>
        </p:nvPicPr>
        <p:blipFill>
          <a:blip r:embed="rId2"/>
          <a:srcRect l="10904" t="43076" r="0" b="23496"/>
          <a:stretch/>
        </p:blipFill>
        <p:spPr>
          <a:xfrm>
            <a:off x="1477800" y="-27000"/>
            <a:ext cx="7666200" cy="1001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1332000" y="-1440"/>
            <a:ext cx="7812000" cy="9093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7308720" y="6308640"/>
            <a:ext cx="16560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is, octo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4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6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7" name="Rectangle 50"/>
          <p:cNvSpPr/>
          <p:nvPr/>
        </p:nvSpPr>
        <p:spPr>
          <a:xfrm>
            <a:off x="684360" y="909720"/>
            <a:ext cx="845964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8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pic>
        <p:nvPicPr>
          <p:cNvPr id="9" name="Picture 8" descr="marque UNIT rvb 6cm"/>
          <p:cNvPicPr/>
          <p:nvPr/>
        </p:nvPicPr>
        <p:blipFill>
          <a:blip r:embed="rId3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2" name="Rectangle 36"/>
          <p:cNvSpPr/>
          <p:nvPr/>
        </p:nvSpPr>
        <p:spPr>
          <a:xfrm>
            <a:off x="0" y="83664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a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8" descr="logo section 3 72dpi"/>
          <p:cNvPicPr/>
          <p:nvPr/>
        </p:nvPicPr>
        <p:blipFill>
          <a:blip r:embed="rId2"/>
          <a:srcRect l="10404" t="0" r="0" b="19251"/>
          <a:stretch/>
        </p:blipFill>
        <p:spPr>
          <a:xfrm>
            <a:off x="-189000" y="2781360"/>
            <a:ext cx="6201000" cy="4152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d8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pic>
        <p:nvPicPr>
          <p:cNvPr id="53" name="Picture 14" descr="logo 4"/>
          <p:cNvPicPr/>
          <p:nvPr/>
        </p:nvPicPr>
        <p:blipFill>
          <a:blip r:embed="rId3"/>
          <a:stretch/>
        </p:blipFill>
        <p:spPr>
          <a:xfrm>
            <a:off x="324000" y="233280"/>
            <a:ext cx="2016000" cy="963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a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3" descr="logo section 7 72dpi"/>
          <p:cNvPicPr/>
          <p:nvPr/>
        </p:nvPicPr>
        <p:blipFill>
          <a:blip r:embed="rId2"/>
          <a:srcRect l="10904" t="43076" r="0" b="23496"/>
          <a:stretch/>
        </p:blipFill>
        <p:spPr>
          <a:xfrm>
            <a:off x="1477800" y="-27000"/>
            <a:ext cx="7666200" cy="1001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332000" y="-1440"/>
            <a:ext cx="7812000" cy="9093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4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5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6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684360" y="909720"/>
            <a:ext cx="845964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pic>
        <p:nvPicPr>
          <p:cNvPr id="100" name="Picture 8" descr="marque UNIT rvb 6cm"/>
          <p:cNvPicPr/>
          <p:nvPr/>
        </p:nvPicPr>
        <p:blipFill>
          <a:blip r:embed="rId3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0" y="83664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a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20574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5a1"/>
                </a:solidFill>
                <a:latin typeface="Verdana"/>
              </a:rPr>
              <a:t>Pédagogie induite par les TICE</a:t>
            </a:r>
            <a:br>
              <a:rPr sz="3200"/>
            </a:br>
            <a:br>
              <a:rPr sz="3200"/>
            </a:br>
            <a:r>
              <a:rPr b="1" i="1" lang="fr-FR" sz="2400" spc="-1" strike="noStrike">
                <a:solidFill>
                  <a:srgbClr val="0055a1"/>
                </a:solidFill>
                <a:latin typeface="Verdana"/>
              </a:rPr>
              <a:t>Yolaine Bourda &amp; Marie-Christine Monget</a:t>
            </a:r>
            <a:endParaRPr b="1" lang="en-US" sz="24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5768280" y="541008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Printemps UNIT 2009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5a1"/>
                </a:solidFill>
                <a:latin typeface="Verdana"/>
              </a:rPr>
              <a:t>Présentations</a:t>
            </a: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21337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5a1"/>
                </a:solidFill>
                <a:latin typeface="Verdana"/>
              </a:rPr>
              <a:t>Véronique Misery « Master VS2i 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5a1"/>
                </a:solidFill>
                <a:latin typeface="Verdana"/>
              </a:rPr>
              <a:t>Renaud Gicquel «Thermoptim 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5a1"/>
                </a:solidFill>
                <a:latin typeface="Verdana"/>
              </a:rPr>
              <a:t>Cédric Dumas « Composants pédagogiques pour l’interaction homme-machine 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5a1"/>
                </a:solidFill>
                <a:latin typeface="Verdana"/>
              </a:rPr>
              <a:t>Mathieu Vermeulen « Evolution Personnelle et Insertion Professionnelle 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5a1"/>
                </a:solidFill>
                <a:latin typeface="Verdana"/>
              </a:rPr>
              <a:t>Présentations (suite)</a:t>
            </a:r>
            <a:endParaRPr b="1" lang="en-US" sz="3200" spc="-1" strike="noStrike">
              <a:solidFill>
                <a:srgbClr val="0055a1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21337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Stéphane Andrieu « Physique Quantique : de la base aux nouvelles technologies » (en VISIO avec SOLEIL)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Georges Cailletaud « Modélisation numérique en mécanique 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Konrad Szafnicki « Retour d'expérience du projet Multi-CFSTR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55a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5a1"/>
                </a:solidFill>
                <a:latin typeface="Verdana"/>
              </a:rPr>
              <a:t>Nicolas Coltice « Nouvelles approches pédagogiques à Lyon 1 »</a:t>
            </a:r>
            <a:endParaRPr b="0" lang="en-US" sz="2400" spc="-1" strike="noStrike">
              <a:solidFill>
                <a:srgbClr val="0055a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6:51:24Z</dcterms:created>
  <dc:creator>Brooke Lhernould</dc:creator>
  <dc:description/>
  <dc:language>en-US</dc:language>
  <cp:lastModifiedBy>Yolaine Bourda</cp:lastModifiedBy>
  <dcterms:modified xsi:type="dcterms:W3CDTF">2009-05-13T07:04:38Z</dcterms:modified>
  <cp:revision>77</cp:revision>
  <dc:subject/>
  <dc:title>Diapositive 1</dc:title>
</cp:coreProperties>
</file>