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126D-8E2A-41F1-8564-680B3350B0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88F0-CB80-4EA7-A531-DD5C292974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99D5-68D3-4C28-9214-FD01D3B009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0621-38E8-45AE-9D5F-A1A5526565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0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4AD3-ABF4-4DF6-BCE1-4B64971988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1541-A1EA-432D-B4A7-59CC8FAF69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62E-AC11-4AB9-AF5B-B9BE332282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B99C-774A-4B77-AF93-AACF6967D6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61 D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795F-B95D-4998-82FA-1D4A8594C4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E2F6-1063-4837-AB3C-9477DB6E01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61 D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FDD7-7BAD-473A-8BEF-3FEBD3ABBD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0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9B5-8085-4E40-84B4-697A4051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A3D-0A0E-44A1-ABAD-06933392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A3A-1DBF-4B23-84CE-D557FEF6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3B5-9552-4ADD-8F02-81B8F7AA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56E-23AA-4EAD-8652-873C994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E0B-269A-42F2-827D-3BBA535C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F58-1B6F-4D19-9A2B-169C40EF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F50-A187-4AA5-B49F-6A9E09A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A03-E5CA-4058-AE40-C5170BF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1D9-0DE3-47F6-BCF5-56F2A956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0A9-B4D3-4C3C-A1EB-2D69F7C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B10-B446-452D-A4E5-805F7DB3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Sciences et Technologies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32C7-3F28-4DE3-91C1-05EAA1BA783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3"/>
          <p:cNvSpPr/>
          <p:nvPr/>
        </p:nvSpPr>
        <p:spPr>
          <a:xfrm>
            <a:off x="-19080" y="5540400"/>
            <a:ext cx="4054680" cy="1343160"/>
          </a:xfrm>
          <a:prstGeom prst="pie">
            <a:avLst/>
          </a:prstGeom>
          <a:solidFill>
            <a:srgbClr val="899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"/>
          <p:cNvSpPr/>
          <p:nvPr/>
        </p:nvSpPr>
        <p:spPr>
          <a:xfrm rot="10800000">
            <a:off x="4429080" y="-14400"/>
            <a:ext cx="4743360" cy="358632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4"/>
          <p:cNvSpPr/>
          <p:nvPr/>
        </p:nvSpPr>
        <p:spPr>
          <a:xfrm rot="10800000">
            <a:off x="5103360" y="-360"/>
            <a:ext cx="4054680" cy="134316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7aa0cd"/>
              </a:gs>
            </a:gsLst>
            <a:lin ang="12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9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9097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543800" y="5450040"/>
            <a:ext cx="1447920" cy="12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hermoptim.org/sections/enseignement/pedagogie/portail-thermoptim-unit" TargetMode="External"/><Relationship Id="rId2" Type="http://schemas.openxmlformats.org/officeDocument/2006/relationships/hyperlink" Target="http://www.thermoptim.org/sections/enseignement/pedagogie/portail-thermoptim-unit" TargetMode="External"/><Relationship Id="rId3" Type="http://schemas.openxmlformats.org/officeDocument/2006/relationships/hyperlink" Target="http://www.thermoptim.org/sections/enseignement/pedagogie/portail-thermoptim-unit" TargetMode="External"/><Relationship Id="rId4" Type="http://schemas.openxmlformats.org/officeDocument/2006/relationships/hyperlink" Target="http://www.thermoptim.org/sections/enseignement/pedagogie/references-sur-pedagogie" TargetMode="External"/><Relationship Id="rId5" Type="http://schemas.openxmlformats.org/officeDocument/2006/relationships/hyperlink" Target="http://www.thermoptim.org/sections/enseignement/pedagogie/references-sur-pedagogi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édagogies mises en œuvre dans le projet THERMOPTIM-UNIT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41911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. GICQ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INES ParisT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Calibri"/>
              </a:rPr>
              <a:t>Approche constructiviste (1/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'apprenant construit une réalit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ou du moins l'interprète sur la base de ses perce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'apprentissage demande ainsi de relier les nouvelles informations aux connaissances antérieures afin d'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ffine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structures cognitives existantes (schè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Calibri"/>
              </a:rPr>
              <a:t>Approche constructiviste (2/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'apprentissage le plus performant, celui qui a le plus de sens et est donc le plus efficace, est basé sur d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tudes de ca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t fait appel à d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âches représentatives du monde ré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contextes d'étude les plus efficac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nt basés sur des problèmes ou des études de cas qui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ettent l'étudiant en sit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igent de lui qu'il acquière des compétences ou des connaissances afin d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udre des problèmes concr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Calibri"/>
              </a:rPr>
              <a:t>Approche constructiviste (3/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aractéristiques de l'apprentissage cognitif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rticula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rendre explicite la connaissance taci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plora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pprendre comment former et tester des hypothès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flexion métacognitiv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ermet aux apprenants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eux contrôler leur apprenti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velopper la réflexion pendant l'action ainsi que sur l'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Calibri"/>
              </a:rPr>
              <a:t>Approche constructiviste (4/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étudiants à un niveau avancé d'acquisition des connaissances doivent être exposés à d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vironnements d'étude ouvert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qui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flètent la complexité du monde ré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vironnements NTE (TICE)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sont bien adaptés pour cela car ils peuvent représenter le monde aux étudiants dans sa complexité naturelle (pas de simplificat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édagogiqu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outranciè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Calibri"/>
              </a:rPr>
              <a:t>Approche constructiviste (5/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environnements d'apprentissage devraient favorise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nstruction collaborativ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n impliquant à la fois professeurs et étud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étudiants peuvent beaucoup apprendre 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'observation d'autres étudiant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qui éprouvent et résolvent des difficultés analog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Calibri"/>
              </a:rPr>
              <a:t>Mise en œuvre pratique (1/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ôle fondamental d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chèm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introduction des concepts, structuration du progiciel, conception du porta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uci constant 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imiter les surcharges cognitiv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lobalement en supprimant les équations inutiles (conte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pécifiquement, lors de la définition des séances de co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ns la conception des écrans de Thermopt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se à disposition des apprenants et des enseignants de nombreuses ressources sous forme d’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emples commenté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séances Diapason, fiches-guides, guides méthodologiques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Calibri"/>
              </a:rPr>
              <a:t>Mise en œuvre pratique (2/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ire en sort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que l’apprenant soit le plus actif possib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contrôle de l’avancement des séances Diapason,  nombreux TD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uci constant 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raiter des cas réalist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emples industriels pour les études de cas, TD, projet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lustrations des supports de cours et séances Diapa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ultiplier les explications données aux apprenants sur les différentes étapes de leur progression 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acog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Calibri"/>
              </a:rPr>
              <a:t>Mise en œuvre pratique (3/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uider l’apprenant dans son interaction avec la complexité du domaine disciplinaire et applicatif, le portail servant pour cela d’outil de navigation structuré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mis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 situ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ultiplier les occasions de travaux entre élèves lors de la définition pratique des activités proposées 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nstruction collaborativ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Liens complémentai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22093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ésentation pd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://www.thermoptim.org/sections/enseignement/pedagogie/portail-thermoptim-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éférences pédagog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http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://www.thermoptim.org/sections/enseignement/pedagogie/references-sur-pedago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51920" y="1904760"/>
            <a:ext cx="84582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imulateur Thermoptim (spécifiq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éances de formation à distance sonorisées Diapason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génériqu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util de déploiement : portail Thermoptim-UNIT (www.thermoptim.or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alibri"/>
              </a:rPr>
              <a:t>Renouvellement de l'enseign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alibri"/>
              </a:rPr>
              <a:t>basé sur 3 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Calibri"/>
              </a:rPr>
              <a:t>expérience personne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7627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90 : début enseignement systèmes énergé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bjectifs : maîtrise d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ases théoriqu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réalisations / contrainte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echnologi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conception / dimensionnement 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ycles innov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ères difficulté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hypothèse gaz parfaits, calculs combu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lu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nombreux utilitaires Excel (pas vraiment satisfaisa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allèlement, besoin utilitaire calculs propriétés fluides pour calculs intégration thermique 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éthode pincemen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97 premier outil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ermoCalc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devenu ensuite (99)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ermoptim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4737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URBINE A G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3581280" cy="2063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4" name="Rectangle 4"/>
          <p:cNvSpPr/>
          <p:nvPr/>
        </p:nvSpPr>
        <p:spPr>
          <a:xfrm>
            <a:off x="341460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1765440" cy="2133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Line 7"/>
          <p:cNvSpPr/>
          <p:nvPr/>
        </p:nvSpPr>
        <p:spPr>
          <a:xfrm>
            <a:off x="457200" y="914400"/>
            <a:ext cx="152388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533520" y="990720"/>
            <a:ext cx="137160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7848720" cy="325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5943600" y="1981080"/>
            <a:ext cx="2971800" cy="1920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Line 13"/>
          <p:cNvSpPr/>
          <p:nvPr/>
        </p:nvSpPr>
        <p:spPr>
          <a:xfrm flipV="1">
            <a:off x="2514600" y="2437920"/>
            <a:ext cx="457200" cy="3505320"/>
          </a:xfrm>
          <a:prstGeom prst="line">
            <a:avLst/>
          </a:prstGeom>
          <a:ln w="255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4"/>
          <p:cNvSpPr/>
          <p:nvPr/>
        </p:nvSpPr>
        <p:spPr>
          <a:xfrm flipH="1" flipV="1">
            <a:off x="4800600" y="2514240"/>
            <a:ext cx="990720" cy="3429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 flipV="1">
            <a:off x="4114800" y="2057040"/>
            <a:ext cx="0" cy="3886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6095880" y="2286000"/>
            <a:ext cx="259092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 flipH="1">
            <a:off x="6172200" y="1981080"/>
            <a:ext cx="2286000" cy="175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5"/>
          <a:stretch/>
        </p:blipFill>
        <p:spPr>
          <a:xfrm>
            <a:off x="6791400" y="0"/>
            <a:ext cx="2352600" cy="2130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ntérêt pédagogique de Therm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ide les élèves à structurer leurs schè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met une approche visuelle très féco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harge les élèves des difficultés calculatoires sans nécessiter des simplifications outranciè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ut traiter des cas réels : simulateur professionnel doublé d’un didactici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d les élèves opérationnels (fondamental pour leur motivat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56433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odules en ligne Diap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1280" y="990360"/>
            <a:ext cx="762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odules structurés en étapes, séances, parcours et cur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ésentations théoriques, méthodologiques et technologiqu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64772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20120" cy="470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xcellente efficacité pédagogiq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548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lèves plus actifs qu'en salle de cou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hoisissent eux-mêmes les moments où ils étud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euvent travailler à leur rythme, seuls ou en grou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t accès à tout moment aux explications orales de l'enseign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128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ortail </a:t>
            </a:r>
            <a:r>
              <a:rPr b="1" lang="fr-FR" sz="3200" spc="-1" strike="noStrike">
                <a:solidFill>
                  <a:srgbClr val="0000cc"/>
                </a:solidFill>
                <a:latin typeface="Calibri"/>
              </a:rPr>
              <a:t>www.thermoptim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Sciences et Technologies 2008, 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153640" cy="593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ssources du por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48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éances Diapason (Diaporamas Pédagogiques Animés et Sonorisé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iches-guides de T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iches thématiques synthé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uides méthodologiq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délothè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otes relatives à la pédagogie de la thermo-dyna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s écri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Calibri"/>
              </a:rPr>
              <a:t>expérience personne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7627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001 : excellent bilan utilisation du simulateur, début diffusion (&gt; 10)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placement de la problématique pédagogiqu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odification du contenu à enseigne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avec suppression des équations des propriétés des fluide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 plus en plus de temps consacré à l ’enseignement de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éalité technologiqu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conception, fonctionnement des systè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002 – 2004 : réflexions pédagogiques pour comprendre le succès de Thermoptim auprès des élè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conception pédagogique plus profonde de l’enseignement de la thermodynamique : démarch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’ingénierie pédagog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51920" y="1904760"/>
            <a:ext cx="84582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imulateur Thermoptim (spécifiq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éances de formation à distance sonorisées Diapason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génériqu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util de déploiement : portail Thermoptim-UNIT (www.thermoptim.or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alibri"/>
              </a:rPr>
              <a:t>Renouvellement de l'enseignement de la thermodynamique appliqué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Calibri"/>
              </a:rPr>
              <a:t>basé sur 3 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Calibri"/>
              </a:rPr>
              <a:t>ingénierie pédagog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iangle didact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 composantes principal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édagogies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cquisition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manière dont l'élève apprend et compren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édagogies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elation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centrées sur le couple enseignant-élèv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édagogies du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tenu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manière dont l'enseignant définit ce qu'il enseig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032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952880" cy="254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Calibri"/>
              </a:rPr>
              <a:t>ingénierie pédagog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’après le Wikipédia, ell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rouve tout son intérêt lorsqu'il y a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estion d'un projet de formation sur et entre les 3 entités du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triangle d'apprentissage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, celle du formé-apprenant, celle des savoirs, celle du formateur-facilitat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gestion du schéma des 3 unités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[théâtrales]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temps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 (formation synchrone / asynchron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lieu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 (formation en présentiel (face-à-face) / à distance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 (formation individualisée / collectiv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gestion des dispositions à l'acte d'apprendre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(utilisation des technologies, formation informelle, accompagnement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fr.wikipedia.org/wiki/Ingénierie_pédagogique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Calibri"/>
              </a:rPr>
              <a:t>ingénierie pédagog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incipaux élémen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’approche Thermoptim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éorie de la charge cognitive et approche constructiviste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lèvent de la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pédagogie des acquis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odèle RTM(E),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Réalité, Théorie, Méthodes (et Exemples), qui relève de la pédagogie des conten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veloppement des modules de FAD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iapason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à l’intersection des 3 dimensions du triangle didact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Calibri"/>
              </a:rPr>
              <a:t>Théorie de la charge </a:t>
            </a:r>
            <a:br>
              <a:rPr sz="4400"/>
            </a:br>
            <a:r>
              <a:rPr b="1" lang="fr-FR" sz="4400" spc="-1" strike="noStrike">
                <a:solidFill>
                  <a:srgbClr val="0033cc"/>
                </a:solidFill>
                <a:latin typeface="Calibri"/>
              </a:rPr>
              <a:t>cognitive (Sweller)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s humaines d’apprentissage réduites car mémoire de travail à court terme très limité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s ne pouvon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traiter simultanément que peu d’éléments (6-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s devons leur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onner un sens dans un temps très br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ux mécanismes permettent de contourner cette difficulté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’acquisition des schèm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: construction de modèles mentaux explicatifs appropriés, afin de décomposer l’information en éléments significatifs mémoris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fois les schèmes bien structurés,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’automatisation des tâch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résulte de la pratique et permet de retenir les méthodes de travail appropri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Calibri"/>
              </a:rPr>
              <a:t>Théorie de la charge </a:t>
            </a:r>
            <a:br>
              <a:rPr sz="4400"/>
            </a:br>
            <a:r>
              <a:rPr b="1" lang="fr-FR" sz="4400" spc="-1" strike="noStrike">
                <a:solidFill>
                  <a:srgbClr val="0033cc"/>
                </a:solidFill>
                <a:latin typeface="Calibri"/>
              </a:rPr>
              <a:t>cognitive (Sweller)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 qui distingue un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per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ce n'est pas tant ses capacités intellectuelles supérieures que la richesse d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chèm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qu'il util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l y a risque 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urcharge cognitiv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si trop d’informations disparates doivent être simultanément prises en compte par l’esprit. Il faut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implifier autant que possible le contenu des matériaux éducatifs utilis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ci constant lorsque l'on développe des ressources pédagogiques numériques : éviter de présenter séparément des éléments qui ne peuvent être compris qu’ensemble (mécanisme dit de "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plit attent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"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emples commenté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jouent un rôle essentiel dans l'apprenti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8:41:34Z</dcterms:created>
  <dc:creator>R. Gicquel</dc:creator>
  <dc:description/>
  <dc:language>en-US</dc:language>
  <cp:lastModifiedBy>gicquel</cp:lastModifiedBy>
  <cp:lastPrinted>2003-02-05T11:17:40Z</cp:lastPrinted>
  <dcterms:modified xsi:type="dcterms:W3CDTF">2009-05-13T05:20:41Z</dcterms:modified>
  <cp:revision>228</cp:revision>
  <dc:subject/>
  <dc:title>Thermoptim et la GEV</dc:title>
</cp:coreProperties>
</file>