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8972-CC41-48F9-BEC3-0A6947B6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E31-8441-4795-871B-DC021D28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42A-680E-46DF-A228-B5CCEA3E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186-92E9-44DF-B818-38043FC7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17A6-E31B-4980-8771-C0B227D3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FA2C-4F46-4D08-AB8C-96F89ED9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742D-A3F1-45C1-B037-29522DAD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76DE-0A3D-4D5B-B8F0-28A3A9DB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54AC-F9EB-445E-81CF-3C8BA4E7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F32B-BD59-4356-8927-BB4B6725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1FC1-DE79-4AED-817E-37223592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F63-DDE1-4A45-BD52-F5CDE23E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D9FC-BDF3-4499-911D-868DBDF6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062F-4146-43C2-B08B-4A081AF4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D743-0C67-4BAE-AE74-87AA8C36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327C-DC33-4B94-85CF-E1B6970D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1E47-6B95-4FFB-BA33-B40B6B1C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052-15F6-43FA-B43F-20DC21A3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CD7-D706-4C1D-85E4-3573597F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C60-F058-4E9E-A818-FB6CBB79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5A4-18AD-4B10-A109-65FD6FC4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491-1C14-4A5A-884E-2ACEF5E4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8092-B125-4091-91DC-3FE2159D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EA1-141D-4C9D-97B7-162720BB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553080"/>
            <a:ext cx="28954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i="1" lang="fr-FR" sz="1400" spc="-1" strike="noStrike">
                <a:solidFill>
                  <a:srgbClr val="ffffff"/>
                </a:solidFill>
                <a:latin typeface="Times New Roman"/>
              </a:rPr>
              <a:t>Printemps d’UNIT – mai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65AA-DC32-493A-8C40-B67B13C41B87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2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12720" y="6588000"/>
            <a:ext cx="289548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23888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CA19-0A7B-4D00-9A38-A2BE52DF3C80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3240" y="2274840"/>
            <a:ext cx="7086600" cy="1811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hysique Quantique :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e la base aux nouvelles technologi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503360" y="4351320"/>
            <a:ext cx="6400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S. Andrieu, Ph. Andilla, A. Fro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logo_nu_uhp" descr=""/>
          <p:cNvPicPr/>
          <p:nvPr/>
        </p:nvPicPr>
        <p:blipFill>
          <a:blip r:embed="rId1"/>
          <a:stretch/>
        </p:blipFill>
        <p:spPr>
          <a:xfrm>
            <a:off x="3098880" y="5248440"/>
            <a:ext cx="339084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Tahoma"/>
              </a:rPr>
              <a:t>Evaluation Exerci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2095200"/>
            <a:ext cx="778356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ercices 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ests de compréhension (sans calcu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faire des démonstrations du c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xercices de réflexion (T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59120" y="3548160"/>
            <a:ext cx="5897520" cy="292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20F-5139-4A06-B6E0-A7B6D0ED87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Concl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99920" y="2373120"/>
            <a:ext cx="789588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Pb rencontrés : scenari : équations ! Il faut faire qq chose ! Mise en forme parfois austère, sans choix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Ce cours sera testé en 1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</a:rPr>
              <a:t>èr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année de l’école des Mines de Nancy en octobre proch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Evaluation par les élèves (ce qu’ils en pensent, comment se sont-ils impliqué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47F-4671-46FC-9F73-EAB42B9316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sommai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44480" y="2444760"/>
            <a:ext cx="616608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Rappel du proj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onception glob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ontenu de b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utour du contenu de b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valuation, exerc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2F7-53FE-434F-97AB-F195FAF714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Rappel du proje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52280"/>
            <a:ext cx="775512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66"/>
                </a:solidFill>
                <a:uFillTx/>
                <a:latin typeface="Times New Roman"/>
              </a:rPr>
              <a:t>Apprentissage de la physique quant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xpériences fondatr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ualité onde-corpuscu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ouvelle théorie : éq. Schrödinger, méca ondulato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héorie + aboutie : approche matricie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écouverte du spin, apport de la nouvelle théor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Projets en 2 parties</a:t>
            </a: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iveau L2 : mécanique ondulato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iveau L3 : la nouvelle physique quant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071720" y="5713560"/>
            <a:ext cx="77547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</a:rPr>
              <a:t>ère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partie finalisée en juillet pro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</a:rPr>
              <a:t>ème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partie en cours de réal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9926-9724-4DBE-848F-A891634885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Conception globa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209556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Proposer un « vrai » c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cénari s’y prête bien : le cours est le po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Ne pas tout mélan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tructurer pour un meilleur apprentissage : bien séparer le contenu à acquérir des commentaires (démonstrations, objectifs, pédagogie,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Susciter un intérê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pproche histor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pplication dans les laborato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pplication dans l’industr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D90-BCD4-476F-A695-2D92EF2F9A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Contenu de ba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3120" y="2001600"/>
            <a:ext cx="802476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00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ésentation comme poly – plan joint – objectifs bien sépar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38408"/>
          <a:stretch/>
        </p:blipFill>
        <p:spPr>
          <a:xfrm>
            <a:off x="1104840" y="2616120"/>
            <a:ext cx="7861320" cy="3508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73000" y="2689200"/>
            <a:ext cx="2178000" cy="2325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8EBE-0308-4E9A-B143-F2E4155D40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Contenu de ba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33120" y="2001600"/>
            <a:ext cx="802476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00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imation Flash pour aider à la compréhen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4760" y="2550960"/>
            <a:ext cx="6780240" cy="408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212-99BD-4055-8673-8CC0212A85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Autour du contenu : historiqu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2095200"/>
            <a:ext cx="7783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lacer dans son contexte pour mieux comprendre le cheminement intellectuelle, notamment m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0" r="0" b="45600"/>
          <a:stretch/>
        </p:blipFill>
        <p:spPr>
          <a:xfrm>
            <a:off x="1351080" y="2995560"/>
            <a:ext cx="7351560" cy="2387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54080" y="5511960"/>
            <a:ext cx="77835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hoto et biographie de grands scientif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écapitulatifs des découvertes (tableau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A91-A936-4F7D-B06C-BB9E0AE931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Autour du contenu : applications dans les lab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2095200"/>
            <a:ext cx="77835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ieux connaître ce qui se passe dans les labo autour des écoles / universités : susciter un intérêt. Fil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44760" y="2982960"/>
            <a:ext cx="6913440" cy="330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AB3-8729-4265-86D1-3C30AF8BE5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Autour du contenu : applications industriel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2023560"/>
            <a:ext cx="7783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 quoi ça sert ? Beaucoup de technologies, parfois très proches des étudiants (multimédia). Fil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27360" y="2930400"/>
            <a:ext cx="6026040" cy="353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0C6-6796-45EE-81D1-B6F59C8A91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3:33:40Z</dcterms:created>
  <dc:creator>LPM</dc:creator>
  <dc:description/>
  <dc:language>en-US</dc:language>
  <cp:lastModifiedBy>LPM</cp:lastModifiedBy>
  <dcterms:modified xsi:type="dcterms:W3CDTF">2009-05-11T11:14:37Z</dcterms:modified>
  <cp:revision>20</cp:revision>
  <dc:subject/>
  <dc:title>Physique Quantique : de la base aux nouvelles technologies</dc:title>
</cp:coreProperties>
</file>