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1DF-28D9-4221-8BA6-2952C199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B05-3F6D-42F1-9EC4-AB6D250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A30-6533-4445-BA46-454FF882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04F-CC69-41BF-AF1B-7404F4A2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37D-E407-40DA-8971-11A648A4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909-2504-4EA3-873E-45218B3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3B0-0392-4266-96DD-0EDA5990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320-498A-4E69-A37F-C790D940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39E-301A-434D-AFB6-2B4808B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31C-F406-47BE-8449-9274E78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2ED-3C7F-429E-901E-855ADFD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6C9-5E3E-407B-A41E-BF1CE07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9010-3427-4FAF-A339-8D52136AD3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rite.emn.fr/IHM/IHM/index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UNIT IHM</a:t>
            </a:r>
            <a:br>
              <a:rPr sz="4000"/>
            </a:br>
            <a:br>
              <a:rPr sz="4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osants pédagogiques pour l’enseignement de l’interaction homme machine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006-2008</a:t>
            </a:r>
            <a:br>
              <a:rPr sz="2000"/>
            </a:br>
            <a:br>
              <a:rPr sz="2000"/>
            </a:br>
            <a:r>
              <a:rPr b="0" lang="fr-FR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crite.emn.fr/IHM/IHM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14324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Cedric.Dumas@emn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Ecole des Mines de N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Univ. Rennes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EN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Univ. Lill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bri"/>
              </a:rPr>
              <a:t>Univ. Toulou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tour des étudi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 simple, lud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 pas de mal à aller au 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 critiques sur l’IHM des compo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(phase 1) problèmes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(phase 2) formulation de certaines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(phase 3) filtrer le vocabulaire incon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(phase 4) distinguer historique et théo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duites par le 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onstration en cours (option M2 - 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o-formation située au bon moment (L3 - 1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form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o-formation (M1 - 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o-formation (L2 - 1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retour atten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telier enseignement IHM’09 (2005-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approches pédagogiques du projet UNIT I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À la base du proj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dalités d’enseignement de l’IH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Besoins –&gt; Objectifs du proj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mpact sur la définition du proj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tructure type des compos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nduites par le projet (2008/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monstration en cours (M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to-formation située (L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to-formation évaluée (M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tour IHM’0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odalités d’enseignement de l’I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a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érimentation (technolog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bservation (us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onstrations -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NIT I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truire un programme pédagogique pour démarrer un nouvel enseignement en I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éer des composants pédagogiques sur les concepts c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nipulation direc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ractérisation de l’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tilisabil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difficultés de la perception visu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techniques d’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ttps://crite.emn.fr/IHM/IHM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20034" t="21662" r="14559" b="2923"/>
          <a:stretch/>
        </p:blipFill>
        <p:spPr>
          <a:xfrm>
            <a:off x="1285920" y="0"/>
            <a:ext cx="65721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ruction pédag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iés au beso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tilisation par les élèves (autoporte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tilisation en cours (démonstrat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dulable en fonction du niveau (séquenc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enir compte de la relation support-su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Interactivité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Ergonomi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er des composants graphiques interactifs (technolog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tructuration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dularité (démonstratif / séquenc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tructure logique et cohérente (autoporte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’utilisation pour l’enseignant [novic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ucture d’un compo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1 : Mise en situation / Découvr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2 : Pratiquer / exerc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3 : Analyser-Comparer / auto-é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4 : Expliquer / récapitulatif / théo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cenario possib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2"/>
          <p:cNvGrpSpPr/>
          <p:nvPr/>
        </p:nvGrpSpPr>
        <p:grpSpPr>
          <a:xfrm>
            <a:off x="2928960" y="5000760"/>
            <a:ext cx="3314160" cy="1530000"/>
            <a:chOff x="2928960" y="5000760"/>
            <a:chExt cx="3314160" cy="1530000"/>
          </a:xfrm>
        </p:grpSpPr>
        <p:sp>
          <p:nvSpPr>
            <p:cNvPr id="57" name="AutoShape 3"/>
            <p:cNvSpPr/>
            <p:nvPr/>
          </p:nvSpPr>
          <p:spPr>
            <a:xfrm>
              <a:off x="4221360" y="5000760"/>
              <a:ext cx="747000" cy="298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Phase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4"/>
            <p:cNvSpPr/>
            <p:nvPr/>
          </p:nvSpPr>
          <p:spPr>
            <a:xfrm>
              <a:off x="5496120" y="5608440"/>
              <a:ext cx="747000" cy="298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Phase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4263120" y="6232680"/>
              <a:ext cx="747000" cy="298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Phase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928960" y="5619600"/>
              <a:ext cx="747000" cy="298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Phase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7"/>
            <p:cNvCxnSpPr>
              <a:stCxn id="60" idx="0"/>
              <a:endCxn id="57" idx="1"/>
            </p:cNvCxnSpPr>
            <p:nvPr/>
          </p:nvCxnSpPr>
          <p:spPr>
            <a:xfrm flipH="1" flipV="1" rot="5400000">
              <a:off x="3526560" y="4924440"/>
              <a:ext cx="470160" cy="919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8"/>
            <p:cNvCxnSpPr>
              <a:stCxn id="57" idx="3"/>
              <a:endCxn id="58" idx="0"/>
            </p:cNvCxnSpPr>
            <p:nvPr/>
          </p:nvCxnSpPr>
          <p:spPr>
            <a:xfrm>
              <a:off x="4968360" y="5149440"/>
              <a:ext cx="901800" cy="459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9"/>
            <p:cNvCxnSpPr>
              <a:stCxn id="58" idx="2"/>
              <a:endCxn id="59" idx="3"/>
            </p:cNvCxnSpPr>
            <p:nvPr/>
          </p:nvCxnSpPr>
          <p:spPr>
            <a:xfrm rot="5400000">
              <a:off x="5202000" y="5714280"/>
              <a:ext cx="475560" cy="860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"/>
            <p:cNvCxnSpPr>
              <a:stCxn id="59" idx="1"/>
              <a:endCxn id="60" idx="2"/>
            </p:cNvCxnSpPr>
            <p:nvPr/>
          </p:nvCxnSpPr>
          <p:spPr>
            <a:xfrm rot="10800000">
              <a:off x="3301560" y="5916960"/>
              <a:ext cx="961200" cy="464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xemple pour le composant 1 : Manipulation Direc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840" y="1600200"/>
            <a:ext cx="8643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hase 1 : Mise en situation / Exercice  d’auto évalu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Question : Parmi ces interactions qu’elles sont celles qu’on qualifie de « manipulation directe »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’est une séquence de vidéos démontrant plusieurs situation d’interaction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hase 2 : Pratiqu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 l’occasion de la pratique l’étudiant découvre par lui même la manipulation directe et l’interaction direc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Il construit son savoir,  il peut aussi à ce stade émettre des hypothèses sur les différents critères de la manipulation directe. Il a sa propre opinion sur le concept de la manipulation direc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hase 3 : Mise en situation / Exercice  d’auto évalu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’étudiant connaît la manipulation directe, il devrait alors pouvoir énumérer ses principaux  critères par rapport à un autre niveau d’interaction directe  . Cette phase peut aussi bien être exploitable en introduction comme en cours d’apprentissage comme exercice d’auto évalu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hase 4 : Théor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’approche la plus classique serait de commencer  par cette phase. Il s’agit de définir  l’interaction directe , puis la manipulation directe , présenter des exemples et d’énumérer les critères principaux critères de la manipulation directe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tour Evaluation Pédag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1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– approche questionnaire dérou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2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+ intérêt des questions-réponses et tests basés sur des illustrations interactiv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– pédagogie class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édric Dumas</cp:lastModifiedBy>
  <dcterms:modified xsi:type="dcterms:W3CDTF">2009-05-13T07:16:23Z</dcterms:modified>
  <cp:revision>10</cp:revision>
  <dc:subject/>
  <dc:title>UNIT IHM composants pédagogiques pour l’enseignement de l’interaction homme machine 2006-2008</dc:title>
</cp:coreProperties>
</file>